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600-B30A-43C0-9AAB-F014AFDF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28C-B4B2-4228-A6BD-18ECD943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07D-F6D8-423D-A104-67286546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586-B08A-4A8A-B71F-C50EB803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DE1-8B23-4024-9222-321718BB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501-AD61-4820-B34D-68F90497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84E1-5E04-4BBA-8B05-2E9BD578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DD9-50F6-4D27-BCEC-AE396AAC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F61-21B4-4D33-AAC9-7D7E225F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266-B58F-468D-9026-8D2A8458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A3F-EF29-44C5-8F1F-BBAD6003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55B-CB6F-4189-AFD1-DE71182D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F178-5611-4C82-BF80-DD2FA9E1A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Times New Roman"/>
              </a:rPr>
              <a:t>Opener:</a:t>
            </a:r>
            <a:r>
              <a:rPr b="1" lang="en-US" sz="2600" spc="-1" strike="noStrike">
                <a:solidFill>
                  <a:srgbClr val="3399ff"/>
                </a:solidFill>
                <a:latin typeface="Times New Roman"/>
              </a:rPr>
              <a:t>  Solve the following expressions using the order of oper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1.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 x 8 + 3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2.)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4 x 7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3.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 + 4 – 7 x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4.)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+ 9 x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88080" y="2178000"/>
            <a:ext cx="723960" cy="528840"/>
          </a:xfrm>
          <a:custGeom>
            <a:avLst/>
            <a:gdLst/>
            <a:ahLst/>
            <a:rect l="l" t="t" r="r" b="b"/>
            <a:pathLst>
              <a:path w="2010" h="1465">
                <a:moveTo>
                  <a:pt x="18976" y="6474"/>
                </a:moveTo>
                <a:cubicBezTo>
                  <a:pt x="19030" y="6680"/>
                  <a:pt x="19088" y="6880"/>
                  <a:pt x="19100" y="7094"/>
                </a:cubicBezTo>
                <a:cubicBezTo>
                  <a:pt x="19100" y="7102"/>
                  <a:pt x="19100" y="7111"/>
                  <a:pt x="19100" y="7119"/>
                </a:cubicBezTo>
              </a:path>
              <a:path w="2010" h="1465">
                <a:moveTo>
                  <a:pt x="19596" y="6400"/>
                </a:moveTo>
                <a:cubicBezTo>
                  <a:pt x="19617" y="6624"/>
                  <a:pt x="19621" y="6843"/>
                  <a:pt x="19621" y="7069"/>
                </a:cubicBezTo>
                <a:cubicBezTo>
                  <a:pt x="19621" y="7077"/>
                  <a:pt x="19621" y="7086"/>
                  <a:pt x="19621" y="7094"/>
                </a:cubicBezTo>
              </a:path>
              <a:path w="2010" h="1465">
                <a:moveTo>
                  <a:pt x="18604" y="7218"/>
                </a:moveTo>
                <a:cubicBezTo>
                  <a:pt x="18874" y="7443"/>
                  <a:pt x="19188" y="7450"/>
                  <a:pt x="19546" y="7441"/>
                </a:cubicBezTo>
                <a:cubicBezTo>
                  <a:pt x="19902" y="7432"/>
                  <a:pt x="20552" y="7250"/>
                  <a:pt x="20588" y="6796"/>
                </a:cubicBezTo>
                <a:cubicBezTo>
                  <a:pt x="20623" y="6344"/>
                  <a:pt x="20090" y="6138"/>
                  <a:pt x="19745" y="6077"/>
                </a:cubicBezTo>
                <a:cubicBezTo>
                  <a:pt x="19274" y="5994"/>
                  <a:pt x="18867" y="6036"/>
                  <a:pt x="18678" y="6499"/>
                </a:cubicBezTo>
                <a:cubicBezTo>
                  <a:pt x="18471" y="7007"/>
                  <a:pt x="18579" y="7233"/>
                  <a:pt x="19000" y="7466"/>
                </a:cubicBezTo>
              </a:path>
              <a:path w="2010" h="1465">
                <a:moveTo>
                  <a:pt x="19000" y="7441"/>
                </a:moveTo>
                <a:cubicBezTo>
                  <a:pt x="19028" y="7496"/>
                  <a:pt x="19060" y="7491"/>
                  <a:pt x="19124" y="7491"/>
                </a:cubicBezTo>
                <a:cubicBezTo>
                  <a:pt x="19183" y="7491"/>
                  <a:pt x="19218" y="7510"/>
                  <a:pt x="19273" y="7516"/>
                </a:cubicBezTo>
                <a:cubicBezTo>
                  <a:pt x="19298" y="7516"/>
                  <a:pt x="19306" y="7516"/>
                  <a:pt x="19323" y="7516"/>
                </a:cubicBezTo>
              </a:path>
              <a:path w="2010" h="1465">
                <a:moveTo>
                  <a:pt x="19248" y="7491"/>
                </a:moveTo>
                <a:cubicBezTo>
                  <a:pt x="19344" y="7491"/>
                  <a:pt x="19427" y="7507"/>
                  <a:pt x="19521" y="7516"/>
                </a:cubicBezTo>
                <a:cubicBezTo>
                  <a:pt x="19633" y="7527"/>
                  <a:pt x="19737" y="7509"/>
                  <a:pt x="19844" y="7491"/>
                </a:cubicBezTo>
                <a:cubicBezTo>
                  <a:pt x="19852" y="7491"/>
                  <a:pt x="19861" y="7491"/>
                  <a:pt x="19869" y="7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80040" y="2394000"/>
            <a:ext cx="1919160" cy="2589120"/>
          </a:xfrm>
          <a:custGeom>
            <a:avLst/>
            <a:gdLst/>
            <a:ahLst/>
            <a:rect l="l" t="t" r="r" b="b"/>
            <a:pathLst>
              <a:path w="5334" h="7194">
                <a:moveTo>
                  <a:pt x="17934" y="7020"/>
                </a:moveTo>
                <a:cubicBezTo>
                  <a:pt x="18100" y="7020"/>
                  <a:pt x="18166" y="7018"/>
                  <a:pt x="18281" y="6995"/>
                </a:cubicBezTo>
              </a:path>
              <a:path w="5334" h="7194">
                <a:moveTo>
                  <a:pt x="19397" y="6648"/>
                </a:moveTo>
                <a:cubicBezTo>
                  <a:pt x="19379" y="6739"/>
                  <a:pt x="19370" y="6746"/>
                  <a:pt x="19372" y="6796"/>
                </a:cubicBezTo>
                <a:cubicBezTo>
                  <a:pt x="19515" y="6829"/>
                  <a:pt x="19596" y="6825"/>
                  <a:pt x="19720" y="6747"/>
                </a:cubicBezTo>
              </a:path>
              <a:path w="5334" h="7194">
                <a:moveTo>
                  <a:pt x="14387" y="13568"/>
                </a:moveTo>
                <a:cubicBezTo>
                  <a:pt x="14413" y="13640"/>
                  <a:pt x="14504" y="13796"/>
                  <a:pt x="14436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3840" y="4626000"/>
            <a:ext cx="1000080" cy="1081080"/>
          </a:xfrm>
          <a:custGeom>
            <a:avLst/>
            <a:gdLst/>
            <a:ahLst/>
            <a:rect l="l" t="t" r="r" b="b"/>
            <a:pathLst>
              <a:path w="2779" h="3002">
                <a:moveTo>
                  <a:pt x="15056" y="12923"/>
                </a:moveTo>
                <a:cubicBezTo>
                  <a:pt x="15091" y="12970"/>
                  <a:pt x="15098" y="13062"/>
                  <a:pt x="15106" y="13122"/>
                </a:cubicBezTo>
                <a:cubicBezTo>
                  <a:pt x="15106" y="13163"/>
                  <a:pt x="15106" y="13171"/>
                  <a:pt x="15106" y="13196"/>
                </a:cubicBezTo>
                <a:cubicBezTo>
                  <a:pt x="15267" y="13196"/>
                  <a:pt x="15439" y="13140"/>
                  <a:pt x="15602" y="13122"/>
                </a:cubicBezTo>
                <a:cubicBezTo>
                  <a:pt x="15794" y="13101"/>
                  <a:pt x="15917" y="13122"/>
                  <a:pt x="16098" y="13122"/>
                </a:cubicBezTo>
                <a:cubicBezTo>
                  <a:pt x="16098" y="13024"/>
                  <a:pt x="16109" y="12944"/>
                  <a:pt x="16123" y="12849"/>
                </a:cubicBezTo>
              </a:path>
              <a:path w="2779" h="3002">
                <a:moveTo>
                  <a:pt x="15429" y="13494"/>
                </a:moveTo>
                <a:cubicBezTo>
                  <a:pt x="15386" y="13505"/>
                  <a:pt x="15307" y="13526"/>
                  <a:pt x="15280" y="13568"/>
                </a:cubicBezTo>
                <a:cubicBezTo>
                  <a:pt x="15263" y="13594"/>
                  <a:pt x="15224" y="13695"/>
                  <a:pt x="15230" y="13742"/>
                </a:cubicBezTo>
                <a:cubicBezTo>
                  <a:pt x="15238" y="13750"/>
                  <a:pt x="15247" y="13759"/>
                  <a:pt x="15255" y="13767"/>
                </a:cubicBezTo>
                <a:cubicBezTo>
                  <a:pt x="15316" y="13756"/>
                  <a:pt x="15636" y="13688"/>
                  <a:pt x="15553" y="13866"/>
                </a:cubicBezTo>
                <a:cubicBezTo>
                  <a:pt x="15491" y="13998"/>
                  <a:pt x="15334" y="13968"/>
                  <a:pt x="15230" y="13940"/>
                </a:cubicBezTo>
              </a:path>
              <a:path w="2779" h="3002">
                <a:moveTo>
                  <a:pt x="15701" y="13543"/>
                </a:moveTo>
                <a:cubicBezTo>
                  <a:pt x="15701" y="13622"/>
                  <a:pt x="15664" y="13771"/>
                  <a:pt x="15776" y="13791"/>
                </a:cubicBezTo>
                <a:cubicBezTo>
                  <a:pt x="15908" y="13815"/>
                  <a:pt x="15938" y="13779"/>
                  <a:pt x="15999" y="13692"/>
                </a:cubicBezTo>
              </a:path>
              <a:path w="2779" h="3002">
                <a:moveTo>
                  <a:pt x="15900" y="13419"/>
                </a:moveTo>
                <a:cubicBezTo>
                  <a:pt x="15885" y="13585"/>
                  <a:pt x="15847" y="13749"/>
                  <a:pt x="15825" y="13915"/>
                </a:cubicBezTo>
                <a:cubicBezTo>
                  <a:pt x="15825" y="13950"/>
                  <a:pt x="15816" y="13954"/>
                  <a:pt x="15776" y="13915"/>
                </a:cubicBezTo>
              </a:path>
              <a:path w="2779" h="3002">
                <a:moveTo>
                  <a:pt x="13593" y="13444"/>
                </a:moveTo>
                <a:cubicBezTo>
                  <a:pt x="13726" y="13415"/>
                  <a:pt x="13945" y="13420"/>
                  <a:pt x="13791" y="13618"/>
                </a:cubicBezTo>
                <a:cubicBezTo>
                  <a:pt x="13729" y="13698"/>
                  <a:pt x="13711" y="13692"/>
                  <a:pt x="13643" y="13692"/>
                </a:cubicBezTo>
                <a:cubicBezTo>
                  <a:pt x="13759" y="13713"/>
                  <a:pt x="13988" y="13801"/>
                  <a:pt x="13791" y="13940"/>
                </a:cubicBezTo>
                <a:cubicBezTo>
                  <a:pt x="13624" y="14058"/>
                  <a:pt x="13459" y="14010"/>
                  <a:pt x="13543" y="13841"/>
                </a:cubicBezTo>
              </a:path>
              <a:path w="2779" h="3002">
                <a:moveTo>
                  <a:pt x="14263" y="13717"/>
                </a:moveTo>
                <a:cubicBezTo>
                  <a:pt x="14378" y="13717"/>
                  <a:pt x="14475" y="13718"/>
                  <a:pt x="14585" y="13742"/>
                </a:cubicBezTo>
              </a:path>
              <a:path w="2779" h="3002">
                <a:moveTo>
                  <a:pt x="14015" y="14312"/>
                </a:moveTo>
                <a:cubicBezTo>
                  <a:pt x="14015" y="14387"/>
                  <a:pt x="14015" y="14395"/>
                  <a:pt x="14015" y="14436"/>
                </a:cubicBezTo>
                <a:cubicBezTo>
                  <a:pt x="14271" y="14395"/>
                  <a:pt x="14522" y="14337"/>
                  <a:pt x="14784" y="14337"/>
                </a:cubicBezTo>
                <a:cubicBezTo>
                  <a:pt x="14888" y="14337"/>
                  <a:pt x="15152" y="14356"/>
                  <a:pt x="15255" y="14387"/>
                </a:cubicBezTo>
                <a:cubicBezTo>
                  <a:pt x="15255" y="14295"/>
                  <a:pt x="15276" y="14208"/>
                  <a:pt x="15280" y="14114"/>
                </a:cubicBezTo>
                <a:cubicBezTo>
                  <a:pt x="15280" y="14106"/>
                  <a:pt x="15280" y="14097"/>
                  <a:pt x="15280" y="14089"/>
                </a:cubicBezTo>
              </a:path>
              <a:path w="2779" h="3002">
                <a:moveTo>
                  <a:pt x="14412" y="14932"/>
                </a:moveTo>
                <a:cubicBezTo>
                  <a:pt x="14363" y="14944"/>
                  <a:pt x="14245" y="14951"/>
                  <a:pt x="14238" y="15007"/>
                </a:cubicBezTo>
                <a:cubicBezTo>
                  <a:pt x="14229" y="15076"/>
                  <a:pt x="14213" y="15136"/>
                  <a:pt x="14213" y="15205"/>
                </a:cubicBezTo>
                <a:cubicBezTo>
                  <a:pt x="14297" y="15205"/>
                  <a:pt x="14500" y="15165"/>
                  <a:pt x="14560" y="15230"/>
                </a:cubicBezTo>
                <a:cubicBezTo>
                  <a:pt x="14716" y="15398"/>
                  <a:pt x="14334" y="15564"/>
                  <a:pt x="14213" y="15528"/>
                </a:cubicBezTo>
                <a:cubicBezTo>
                  <a:pt x="14180" y="15503"/>
                  <a:pt x="14147" y="15478"/>
                  <a:pt x="14114" y="15453"/>
                </a:cubicBezTo>
              </a:path>
              <a:path w="2779" h="3002">
                <a:moveTo>
                  <a:pt x="14610" y="15056"/>
                </a:moveTo>
                <a:cubicBezTo>
                  <a:pt x="14732" y="14995"/>
                  <a:pt x="14820" y="14982"/>
                  <a:pt x="14957" y="14982"/>
                </a:cubicBezTo>
                <a:cubicBezTo>
                  <a:pt x="14965" y="14982"/>
                  <a:pt x="14974" y="14982"/>
                  <a:pt x="14982" y="14982"/>
                </a:cubicBezTo>
                <a:cubicBezTo>
                  <a:pt x="15003" y="15081"/>
                  <a:pt x="15058" y="15339"/>
                  <a:pt x="14957" y="15429"/>
                </a:cubicBezTo>
                <a:cubicBezTo>
                  <a:pt x="14932" y="15437"/>
                  <a:pt x="14908" y="15445"/>
                  <a:pt x="14883" y="15453"/>
                </a:cubicBezTo>
              </a:path>
              <a:path w="2779" h="3002">
                <a:moveTo>
                  <a:pt x="13866" y="15776"/>
                </a:moveTo>
                <a:cubicBezTo>
                  <a:pt x="14195" y="15871"/>
                  <a:pt x="14468" y="15831"/>
                  <a:pt x="14808" y="15776"/>
                </a:cubicBezTo>
                <a:cubicBezTo>
                  <a:pt x="15144" y="15722"/>
                  <a:pt x="15422" y="15633"/>
                  <a:pt x="15478" y="15255"/>
                </a:cubicBezTo>
                <a:cubicBezTo>
                  <a:pt x="15526" y="14929"/>
                  <a:pt x="15358" y="14678"/>
                  <a:pt x="15056" y="14560"/>
                </a:cubicBezTo>
                <a:cubicBezTo>
                  <a:pt x="14676" y="14412"/>
                  <a:pt x="14127" y="14357"/>
                  <a:pt x="13742" y="14511"/>
                </a:cubicBezTo>
                <a:cubicBezTo>
                  <a:pt x="13357" y="14665"/>
                  <a:pt x="13205" y="15187"/>
                  <a:pt x="13444" y="15528"/>
                </a:cubicBezTo>
                <a:cubicBezTo>
                  <a:pt x="13641" y="15810"/>
                  <a:pt x="13955" y="15751"/>
                  <a:pt x="14238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73760" y="1704960"/>
            <a:ext cx="357120" cy="465120"/>
          </a:xfrm>
          <a:custGeom>
            <a:avLst/>
            <a:gdLst/>
            <a:ahLst/>
            <a:rect l="l" t="t" r="r" b="b"/>
            <a:pathLst>
              <a:path w="993" h="1291">
                <a:moveTo>
                  <a:pt x="13866" y="5928"/>
                </a:moveTo>
                <a:cubicBezTo>
                  <a:pt x="13866" y="5848"/>
                  <a:pt x="13888" y="5807"/>
                  <a:pt x="13891" y="5730"/>
                </a:cubicBezTo>
                <a:cubicBezTo>
                  <a:pt x="13893" y="5689"/>
                  <a:pt x="13891" y="5647"/>
                  <a:pt x="13891" y="5606"/>
                </a:cubicBezTo>
                <a:cubicBezTo>
                  <a:pt x="14068" y="5606"/>
                  <a:pt x="14238" y="5618"/>
                  <a:pt x="14412" y="5631"/>
                </a:cubicBezTo>
                <a:cubicBezTo>
                  <a:pt x="14477" y="5636"/>
                  <a:pt x="14545" y="5631"/>
                  <a:pt x="14610" y="5631"/>
                </a:cubicBezTo>
                <a:cubicBezTo>
                  <a:pt x="14624" y="5706"/>
                  <a:pt x="14720" y="5963"/>
                  <a:pt x="14684" y="6028"/>
                </a:cubicBezTo>
                <a:cubicBezTo>
                  <a:pt x="14676" y="6028"/>
                  <a:pt x="14668" y="6028"/>
                  <a:pt x="14660" y="6028"/>
                </a:cubicBezTo>
              </a:path>
              <a:path w="993" h="1291">
                <a:moveTo>
                  <a:pt x="13915" y="4911"/>
                </a:moveTo>
                <a:cubicBezTo>
                  <a:pt x="14058" y="4812"/>
                  <a:pt x="14254" y="4827"/>
                  <a:pt x="14263" y="5060"/>
                </a:cubicBezTo>
                <a:cubicBezTo>
                  <a:pt x="14272" y="5292"/>
                  <a:pt x="13987" y="5332"/>
                  <a:pt x="13841" y="5259"/>
                </a:cubicBezTo>
                <a:cubicBezTo>
                  <a:pt x="13833" y="5251"/>
                  <a:pt x="13824" y="5242"/>
                  <a:pt x="13816" y="5234"/>
                </a:cubicBezTo>
                <a:cubicBezTo>
                  <a:pt x="13880" y="5121"/>
                  <a:pt x="14040" y="5157"/>
                  <a:pt x="14163" y="5234"/>
                </a:cubicBezTo>
                <a:cubicBezTo>
                  <a:pt x="14283" y="5309"/>
                  <a:pt x="14193" y="5363"/>
                  <a:pt x="14288" y="5283"/>
                </a:cubicBezTo>
              </a:path>
              <a:path w="993" h="1291">
                <a:moveTo>
                  <a:pt x="14734" y="4738"/>
                </a:moveTo>
                <a:cubicBezTo>
                  <a:pt x="14684" y="4755"/>
                  <a:pt x="14497" y="4851"/>
                  <a:pt x="14511" y="4936"/>
                </a:cubicBezTo>
                <a:cubicBezTo>
                  <a:pt x="14530" y="5054"/>
                  <a:pt x="14746" y="5108"/>
                  <a:pt x="14808" y="5234"/>
                </a:cubicBezTo>
                <a:cubicBezTo>
                  <a:pt x="14703" y="5297"/>
                  <a:pt x="14683" y="5328"/>
                  <a:pt x="14610" y="5283"/>
                </a:cubicBezTo>
                <a:cubicBezTo>
                  <a:pt x="14610" y="5117"/>
                  <a:pt x="14643" y="5024"/>
                  <a:pt x="14709" y="4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86280" y="2108160"/>
            <a:ext cx="768600" cy="642960"/>
          </a:xfrm>
          <a:custGeom>
            <a:avLst/>
            <a:gdLst/>
            <a:ahLst/>
            <a:rect l="l" t="t" r="r" b="b"/>
            <a:pathLst>
              <a:path w="2135" h="1787">
                <a:moveTo>
                  <a:pt x="16346" y="6003"/>
                </a:moveTo>
                <a:cubicBezTo>
                  <a:pt x="16572" y="6120"/>
                  <a:pt x="16808" y="6332"/>
                  <a:pt x="16446" y="6524"/>
                </a:cubicBezTo>
                <a:cubicBezTo>
                  <a:pt x="16255" y="6566"/>
                  <a:pt x="16214" y="6589"/>
                  <a:pt x="16098" y="6548"/>
                </a:cubicBezTo>
                <a:cubicBezTo>
                  <a:pt x="16111" y="6293"/>
                  <a:pt x="16257" y="6182"/>
                  <a:pt x="16495" y="6375"/>
                </a:cubicBezTo>
                <a:cubicBezTo>
                  <a:pt x="16555" y="6454"/>
                  <a:pt x="16580" y="6463"/>
                  <a:pt x="16570" y="6524"/>
                </a:cubicBezTo>
              </a:path>
              <a:path w="2135" h="1787">
                <a:moveTo>
                  <a:pt x="17239" y="5854"/>
                </a:moveTo>
                <a:cubicBezTo>
                  <a:pt x="17110" y="5919"/>
                  <a:pt x="17077" y="5939"/>
                  <a:pt x="16991" y="6052"/>
                </a:cubicBezTo>
                <a:cubicBezTo>
                  <a:pt x="17082" y="6184"/>
                  <a:pt x="17229" y="6269"/>
                  <a:pt x="17338" y="6400"/>
                </a:cubicBezTo>
                <a:cubicBezTo>
                  <a:pt x="17167" y="6504"/>
                  <a:pt x="16920" y="6512"/>
                  <a:pt x="17090" y="6226"/>
                </a:cubicBezTo>
                <a:cubicBezTo>
                  <a:pt x="17185" y="6112"/>
                  <a:pt x="17185" y="6083"/>
                  <a:pt x="17264" y="6052"/>
                </a:cubicBezTo>
              </a:path>
              <a:path w="2135" h="1787">
                <a:moveTo>
                  <a:pt x="16247" y="6871"/>
                </a:moveTo>
                <a:cubicBezTo>
                  <a:pt x="16526" y="6812"/>
                  <a:pt x="16804" y="6741"/>
                  <a:pt x="17090" y="6722"/>
                </a:cubicBezTo>
                <a:cubicBezTo>
                  <a:pt x="17098" y="6722"/>
                  <a:pt x="17107" y="6722"/>
                  <a:pt x="17115" y="6722"/>
                </a:cubicBezTo>
              </a:path>
              <a:path w="2135" h="1787">
                <a:moveTo>
                  <a:pt x="16619" y="7169"/>
                </a:moveTo>
                <a:cubicBezTo>
                  <a:pt x="16815" y="7216"/>
                  <a:pt x="17156" y="7332"/>
                  <a:pt x="16818" y="7565"/>
                </a:cubicBezTo>
                <a:cubicBezTo>
                  <a:pt x="16647" y="7630"/>
                  <a:pt x="16610" y="7655"/>
                  <a:pt x="16495" y="7640"/>
                </a:cubicBezTo>
                <a:cubicBezTo>
                  <a:pt x="16548" y="7467"/>
                  <a:pt x="16648" y="7400"/>
                  <a:pt x="16842" y="7441"/>
                </a:cubicBezTo>
                <a:cubicBezTo>
                  <a:pt x="17019" y="7479"/>
                  <a:pt x="16964" y="7482"/>
                  <a:pt x="17190" y="7441"/>
                </a:cubicBezTo>
              </a:path>
              <a:path w="2135" h="1787">
                <a:moveTo>
                  <a:pt x="17934" y="6796"/>
                </a:moveTo>
                <a:cubicBezTo>
                  <a:pt x="18033" y="6785"/>
                  <a:pt x="18106" y="6786"/>
                  <a:pt x="18207" y="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46160" y="2419200"/>
            <a:ext cx="3645000" cy="652680"/>
          </a:xfrm>
          <a:custGeom>
            <a:avLst/>
            <a:gdLst/>
            <a:ahLst/>
            <a:rect l="l" t="t" r="r" b="b"/>
            <a:pathLst>
              <a:path w="10122" h="1812">
                <a:moveTo>
                  <a:pt x="5482" y="7317"/>
                </a:moveTo>
                <a:cubicBezTo>
                  <a:pt x="5499" y="7422"/>
                  <a:pt x="5550" y="7500"/>
                  <a:pt x="5606" y="7590"/>
                </a:cubicBezTo>
              </a:path>
              <a:path w="10122" h="1812">
                <a:moveTo>
                  <a:pt x="5631" y="7268"/>
                </a:moveTo>
                <a:cubicBezTo>
                  <a:pt x="5556" y="7375"/>
                  <a:pt x="5477" y="7481"/>
                  <a:pt x="5407" y="7590"/>
                </a:cubicBezTo>
              </a:path>
              <a:path w="10122" h="1812">
                <a:moveTo>
                  <a:pt x="6821" y="8260"/>
                </a:moveTo>
                <a:cubicBezTo>
                  <a:pt x="6840" y="8365"/>
                  <a:pt x="6846" y="8446"/>
                  <a:pt x="6896" y="8533"/>
                </a:cubicBezTo>
              </a:path>
              <a:path w="10122" h="1812">
                <a:moveTo>
                  <a:pt x="15255" y="6722"/>
                </a:moveTo>
                <a:cubicBezTo>
                  <a:pt x="15322" y="6743"/>
                  <a:pt x="15384" y="6762"/>
                  <a:pt x="15453" y="6772"/>
                </a:cubicBezTo>
              </a:path>
              <a:path w="10122" h="1812">
                <a:moveTo>
                  <a:pt x="15404" y="6945"/>
                </a:moveTo>
                <a:cubicBezTo>
                  <a:pt x="15445" y="6937"/>
                  <a:pt x="15487" y="6929"/>
                  <a:pt x="15528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84200" y="2401920"/>
            <a:ext cx="473040" cy="322200"/>
          </a:xfrm>
          <a:custGeom>
            <a:avLst/>
            <a:gdLst/>
            <a:ahLst/>
            <a:rect l="l" t="t" r="r" b="b"/>
            <a:pathLst>
              <a:path w="1315" h="894">
                <a:moveTo>
                  <a:pt x="3870" y="6846"/>
                </a:moveTo>
                <a:cubicBezTo>
                  <a:pt x="3860" y="6949"/>
                  <a:pt x="3864" y="6912"/>
                  <a:pt x="3845" y="6970"/>
                </a:cubicBezTo>
                <a:cubicBezTo>
                  <a:pt x="3993" y="6955"/>
                  <a:pt x="4142" y="6936"/>
                  <a:pt x="4291" y="6921"/>
                </a:cubicBezTo>
                <a:cubicBezTo>
                  <a:pt x="4476" y="6902"/>
                  <a:pt x="4652" y="6896"/>
                  <a:pt x="4837" y="6896"/>
                </a:cubicBezTo>
                <a:cubicBezTo>
                  <a:pt x="4931" y="6896"/>
                  <a:pt x="5019" y="6902"/>
                  <a:pt x="5110" y="6871"/>
                </a:cubicBezTo>
                <a:cubicBezTo>
                  <a:pt x="5194" y="6843"/>
                  <a:pt x="5159" y="6747"/>
                  <a:pt x="5159" y="6672"/>
                </a:cubicBezTo>
              </a:path>
              <a:path w="1315" h="894">
                <a:moveTo>
                  <a:pt x="4316" y="7119"/>
                </a:moveTo>
                <a:cubicBezTo>
                  <a:pt x="4332" y="7205"/>
                  <a:pt x="4331" y="7192"/>
                  <a:pt x="4316" y="7268"/>
                </a:cubicBezTo>
                <a:cubicBezTo>
                  <a:pt x="4432" y="7285"/>
                  <a:pt x="4611" y="7326"/>
                  <a:pt x="4688" y="7268"/>
                </a:cubicBezTo>
              </a:path>
              <a:path w="1315" h="894">
                <a:moveTo>
                  <a:pt x="4663" y="7069"/>
                </a:moveTo>
                <a:cubicBezTo>
                  <a:pt x="4654" y="7142"/>
                  <a:pt x="4577" y="7500"/>
                  <a:pt x="4638" y="7565"/>
                </a:cubicBezTo>
                <a:cubicBezTo>
                  <a:pt x="4663" y="7565"/>
                  <a:pt x="4688" y="7565"/>
                  <a:pt x="4713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09880" y="2955960"/>
            <a:ext cx="919080" cy="758880"/>
          </a:xfrm>
          <a:custGeom>
            <a:avLst/>
            <a:gdLst/>
            <a:ahLst/>
            <a:rect l="l" t="t" r="r" b="b"/>
            <a:pathLst>
              <a:path w="2556" h="2110">
                <a:moveTo>
                  <a:pt x="6648" y="8434"/>
                </a:moveTo>
                <a:cubicBezTo>
                  <a:pt x="6815" y="8412"/>
                  <a:pt x="6979" y="8389"/>
                  <a:pt x="7144" y="8359"/>
                </a:cubicBezTo>
              </a:path>
              <a:path w="2556" h="2110">
                <a:moveTo>
                  <a:pt x="7367" y="8210"/>
                </a:moveTo>
                <a:cubicBezTo>
                  <a:pt x="7425" y="8214"/>
                  <a:pt x="7713" y="8207"/>
                  <a:pt x="7615" y="8310"/>
                </a:cubicBezTo>
                <a:cubicBezTo>
                  <a:pt x="7534" y="8370"/>
                  <a:pt x="7521" y="8385"/>
                  <a:pt x="7466" y="8409"/>
                </a:cubicBezTo>
                <a:cubicBezTo>
                  <a:pt x="7610" y="8409"/>
                  <a:pt x="7676" y="8411"/>
                  <a:pt x="7764" y="8508"/>
                </a:cubicBezTo>
                <a:cubicBezTo>
                  <a:pt x="7644" y="8582"/>
                  <a:pt x="7626" y="8591"/>
                  <a:pt x="7491" y="8582"/>
                </a:cubicBezTo>
              </a:path>
              <a:path w="2556" h="2110">
                <a:moveTo>
                  <a:pt x="6300" y="8855"/>
                </a:moveTo>
                <a:cubicBezTo>
                  <a:pt x="6300" y="8913"/>
                  <a:pt x="6300" y="8921"/>
                  <a:pt x="6300" y="8954"/>
                </a:cubicBezTo>
                <a:cubicBezTo>
                  <a:pt x="6559" y="8923"/>
                  <a:pt x="6805" y="8895"/>
                  <a:pt x="7069" y="8905"/>
                </a:cubicBezTo>
                <a:cubicBezTo>
                  <a:pt x="7242" y="8911"/>
                  <a:pt x="7426" y="8932"/>
                  <a:pt x="7590" y="8979"/>
                </a:cubicBezTo>
                <a:cubicBezTo>
                  <a:pt x="7590" y="8920"/>
                  <a:pt x="7590" y="8695"/>
                  <a:pt x="7590" y="8731"/>
                </a:cubicBezTo>
              </a:path>
              <a:path w="2556" h="2110">
                <a:moveTo>
                  <a:pt x="6449" y="9426"/>
                </a:moveTo>
                <a:cubicBezTo>
                  <a:pt x="6520" y="9420"/>
                  <a:pt x="6925" y="9380"/>
                  <a:pt x="6623" y="9550"/>
                </a:cubicBezTo>
                <a:cubicBezTo>
                  <a:pt x="6546" y="9569"/>
                  <a:pt x="6529" y="9562"/>
                  <a:pt x="6499" y="9599"/>
                </a:cubicBezTo>
                <a:cubicBezTo>
                  <a:pt x="6653" y="9599"/>
                  <a:pt x="6618" y="9605"/>
                  <a:pt x="6747" y="9674"/>
                </a:cubicBezTo>
                <a:cubicBezTo>
                  <a:pt x="6696" y="9750"/>
                  <a:pt x="6436" y="9977"/>
                  <a:pt x="6325" y="9823"/>
                </a:cubicBezTo>
                <a:cubicBezTo>
                  <a:pt x="6333" y="9790"/>
                  <a:pt x="6342" y="9756"/>
                  <a:pt x="6350" y="9723"/>
                </a:cubicBezTo>
              </a:path>
              <a:path w="2556" h="2110">
                <a:moveTo>
                  <a:pt x="7169" y="9376"/>
                </a:moveTo>
                <a:cubicBezTo>
                  <a:pt x="7045" y="9399"/>
                  <a:pt x="6966" y="9398"/>
                  <a:pt x="6970" y="9500"/>
                </a:cubicBezTo>
                <a:cubicBezTo>
                  <a:pt x="6970" y="9574"/>
                  <a:pt x="6970" y="9583"/>
                  <a:pt x="6970" y="9624"/>
                </a:cubicBezTo>
                <a:cubicBezTo>
                  <a:pt x="7065" y="9605"/>
                  <a:pt x="7169" y="9571"/>
                  <a:pt x="7268" y="9624"/>
                </a:cubicBezTo>
                <a:cubicBezTo>
                  <a:pt x="7293" y="9649"/>
                  <a:pt x="7317" y="9674"/>
                  <a:pt x="7342" y="9699"/>
                </a:cubicBezTo>
                <a:cubicBezTo>
                  <a:pt x="7229" y="9867"/>
                  <a:pt x="7133" y="9889"/>
                  <a:pt x="6945" y="9847"/>
                </a:cubicBezTo>
              </a:path>
              <a:path w="2556" h="2110">
                <a:moveTo>
                  <a:pt x="6077" y="10145"/>
                </a:moveTo>
                <a:cubicBezTo>
                  <a:pt x="6670" y="10182"/>
                  <a:pt x="7253" y="10239"/>
                  <a:pt x="7838" y="10096"/>
                </a:cubicBezTo>
                <a:cubicBezTo>
                  <a:pt x="8052" y="10018"/>
                  <a:pt x="8128" y="10045"/>
                  <a:pt x="8136" y="9897"/>
                </a:cubicBezTo>
                <a:cubicBezTo>
                  <a:pt x="7820" y="9488"/>
                  <a:pt x="7539" y="9200"/>
                  <a:pt x="6995" y="9128"/>
                </a:cubicBezTo>
                <a:cubicBezTo>
                  <a:pt x="6578" y="9073"/>
                  <a:pt x="5381" y="9299"/>
                  <a:pt x="5581" y="9996"/>
                </a:cubicBezTo>
                <a:cubicBezTo>
                  <a:pt x="5892" y="10245"/>
                  <a:pt x="6053" y="10330"/>
                  <a:pt x="6375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60680" y="2509920"/>
            <a:ext cx="1206360" cy="606240"/>
          </a:xfrm>
          <a:custGeom>
            <a:avLst/>
            <a:gdLst/>
            <a:ahLst/>
            <a:rect l="l" t="t" r="r" b="b"/>
            <a:pathLst>
              <a:path w="3349" h="1688">
                <a:moveTo>
                  <a:pt x="6424" y="7020"/>
                </a:moveTo>
                <a:cubicBezTo>
                  <a:pt x="6295" y="7038"/>
                  <a:pt x="6237" y="7072"/>
                  <a:pt x="6127" y="7144"/>
                </a:cubicBezTo>
                <a:cubicBezTo>
                  <a:pt x="6176" y="7218"/>
                  <a:pt x="6416" y="7300"/>
                  <a:pt x="6400" y="7417"/>
                </a:cubicBezTo>
                <a:cubicBezTo>
                  <a:pt x="6375" y="7442"/>
                  <a:pt x="6350" y="7466"/>
                  <a:pt x="6325" y="7491"/>
                </a:cubicBezTo>
                <a:cubicBezTo>
                  <a:pt x="6080" y="7384"/>
                  <a:pt x="6214" y="7295"/>
                  <a:pt x="6375" y="7119"/>
                </a:cubicBezTo>
                <a:cubicBezTo>
                  <a:pt x="6383" y="7111"/>
                  <a:pt x="6392" y="7102"/>
                  <a:pt x="6400" y="7094"/>
                </a:cubicBezTo>
              </a:path>
              <a:path w="3349" h="1688">
                <a:moveTo>
                  <a:pt x="7069" y="7069"/>
                </a:moveTo>
                <a:cubicBezTo>
                  <a:pt x="7039" y="7121"/>
                  <a:pt x="7098" y="7264"/>
                  <a:pt x="7069" y="7317"/>
                </a:cubicBezTo>
                <a:cubicBezTo>
                  <a:pt x="7061" y="7317"/>
                  <a:pt x="7053" y="7317"/>
                  <a:pt x="7045" y="7317"/>
                </a:cubicBezTo>
              </a:path>
              <a:path w="3349" h="1688">
                <a:moveTo>
                  <a:pt x="6921" y="7243"/>
                </a:moveTo>
                <a:cubicBezTo>
                  <a:pt x="7117" y="7243"/>
                  <a:pt x="7280" y="7247"/>
                  <a:pt x="7466" y="7193"/>
                </a:cubicBezTo>
              </a:path>
              <a:path w="3349" h="1688">
                <a:moveTo>
                  <a:pt x="7689" y="6995"/>
                </a:moveTo>
                <a:cubicBezTo>
                  <a:pt x="7767" y="6982"/>
                  <a:pt x="7832" y="6970"/>
                  <a:pt x="7913" y="6970"/>
                </a:cubicBezTo>
                <a:cubicBezTo>
                  <a:pt x="7901" y="7118"/>
                  <a:pt x="7874" y="7127"/>
                  <a:pt x="7739" y="7193"/>
                </a:cubicBezTo>
                <a:cubicBezTo>
                  <a:pt x="7818" y="7193"/>
                  <a:pt x="7904" y="7128"/>
                  <a:pt x="7962" y="7218"/>
                </a:cubicBezTo>
                <a:cubicBezTo>
                  <a:pt x="8077" y="7396"/>
                  <a:pt x="7664" y="7390"/>
                  <a:pt x="7615" y="7392"/>
                </a:cubicBezTo>
              </a:path>
              <a:path w="3349" h="1688">
                <a:moveTo>
                  <a:pt x="4614" y="7739"/>
                </a:moveTo>
                <a:cubicBezTo>
                  <a:pt x="4630" y="7833"/>
                  <a:pt x="4639" y="7924"/>
                  <a:pt x="4663" y="8012"/>
                </a:cubicBezTo>
                <a:cubicBezTo>
                  <a:pt x="4883" y="7998"/>
                  <a:pt x="5085" y="7979"/>
                  <a:pt x="5308" y="7987"/>
                </a:cubicBezTo>
                <a:cubicBezTo>
                  <a:pt x="5595" y="7997"/>
                  <a:pt x="5917" y="8003"/>
                  <a:pt x="6201" y="8037"/>
                </a:cubicBezTo>
                <a:cubicBezTo>
                  <a:pt x="6282" y="8047"/>
                  <a:pt x="6249" y="7997"/>
                  <a:pt x="6300" y="7863"/>
                </a:cubicBezTo>
                <a:cubicBezTo>
                  <a:pt x="6336" y="7773"/>
                  <a:pt x="6353" y="7768"/>
                  <a:pt x="6350" y="7714"/>
                </a:cubicBezTo>
              </a:path>
              <a:path w="3349" h="1688">
                <a:moveTo>
                  <a:pt x="5159" y="8310"/>
                </a:moveTo>
                <a:cubicBezTo>
                  <a:pt x="5179" y="8302"/>
                  <a:pt x="5461" y="8216"/>
                  <a:pt x="5407" y="8310"/>
                </a:cubicBezTo>
                <a:cubicBezTo>
                  <a:pt x="5324" y="8393"/>
                  <a:pt x="5288" y="8425"/>
                  <a:pt x="5209" y="8458"/>
                </a:cubicBezTo>
                <a:cubicBezTo>
                  <a:pt x="5201" y="8458"/>
                  <a:pt x="5192" y="8458"/>
                  <a:pt x="5184" y="8458"/>
                </a:cubicBezTo>
                <a:cubicBezTo>
                  <a:pt x="5300" y="8458"/>
                  <a:pt x="5364" y="8447"/>
                  <a:pt x="5432" y="8533"/>
                </a:cubicBezTo>
                <a:cubicBezTo>
                  <a:pt x="5316" y="8629"/>
                  <a:pt x="5198" y="8698"/>
                  <a:pt x="5135" y="8558"/>
                </a:cubicBezTo>
              </a:path>
              <a:path w="3349" h="1688">
                <a:moveTo>
                  <a:pt x="5755" y="8409"/>
                </a:moveTo>
                <a:cubicBezTo>
                  <a:pt x="5856" y="8409"/>
                  <a:pt x="6068" y="8407"/>
                  <a:pt x="6003" y="8582"/>
                </a:cubicBezTo>
                <a:cubicBezTo>
                  <a:pt x="5949" y="8728"/>
                  <a:pt x="5757" y="8647"/>
                  <a:pt x="5655" y="8632"/>
                </a:cubicBezTo>
                <a:cubicBezTo>
                  <a:pt x="5732" y="8506"/>
                  <a:pt x="5892" y="8533"/>
                  <a:pt x="6028" y="8558"/>
                </a:cubicBezTo>
                <a:cubicBezTo>
                  <a:pt x="6101" y="8582"/>
                  <a:pt x="6124" y="8590"/>
                  <a:pt x="6176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3000" y="4599000"/>
            <a:ext cx="455760" cy="125280"/>
          </a:xfrm>
          <a:custGeom>
            <a:avLst/>
            <a:gdLst/>
            <a:ahLst/>
            <a:rect l="l" t="t" r="r" b="b"/>
            <a:pathLst>
              <a:path w="1266" h="349">
                <a:moveTo>
                  <a:pt x="6424" y="12948"/>
                </a:moveTo>
                <a:cubicBezTo>
                  <a:pt x="6451" y="13008"/>
                  <a:pt x="6466" y="13057"/>
                  <a:pt x="6474" y="13122"/>
                </a:cubicBezTo>
                <a:cubicBezTo>
                  <a:pt x="6583" y="13122"/>
                  <a:pt x="6688" y="13091"/>
                  <a:pt x="6796" y="13072"/>
                </a:cubicBezTo>
                <a:cubicBezTo>
                  <a:pt x="6973" y="13041"/>
                  <a:pt x="7137" y="13022"/>
                  <a:pt x="7317" y="13022"/>
                </a:cubicBezTo>
                <a:cubicBezTo>
                  <a:pt x="7423" y="13022"/>
                  <a:pt x="7494" y="13021"/>
                  <a:pt x="7590" y="12998"/>
                </a:cubicBezTo>
                <a:cubicBezTo>
                  <a:pt x="7619" y="12991"/>
                  <a:pt x="7659" y="12998"/>
                  <a:pt x="7689" y="12998"/>
                </a:cubicBezTo>
                <a:cubicBezTo>
                  <a:pt x="7689" y="12919"/>
                  <a:pt x="7676" y="12851"/>
                  <a:pt x="7665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8920" y="4795920"/>
            <a:ext cx="152280" cy="18720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6970" y="13345"/>
                </a:moveTo>
                <a:cubicBezTo>
                  <a:pt x="7154" y="13304"/>
                  <a:pt x="7189" y="13457"/>
                  <a:pt x="7119" y="13618"/>
                </a:cubicBezTo>
                <a:cubicBezTo>
                  <a:pt x="7043" y="13794"/>
                  <a:pt x="6891" y="13899"/>
                  <a:pt x="6747" y="13791"/>
                </a:cubicBezTo>
                <a:cubicBezTo>
                  <a:pt x="6805" y="13665"/>
                  <a:pt x="6937" y="13590"/>
                  <a:pt x="7094" y="13692"/>
                </a:cubicBezTo>
                <a:cubicBezTo>
                  <a:pt x="7122" y="13710"/>
                  <a:pt x="7160" y="13782"/>
                  <a:pt x="7169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5840" y="4749840"/>
            <a:ext cx="98280" cy="216000"/>
          </a:xfrm>
          <a:custGeom>
            <a:avLst/>
            <a:gdLst/>
            <a:ahLst/>
            <a:rect l="l" t="t" r="r" b="b"/>
            <a:pathLst>
              <a:path w="273" h="596">
                <a:moveTo>
                  <a:pt x="7516" y="13196"/>
                </a:moveTo>
                <a:cubicBezTo>
                  <a:pt x="7433" y="13253"/>
                  <a:pt x="7329" y="13303"/>
                  <a:pt x="7293" y="13395"/>
                </a:cubicBezTo>
                <a:cubicBezTo>
                  <a:pt x="7375" y="13465"/>
                  <a:pt x="7654" y="13596"/>
                  <a:pt x="7541" y="13742"/>
                </a:cubicBezTo>
                <a:cubicBezTo>
                  <a:pt x="7508" y="13758"/>
                  <a:pt x="7474" y="13775"/>
                  <a:pt x="7441" y="13791"/>
                </a:cubicBezTo>
                <a:cubicBezTo>
                  <a:pt x="7302" y="13637"/>
                  <a:pt x="7410" y="13548"/>
                  <a:pt x="7491" y="13370"/>
                </a:cubicBezTo>
                <a:cubicBezTo>
                  <a:pt x="7491" y="13362"/>
                  <a:pt x="7491" y="13353"/>
                  <a:pt x="7491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24000" y="4902120"/>
            <a:ext cx="160200" cy="196920"/>
          </a:xfrm>
          <a:custGeom>
            <a:avLst/>
            <a:gdLst/>
            <a:ahLst/>
            <a:rect l="l" t="t" r="r" b="b"/>
            <a:pathLst>
              <a:path w="448" h="546">
                <a:moveTo>
                  <a:pt x="3547" y="13667"/>
                </a:moveTo>
                <a:cubicBezTo>
                  <a:pt x="3618" y="13611"/>
                  <a:pt x="3760" y="13595"/>
                  <a:pt x="3795" y="13717"/>
                </a:cubicBezTo>
                <a:cubicBezTo>
                  <a:pt x="3860" y="13941"/>
                  <a:pt x="3669" y="14171"/>
                  <a:pt x="3448" y="14163"/>
                </a:cubicBezTo>
                <a:cubicBezTo>
                  <a:pt x="3418" y="14134"/>
                  <a:pt x="3406" y="14120"/>
                  <a:pt x="3398" y="14089"/>
                </a:cubicBezTo>
                <a:cubicBezTo>
                  <a:pt x="3534" y="14005"/>
                  <a:pt x="3649" y="13981"/>
                  <a:pt x="3795" y="14064"/>
                </a:cubicBezTo>
                <a:cubicBezTo>
                  <a:pt x="3855" y="14098"/>
                  <a:pt x="3845" y="14213"/>
                  <a:pt x="3845" y="1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11200" y="4875120"/>
            <a:ext cx="13356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4217" y="13543"/>
                </a:moveTo>
                <a:cubicBezTo>
                  <a:pt x="4173" y="13581"/>
                  <a:pt x="4065" y="13596"/>
                  <a:pt x="4043" y="13618"/>
                </a:cubicBezTo>
                <a:cubicBezTo>
                  <a:pt x="4003" y="13658"/>
                  <a:pt x="3999" y="13810"/>
                  <a:pt x="3994" y="13866"/>
                </a:cubicBezTo>
                <a:cubicBezTo>
                  <a:pt x="4080" y="13851"/>
                  <a:pt x="4199" y="13794"/>
                  <a:pt x="4266" y="13891"/>
                </a:cubicBezTo>
                <a:cubicBezTo>
                  <a:pt x="4422" y="14117"/>
                  <a:pt x="4116" y="14142"/>
                  <a:pt x="3994" y="14139"/>
                </a:cubicBezTo>
                <a:cubicBezTo>
                  <a:pt x="3969" y="14139"/>
                  <a:pt x="3944" y="14139"/>
                  <a:pt x="3919" y="14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60680" y="4946760"/>
            <a:ext cx="27000" cy="135000"/>
          </a:xfrm>
          <a:custGeom>
            <a:avLst/>
            <a:gdLst/>
            <a:ahLst/>
            <a:rect l="l" t="t" r="r" b="b"/>
            <a:pathLst>
              <a:path w="75" h="373">
                <a:moveTo>
                  <a:pt x="4614" y="13742"/>
                </a:moveTo>
                <a:cubicBezTo>
                  <a:pt x="4654" y="13854"/>
                  <a:pt x="4680" y="13969"/>
                  <a:pt x="4688" y="14089"/>
                </a:cubicBezTo>
                <a:cubicBezTo>
                  <a:pt x="4688" y="14097"/>
                  <a:pt x="4688" y="14106"/>
                  <a:pt x="4688" y="1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8120" y="4991040"/>
            <a:ext cx="142920" cy="19080"/>
          </a:xfrm>
          <a:custGeom>
            <a:avLst/>
            <a:gdLst/>
            <a:ahLst/>
            <a:rect l="l" t="t" r="r" b="b"/>
            <a:pathLst>
              <a:path w="398" h="50">
                <a:moveTo>
                  <a:pt x="4465" y="13915"/>
                </a:moveTo>
                <a:cubicBezTo>
                  <a:pt x="4599" y="13887"/>
                  <a:pt x="4725" y="13866"/>
                  <a:pt x="4862" y="13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47880" y="4911840"/>
            <a:ext cx="108000" cy="81000"/>
          </a:xfrm>
          <a:custGeom>
            <a:avLst/>
            <a:gdLst/>
            <a:ahLst/>
            <a:rect l="l" t="t" r="r" b="b"/>
            <a:pathLst>
              <a:path w="298" h="224">
                <a:moveTo>
                  <a:pt x="5135" y="13643"/>
                </a:moveTo>
                <a:cubicBezTo>
                  <a:pt x="5180" y="13712"/>
                  <a:pt x="5155" y="13777"/>
                  <a:pt x="5184" y="13841"/>
                </a:cubicBezTo>
                <a:cubicBezTo>
                  <a:pt x="5217" y="13913"/>
                  <a:pt x="5381" y="13853"/>
                  <a:pt x="5432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6160" y="4867200"/>
            <a:ext cx="19080" cy="187560"/>
          </a:xfrm>
          <a:custGeom>
            <a:avLst/>
            <a:gdLst/>
            <a:ahLst/>
            <a:rect l="l" t="t" r="r" b="b"/>
            <a:pathLst>
              <a:path w="51" h="521">
                <a:moveTo>
                  <a:pt x="5407" y="13519"/>
                </a:moveTo>
                <a:cubicBezTo>
                  <a:pt x="5415" y="13679"/>
                  <a:pt x="5437" y="13835"/>
                  <a:pt x="5457" y="13990"/>
                </a:cubicBezTo>
                <a:cubicBezTo>
                  <a:pt x="5457" y="14006"/>
                  <a:pt x="5457" y="14023"/>
                  <a:pt x="5457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5800" y="4929120"/>
            <a:ext cx="142560" cy="19080"/>
          </a:xfrm>
          <a:custGeom>
            <a:avLst/>
            <a:gdLst/>
            <a:ahLst/>
            <a:rect l="l" t="t" r="r" b="b"/>
            <a:pathLst>
              <a:path w="397" h="51">
                <a:moveTo>
                  <a:pt x="5904" y="13742"/>
                </a:moveTo>
                <a:cubicBezTo>
                  <a:pt x="6038" y="13716"/>
                  <a:pt x="6163" y="13692"/>
                  <a:pt x="6300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00120" y="5099040"/>
            <a:ext cx="374760" cy="152280"/>
          </a:xfrm>
          <a:custGeom>
            <a:avLst/>
            <a:gdLst/>
            <a:ahLst/>
            <a:rect l="l" t="t" r="r" b="b"/>
            <a:pathLst>
              <a:path w="1043" h="423">
                <a:moveTo>
                  <a:pt x="4167" y="14337"/>
                </a:moveTo>
                <a:cubicBezTo>
                  <a:pt x="4262" y="14289"/>
                  <a:pt x="4240" y="14473"/>
                  <a:pt x="4242" y="14536"/>
                </a:cubicBezTo>
                <a:cubicBezTo>
                  <a:pt x="4242" y="14552"/>
                  <a:pt x="4242" y="14569"/>
                  <a:pt x="4242" y="14585"/>
                </a:cubicBezTo>
                <a:cubicBezTo>
                  <a:pt x="4456" y="14513"/>
                  <a:pt x="4636" y="14468"/>
                  <a:pt x="4862" y="14461"/>
                </a:cubicBezTo>
                <a:cubicBezTo>
                  <a:pt x="4868" y="14461"/>
                  <a:pt x="5110" y="14455"/>
                  <a:pt x="5135" y="14486"/>
                </a:cubicBezTo>
                <a:cubicBezTo>
                  <a:pt x="5157" y="14513"/>
                  <a:pt x="5133" y="14511"/>
                  <a:pt x="5184" y="14511"/>
                </a:cubicBezTo>
                <a:cubicBezTo>
                  <a:pt x="5237" y="14493"/>
                  <a:pt x="5170" y="14391"/>
                  <a:pt x="5159" y="14337"/>
                </a:cubicBezTo>
                <a:cubicBezTo>
                  <a:pt x="5142" y="14229"/>
                  <a:pt x="5134" y="14222"/>
                  <a:pt x="5135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62040" y="5357880"/>
            <a:ext cx="14436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4490" y="14932"/>
                </a:moveTo>
                <a:cubicBezTo>
                  <a:pt x="4531" y="14851"/>
                  <a:pt x="4690" y="14856"/>
                  <a:pt x="4738" y="14957"/>
                </a:cubicBezTo>
                <a:cubicBezTo>
                  <a:pt x="4846" y="15186"/>
                  <a:pt x="4537" y="15321"/>
                  <a:pt x="4390" y="15354"/>
                </a:cubicBezTo>
                <a:cubicBezTo>
                  <a:pt x="4329" y="15230"/>
                  <a:pt x="4364" y="15152"/>
                  <a:pt x="4539" y="15156"/>
                </a:cubicBezTo>
                <a:cubicBezTo>
                  <a:pt x="4643" y="15159"/>
                  <a:pt x="4684" y="15208"/>
                  <a:pt x="4738" y="15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41320" y="5313240"/>
            <a:ext cx="98640" cy="223920"/>
          </a:xfrm>
          <a:custGeom>
            <a:avLst/>
            <a:gdLst/>
            <a:ahLst/>
            <a:rect l="l" t="t" r="r" b="b"/>
            <a:pathLst>
              <a:path w="274" h="621">
                <a:moveTo>
                  <a:pt x="5110" y="14957"/>
                </a:moveTo>
                <a:cubicBezTo>
                  <a:pt x="5087" y="14856"/>
                  <a:pt x="5049" y="14814"/>
                  <a:pt x="4961" y="14759"/>
                </a:cubicBezTo>
                <a:cubicBezTo>
                  <a:pt x="4921" y="14790"/>
                  <a:pt x="4740" y="14966"/>
                  <a:pt x="4837" y="15032"/>
                </a:cubicBezTo>
                <a:cubicBezTo>
                  <a:pt x="4926" y="15092"/>
                  <a:pt x="5000" y="14930"/>
                  <a:pt x="5035" y="14883"/>
                </a:cubicBezTo>
                <a:cubicBezTo>
                  <a:pt x="5053" y="15042"/>
                  <a:pt x="5060" y="15193"/>
                  <a:pt x="5060" y="15354"/>
                </a:cubicBezTo>
                <a:cubicBezTo>
                  <a:pt x="5060" y="15397"/>
                  <a:pt x="5066" y="15388"/>
                  <a:pt x="5085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19160" y="5392800"/>
            <a:ext cx="73080" cy="28440"/>
          </a:xfrm>
          <a:custGeom>
            <a:avLst/>
            <a:gdLst/>
            <a:ahLst/>
            <a:rect l="l" t="t" r="r" b="b"/>
            <a:pathLst>
              <a:path w="199" h="75">
                <a:moveTo>
                  <a:pt x="5333" y="15056"/>
                </a:moveTo>
                <a:cubicBezTo>
                  <a:pt x="5401" y="15043"/>
                  <a:pt x="5467" y="15011"/>
                  <a:pt x="5531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62080" y="5313240"/>
            <a:ext cx="135000" cy="17964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5854" y="14784"/>
                </a:moveTo>
                <a:cubicBezTo>
                  <a:pt x="5951" y="14760"/>
                  <a:pt x="6152" y="14826"/>
                  <a:pt x="6102" y="14982"/>
                </a:cubicBezTo>
                <a:cubicBezTo>
                  <a:pt x="6040" y="15175"/>
                  <a:pt x="5890" y="15219"/>
                  <a:pt x="5730" y="15255"/>
                </a:cubicBezTo>
                <a:cubicBezTo>
                  <a:pt x="5759" y="15099"/>
                  <a:pt x="5840" y="14948"/>
                  <a:pt x="6003" y="15131"/>
                </a:cubicBezTo>
                <a:cubicBezTo>
                  <a:pt x="6019" y="15164"/>
                  <a:pt x="6036" y="15197"/>
                  <a:pt x="6052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3640" y="5295960"/>
            <a:ext cx="90360" cy="152280"/>
          </a:xfrm>
          <a:custGeom>
            <a:avLst/>
            <a:gdLst/>
            <a:ahLst/>
            <a:rect l="l" t="t" r="r" b="b"/>
            <a:pathLst>
              <a:path w="249" h="423">
                <a:moveTo>
                  <a:pt x="6598" y="14709"/>
                </a:moveTo>
                <a:cubicBezTo>
                  <a:pt x="6530" y="14738"/>
                  <a:pt x="6482" y="14761"/>
                  <a:pt x="6424" y="14808"/>
                </a:cubicBezTo>
                <a:cubicBezTo>
                  <a:pt x="6550" y="14917"/>
                  <a:pt x="6608" y="14932"/>
                  <a:pt x="6648" y="15081"/>
                </a:cubicBezTo>
                <a:cubicBezTo>
                  <a:pt x="6505" y="15135"/>
                  <a:pt x="6294" y="15154"/>
                  <a:pt x="6449" y="14908"/>
                </a:cubicBezTo>
                <a:cubicBezTo>
                  <a:pt x="6553" y="14804"/>
                  <a:pt x="6578" y="14786"/>
                  <a:pt x="6623" y="14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46160" y="5715000"/>
            <a:ext cx="19080" cy="160200"/>
          </a:xfrm>
          <a:custGeom>
            <a:avLst/>
            <a:gdLst/>
            <a:ahLst/>
            <a:rect l="l" t="t" r="r" b="b"/>
            <a:pathLst>
              <a:path w="51" h="447">
                <a:moveTo>
                  <a:pt x="5432" y="15875"/>
                </a:moveTo>
                <a:cubicBezTo>
                  <a:pt x="5450" y="16003"/>
                  <a:pt x="5457" y="16142"/>
                  <a:pt x="5432" y="16272"/>
                </a:cubicBezTo>
                <a:cubicBezTo>
                  <a:pt x="5412" y="16312"/>
                  <a:pt x="5403" y="16338"/>
                  <a:pt x="5407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5320" y="5643720"/>
            <a:ext cx="392400" cy="339480"/>
          </a:xfrm>
          <a:custGeom>
            <a:avLst/>
            <a:gdLst/>
            <a:ahLst/>
            <a:rect l="l" t="t" r="r" b="b"/>
            <a:pathLst>
              <a:path w="1092" h="943">
                <a:moveTo>
                  <a:pt x="5159" y="16446"/>
                </a:moveTo>
                <a:cubicBezTo>
                  <a:pt x="5375" y="16649"/>
                  <a:pt x="5528" y="16664"/>
                  <a:pt x="5804" y="16495"/>
                </a:cubicBezTo>
                <a:cubicBezTo>
                  <a:pt x="6026" y="16359"/>
                  <a:pt x="6145" y="16123"/>
                  <a:pt x="6028" y="15875"/>
                </a:cubicBezTo>
                <a:cubicBezTo>
                  <a:pt x="5911" y="15628"/>
                  <a:pt x="5548" y="15630"/>
                  <a:pt x="5333" y="15726"/>
                </a:cubicBezTo>
                <a:cubicBezTo>
                  <a:pt x="5004" y="15874"/>
                  <a:pt x="4899" y="16154"/>
                  <a:pt x="5060" y="16470"/>
                </a:cubicBezTo>
                <a:cubicBezTo>
                  <a:pt x="5152" y="16586"/>
                  <a:pt x="5175" y="16625"/>
                  <a:pt x="5283" y="16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5320" y="5537160"/>
            <a:ext cx="339840" cy="133560"/>
          </a:xfrm>
          <a:custGeom>
            <a:avLst/>
            <a:gdLst/>
            <a:ahLst/>
            <a:rect l="l" t="t" r="r" b="b"/>
            <a:pathLst>
              <a:path w="943" h="373">
                <a:moveTo>
                  <a:pt x="4986" y="15577"/>
                </a:moveTo>
                <a:cubicBezTo>
                  <a:pt x="5017" y="15587"/>
                  <a:pt x="5028" y="15654"/>
                  <a:pt x="5035" y="15701"/>
                </a:cubicBezTo>
                <a:cubicBezTo>
                  <a:pt x="5053" y="15828"/>
                  <a:pt x="5313" y="15668"/>
                  <a:pt x="5383" y="15652"/>
                </a:cubicBezTo>
                <a:cubicBezTo>
                  <a:pt x="5551" y="15613"/>
                  <a:pt x="5774" y="15547"/>
                  <a:pt x="5928" y="15652"/>
                </a:cubicBezTo>
                <a:cubicBezTo>
                  <a:pt x="5918" y="15556"/>
                  <a:pt x="5909" y="15481"/>
                  <a:pt x="5904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9144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1 </a:t>
            </a:r>
            <a:r>
              <a:rPr b="0" lang="en-US" sz="3600" spc="-1" strike="noStrike">
                <a:solidFill>
                  <a:srgbClr val="f6fcac"/>
                </a:solidFill>
                <a:latin typeface="Times New Roman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6fcac"/>
                </a:solidFill>
                <a:latin typeface="Times New Roman"/>
              </a:rPr>
              <a:t>September 13, 2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61760" y="320004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Objective:  Students will interpret and write a rule for a one-operation function t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99cc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8916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582" y="14163"/>
                </a:moveTo>
                <a:lnTo>
                  <a:pt x="8582" y="1416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89160" y="4867200"/>
            <a:ext cx="2751120" cy="293760"/>
          </a:xfrm>
          <a:custGeom>
            <a:avLst/>
            <a:gdLst/>
            <a:ahLst/>
            <a:rect l="l" t="t" r="r" b="b"/>
            <a:pathLst>
              <a:path w="7641" h="819">
                <a:moveTo>
                  <a:pt x="8607" y="13519"/>
                </a:moveTo>
                <a:cubicBezTo>
                  <a:pt x="8627" y="13697"/>
                  <a:pt x="8519" y="13777"/>
                  <a:pt x="8731" y="13891"/>
                </a:cubicBezTo>
                <a:cubicBezTo>
                  <a:pt x="8910" y="13987"/>
                  <a:pt x="9062" y="13868"/>
                  <a:pt x="9203" y="13791"/>
                </a:cubicBezTo>
                <a:cubicBezTo>
                  <a:pt x="9245" y="13962"/>
                  <a:pt x="9118" y="13977"/>
                  <a:pt x="9376" y="14039"/>
                </a:cubicBezTo>
                <a:cubicBezTo>
                  <a:pt x="9555" y="14082"/>
                  <a:pt x="9672" y="13975"/>
                  <a:pt x="9798" y="13891"/>
                </a:cubicBezTo>
                <a:cubicBezTo>
                  <a:pt x="9924" y="14095"/>
                  <a:pt x="9969" y="14137"/>
                  <a:pt x="10269" y="14114"/>
                </a:cubicBezTo>
                <a:cubicBezTo>
                  <a:pt x="10403" y="14104"/>
                  <a:pt x="10683" y="13969"/>
                  <a:pt x="10815" y="13990"/>
                </a:cubicBezTo>
                <a:cubicBezTo>
                  <a:pt x="11076" y="14031"/>
                  <a:pt x="11178" y="14185"/>
                  <a:pt x="11509" y="14114"/>
                </a:cubicBezTo>
                <a:cubicBezTo>
                  <a:pt x="11709" y="14071"/>
                  <a:pt x="11795" y="14000"/>
                  <a:pt x="11956" y="13915"/>
                </a:cubicBezTo>
                <a:cubicBezTo>
                  <a:pt x="12040" y="14124"/>
                  <a:pt x="11865" y="14107"/>
                  <a:pt x="12204" y="14163"/>
                </a:cubicBezTo>
                <a:cubicBezTo>
                  <a:pt x="12436" y="14201"/>
                  <a:pt x="12562" y="14077"/>
                  <a:pt x="12725" y="13990"/>
                </a:cubicBezTo>
                <a:cubicBezTo>
                  <a:pt x="12733" y="13990"/>
                  <a:pt x="12742" y="13990"/>
                  <a:pt x="12750" y="13990"/>
                </a:cubicBezTo>
                <a:cubicBezTo>
                  <a:pt x="12839" y="14234"/>
                  <a:pt x="12962" y="14279"/>
                  <a:pt x="13246" y="14213"/>
                </a:cubicBezTo>
                <a:cubicBezTo>
                  <a:pt x="13514" y="14151"/>
                  <a:pt x="13467" y="14109"/>
                  <a:pt x="13643" y="14163"/>
                </a:cubicBezTo>
                <a:cubicBezTo>
                  <a:pt x="13976" y="14266"/>
                  <a:pt x="14159" y="14384"/>
                  <a:pt x="14536" y="14238"/>
                </a:cubicBezTo>
                <a:cubicBezTo>
                  <a:pt x="14585" y="14205"/>
                  <a:pt x="14635" y="14172"/>
                  <a:pt x="14684" y="14139"/>
                </a:cubicBezTo>
                <a:cubicBezTo>
                  <a:pt x="14728" y="14219"/>
                  <a:pt x="14725" y="14273"/>
                  <a:pt x="14808" y="14312"/>
                </a:cubicBezTo>
                <a:cubicBezTo>
                  <a:pt x="15101" y="14448"/>
                  <a:pt x="15201" y="14080"/>
                  <a:pt x="15379" y="14089"/>
                </a:cubicBezTo>
                <a:cubicBezTo>
                  <a:pt x="15462" y="14093"/>
                  <a:pt x="15612" y="14283"/>
                  <a:pt x="15825" y="14238"/>
                </a:cubicBezTo>
                <a:cubicBezTo>
                  <a:pt x="15992" y="14202"/>
                  <a:pt x="16093" y="14034"/>
                  <a:pt x="16222" y="14015"/>
                </a:cubicBezTo>
                <a:cubicBezTo>
                  <a:pt x="16246" y="14011"/>
                  <a:pt x="16198" y="14084"/>
                  <a:pt x="16222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 interpre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nd write a rule for a one-operation function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Rule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Input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Output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43160" y="4952880"/>
            <a:ext cx="2857680" cy="1552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27200" y="1893960"/>
            <a:ext cx="6276960" cy="677880"/>
          </a:xfrm>
          <a:custGeom>
            <a:avLst/>
            <a:gdLst/>
            <a:ahLst/>
            <a:rect l="l" t="t" r="r" b="b"/>
            <a:pathLst>
              <a:path w="17438" h="1886">
                <a:moveTo>
                  <a:pt x="7020" y="6598"/>
                </a:moveTo>
                <a:cubicBezTo>
                  <a:pt x="7099" y="6782"/>
                  <a:pt x="7175" y="6969"/>
                  <a:pt x="7268" y="7144"/>
                </a:cubicBezTo>
              </a:path>
              <a:path w="17438" h="1886">
                <a:moveTo>
                  <a:pt x="11485" y="6350"/>
                </a:moveTo>
                <a:cubicBezTo>
                  <a:pt x="11533" y="6575"/>
                  <a:pt x="11602" y="6780"/>
                  <a:pt x="11683" y="6995"/>
                </a:cubicBezTo>
              </a:path>
              <a:path w="17438" h="1886">
                <a:moveTo>
                  <a:pt x="15627" y="5854"/>
                </a:moveTo>
                <a:cubicBezTo>
                  <a:pt x="15533" y="6182"/>
                  <a:pt x="15309" y="6683"/>
                  <a:pt x="15652" y="6945"/>
                </a:cubicBezTo>
                <a:cubicBezTo>
                  <a:pt x="15693" y="6953"/>
                  <a:pt x="15735" y="6962"/>
                  <a:pt x="15776" y="6970"/>
                </a:cubicBezTo>
              </a:path>
              <a:path w="17438" h="1886">
                <a:moveTo>
                  <a:pt x="22696" y="5705"/>
                </a:moveTo>
                <a:cubicBezTo>
                  <a:pt x="22730" y="5929"/>
                  <a:pt x="22773" y="6135"/>
                  <a:pt x="22845" y="6350"/>
                </a:cubicBezTo>
              </a:path>
              <a:path w="17438" h="1886">
                <a:moveTo>
                  <a:pt x="23093" y="5680"/>
                </a:moveTo>
                <a:lnTo>
                  <a:pt x="23093" y="5680"/>
                </a:lnTo>
              </a:path>
              <a:path w="17438" h="1886">
                <a:moveTo>
                  <a:pt x="24036" y="5259"/>
                </a:moveTo>
                <a:cubicBezTo>
                  <a:pt x="24180" y="5454"/>
                  <a:pt x="24331" y="5724"/>
                  <a:pt x="24408" y="5978"/>
                </a:cubicBezTo>
                <a:cubicBezTo>
                  <a:pt x="24508" y="6305"/>
                  <a:pt x="24427" y="6511"/>
                  <a:pt x="24160" y="6697"/>
                </a:cubicBezTo>
                <a:cubicBezTo>
                  <a:pt x="24143" y="6705"/>
                  <a:pt x="24127" y="6714"/>
                  <a:pt x="24110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28880" y="2401920"/>
            <a:ext cx="785880" cy="241200"/>
          </a:xfrm>
          <a:custGeom>
            <a:avLst/>
            <a:gdLst/>
            <a:ahLst/>
            <a:rect l="l" t="t" r="r" b="b"/>
            <a:pathLst>
              <a:path w="2184" h="671">
                <a:moveTo>
                  <a:pt x="5383" y="6970"/>
                </a:moveTo>
                <a:cubicBezTo>
                  <a:pt x="5349" y="6867"/>
                  <a:pt x="5361" y="7112"/>
                  <a:pt x="5383" y="7218"/>
                </a:cubicBezTo>
                <a:cubicBezTo>
                  <a:pt x="5391" y="7243"/>
                  <a:pt x="5399" y="7268"/>
                  <a:pt x="5407" y="7293"/>
                </a:cubicBezTo>
                <a:cubicBezTo>
                  <a:pt x="5491" y="7272"/>
                  <a:pt x="5476" y="7174"/>
                  <a:pt x="5531" y="7119"/>
                </a:cubicBezTo>
                <a:cubicBezTo>
                  <a:pt x="5596" y="7053"/>
                  <a:pt x="5614" y="7286"/>
                  <a:pt x="5705" y="7268"/>
                </a:cubicBezTo>
                <a:cubicBezTo>
                  <a:pt x="5887" y="7231"/>
                  <a:pt x="5880" y="7076"/>
                  <a:pt x="5730" y="7020"/>
                </a:cubicBezTo>
                <a:cubicBezTo>
                  <a:pt x="5722" y="7020"/>
                  <a:pt x="5713" y="7020"/>
                  <a:pt x="5705" y="7020"/>
                </a:cubicBezTo>
              </a:path>
              <a:path w="2184" h="671">
                <a:moveTo>
                  <a:pt x="5879" y="6672"/>
                </a:moveTo>
                <a:cubicBezTo>
                  <a:pt x="5902" y="6766"/>
                  <a:pt x="6054" y="7140"/>
                  <a:pt x="6028" y="7218"/>
                </a:cubicBezTo>
                <a:cubicBezTo>
                  <a:pt x="6020" y="7210"/>
                  <a:pt x="6011" y="7201"/>
                  <a:pt x="6003" y="7193"/>
                </a:cubicBezTo>
                <a:cubicBezTo>
                  <a:pt x="5962" y="7057"/>
                  <a:pt x="5971" y="6920"/>
                  <a:pt x="6152" y="6896"/>
                </a:cubicBezTo>
                <a:cubicBezTo>
                  <a:pt x="6353" y="6869"/>
                  <a:pt x="6379" y="7164"/>
                  <a:pt x="6400" y="7293"/>
                </a:cubicBezTo>
                <a:cubicBezTo>
                  <a:pt x="6400" y="7351"/>
                  <a:pt x="6433" y="7353"/>
                  <a:pt x="6524" y="7293"/>
                </a:cubicBezTo>
              </a:path>
              <a:path w="2184" h="671">
                <a:moveTo>
                  <a:pt x="6896" y="7094"/>
                </a:moveTo>
                <a:cubicBezTo>
                  <a:pt x="6777" y="7000"/>
                  <a:pt x="6648" y="6938"/>
                  <a:pt x="6548" y="7119"/>
                </a:cubicBezTo>
                <a:cubicBezTo>
                  <a:pt x="6432" y="7329"/>
                  <a:pt x="6695" y="7419"/>
                  <a:pt x="6796" y="7218"/>
                </a:cubicBezTo>
                <a:cubicBezTo>
                  <a:pt x="6814" y="7127"/>
                  <a:pt x="6823" y="7120"/>
                  <a:pt x="6821" y="7069"/>
                </a:cubicBezTo>
                <a:cubicBezTo>
                  <a:pt x="6834" y="7161"/>
                  <a:pt x="6888" y="7337"/>
                  <a:pt x="7020" y="7243"/>
                </a:cubicBezTo>
                <a:cubicBezTo>
                  <a:pt x="7045" y="7210"/>
                  <a:pt x="7069" y="7177"/>
                  <a:pt x="7094" y="7144"/>
                </a:cubicBezTo>
              </a:path>
              <a:path w="2184" h="671">
                <a:moveTo>
                  <a:pt x="6896" y="6871"/>
                </a:moveTo>
                <a:cubicBezTo>
                  <a:pt x="7113" y="6831"/>
                  <a:pt x="7321" y="6804"/>
                  <a:pt x="7541" y="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74960" y="2401920"/>
            <a:ext cx="430200" cy="339840"/>
          </a:xfrm>
          <a:custGeom>
            <a:avLst/>
            <a:gdLst/>
            <a:ahLst/>
            <a:rect l="l" t="t" r="r" b="b"/>
            <a:pathLst>
              <a:path w="1192" h="944">
                <a:moveTo>
                  <a:pt x="7987" y="6747"/>
                </a:moveTo>
                <a:cubicBezTo>
                  <a:pt x="8009" y="6816"/>
                  <a:pt x="8116" y="7137"/>
                  <a:pt x="8235" y="6945"/>
                </a:cubicBezTo>
                <a:cubicBezTo>
                  <a:pt x="8258" y="6829"/>
                  <a:pt x="8265" y="6796"/>
                  <a:pt x="8285" y="6722"/>
                </a:cubicBezTo>
                <a:cubicBezTo>
                  <a:pt x="8414" y="6937"/>
                  <a:pt x="8713" y="7261"/>
                  <a:pt x="8508" y="7516"/>
                </a:cubicBezTo>
                <a:cubicBezTo>
                  <a:pt x="8328" y="7740"/>
                  <a:pt x="8154" y="7575"/>
                  <a:pt x="8012" y="7466"/>
                </a:cubicBezTo>
                <a:cubicBezTo>
                  <a:pt x="8104" y="7200"/>
                  <a:pt x="8190" y="7138"/>
                  <a:pt x="8409" y="6945"/>
                </a:cubicBezTo>
              </a:path>
              <a:path w="1192" h="944">
                <a:moveTo>
                  <a:pt x="8632" y="6722"/>
                </a:moveTo>
                <a:cubicBezTo>
                  <a:pt x="8538" y="6874"/>
                  <a:pt x="8509" y="6892"/>
                  <a:pt x="8533" y="7069"/>
                </a:cubicBezTo>
                <a:cubicBezTo>
                  <a:pt x="8678" y="7033"/>
                  <a:pt x="8897" y="6899"/>
                  <a:pt x="8706" y="6722"/>
                </a:cubicBezTo>
                <a:cubicBezTo>
                  <a:pt x="8622" y="6701"/>
                  <a:pt x="8603" y="6685"/>
                  <a:pt x="8558" y="6722"/>
                </a:cubicBezTo>
              </a:path>
              <a:path w="1192" h="944">
                <a:moveTo>
                  <a:pt x="8905" y="6672"/>
                </a:moveTo>
                <a:cubicBezTo>
                  <a:pt x="8914" y="6715"/>
                  <a:pt x="8938" y="7017"/>
                  <a:pt x="9004" y="6945"/>
                </a:cubicBezTo>
                <a:cubicBezTo>
                  <a:pt x="9079" y="6846"/>
                  <a:pt x="9104" y="6813"/>
                  <a:pt x="9079" y="6722"/>
                </a:cubicBezTo>
                <a:cubicBezTo>
                  <a:pt x="8979" y="6722"/>
                  <a:pt x="9122" y="6909"/>
                  <a:pt x="9178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10000" y="2286000"/>
            <a:ext cx="347760" cy="250920"/>
          </a:xfrm>
          <a:custGeom>
            <a:avLst/>
            <a:gdLst/>
            <a:ahLst/>
            <a:rect l="l" t="t" r="r" b="b"/>
            <a:pathLst>
              <a:path w="969" h="696">
                <a:moveTo>
                  <a:pt x="10145" y="6772"/>
                </a:moveTo>
                <a:cubicBezTo>
                  <a:pt x="10122" y="6655"/>
                  <a:pt x="10007" y="6543"/>
                  <a:pt x="9872" y="6573"/>
                </a:cubicBezTo>
                <a:cubicBezTo>
                  <a:pt x="9702" y="6610"/>
                  <a:pt x="9769" y="6890"/>
                  <a:pt x="9773" y="6995"/>
                </a:cubicBezTo>
                <a:cubicBezTo>
                  <a:pt x="10055" y="7008"/>
                  <a:pt x="10017" y="6956"/>
                  <a:pt x="10170" y="6697"/>
                </a:cubicBezTo>
              </a:path>
              <a:path w="969" h="696">
                <a:moveTo>
                  <a:pt x="9971" y="6350"/>
                </a:moveTo>
                <a:cubicBezTo>
                  <a:pt x="10015" y="6546"/>
                  <a:pt x="10087" y="6788"/>
                  <a:pt x="10170" y="6970"/>
                </a:cubicBezTo>
                <a:cubicBezTo>
                  <a:pt x="10224" y="7024"/>
                  <a:pt x="10245" y="7036"/>
                  <a:pt x="10269" y="6945"/>
                </a:cubicBezTo>
              </a:path>
              <a:path w="969" h="696">
                <a:moveTo>
                  <a:pt x="10418" y="6598"/>
                </a:moveTo>
                <a:cubicBezTo>
                  <a:pt x="10384" y="6735"/>
                  <a:pt x="10282" y="7067"/>
                  <a:pt x="10567" y="6995"/>
                </a:cubicBezTo>
                <a:cubicBezTo>
                  <a:pt x="10693" y="6920"/>
                  <a:pt x="10735" y="6893"/>
                  <a:pt x="10716" y="6772"/>
                </a:cubicBezTo>
                <a:cubicBezTo>
                  <a:pt x="10576" y="6651"/>
                  <a:pt x="10588" y="6668"/>
                  <a:pt x="10393" y="6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62240" y="2394000"/>
            <a:ext cx="339840" cy="106200"/>
          </a:xfrm>
          <a:custGeom>
            <a:avLst/>
            <a:gdLst/>
            <a:ahLst/>
            <a:rect l="l" t="t" r="r" b="b"/>
            <a:pathLst>
              <a:path w="944" h="298">
                <a:moveTo>
                  <a:pt x="11286" y="6722"/>
                </a:moveTo>
                <a:cubicBezTo>
                  <a:pt x="11484" y="6722"/>
                  <a:pt x="11663" y="6691"/>
                  <a:pt x="11857" y="6672"/>
                </a:cubicBezTo>
                <a:cubicBezTo>
                  <a:pt x="11857" y="6794"/>
                  <a:pt x="11793" y="6933"/>
                  <a:pt x="11956" y="6945"/>
                </a:cubicBezTo>
                <a:cubicBezTo>
                  <a:pt x="12141" y="6959"/>
                  <a:pt x="12385" y="6712"/>
                  <a:pt x="12105" y="6648"/>
                </a:cubicBezTo>
                <a:cubicBezTo>
                  <a:pt x="11955" y="6648"/>
                  <a:pt x="11920" y="6642"/>
                  <a:pt x="11832" y="6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06920" y="2187720"/>
            <a:ext cx="706320" cy="277560"/>
          </a:xfrm>
          <a:custGeom>
            <a:avLst/>
            <a:gdLst/>
            <a:ahLst/>
            <a:rect l="l" t="t" r="r" b="b"/>
            <a:pathLst>
              <a:path w="1961" h="770">
                <a:moveTo>
                  <a:pt x="12874" y="6499"/>
                </a:moveTo>
                <a:cubicBezTo>
                  <a:pt x="12810" y="6541"/>
                  <a:pt x="12785" y="6544"/>
                  <a:pt x="12799" y="6598"/>
                </a:cubicBezTo>
                <a:cubicBezTo>
                  <a:pt x="12952" y="6627"/>
                  <a:pt x="13097" y="6654"/>
                  <a:pt x="13246" y="6697"/>
                </a:cubicBezTo>
                <a:cubicBezTo>
                  <a:pt x="13163" y="6883"/>
                  <a:pt x="13025" y="6836"/>
                  <a:pt x="12849" y="6796"/>
                </a:cubicBezTo>
              </a:path>
              <a:path w="1961" h="770">
                <a:moveTo>
                  <a:pt x="13345" y="6474"/>
                </a:moveTo>
                <a:cubicBezTo>
                  <a:pt x="13272" y="6604"/>
                  <a:pt x="13215" y="6812"/>
                  <a:pt x="13469" y="6796"/>
                </a:cubicBezTo>
                <a:cubicBezTo>
                  <a:pt x="13601" y="6753"/>
                  <a:pt x="13646" y="6754"/>
                  <a:pt x="13643" y="6648"/>
                </a:cubicBezTo>
                <a:cubicBezTo>
                  <a:pt x="13557" y="6531"/>
                  <a:pt x="13540" y="6505"/>
                  <a:pt x="13395" y="6474"/>
                </a:cubicBezTo>
              </a:path>
              <a:path w="1961" h="770">
                <a:moveTo>
                  <a:pt x="13593" y="6077"/>
                </a:moveTo>
                <a:cubicBezTo>
                  <a:pt x="13653" y="6242"/>
                  <a:pt x="13734" y="6641"/>
                  <a:pt x="13891" y="6747"/>
                </a:cubicBezTo>
                <a:cubicBezTo>
                  <a:pt x="13899" y="6739"/>
                  <a:pt x="13907" y="6730"/>
                  <a:pt x="13915" y="6722"/>
                </a:cubicBezTo>
              </a:path>
              <a:path w="1961" h="770">
                <a:moveTo>
                  <a:pt x="14015" y="6449"/>
                </a:moveTo>
                <a:cubicBezTo>
                  <a:pt x="14102" y="6573"/>
                  <a:pt x="14185" y="6685"/>
                  <a:pt x="14288" y="6796"/>
                </a:cubicBezTo>
                <a:cubicBezTo>
                  <a:pt x="14307" y="6639"/>
                  <a:pt x="14306" y="6506"/>
                  <a:pt x="14288" y="6350"/>
                </a:cubicBezTo>
                <a:cubicBezTo>
                  <a:pt x="14288" y="6342"/>
                  <a:pt x="14288" y="6333"/>
                  <a:pt x="14288" y="6325"/>
                </a:cubicBezTo>
              </a:path>
              <a:path w="1961" h="770">
                <a:moveTo>
                  <a:pt x="14585" y="6548"/>
                </a:moveTo>
                <a:cubicBezTo>
                  <a:pt x="14610" y="6467"/>
                  <a:pt x="14609" y="6431"/>
                  <a:pt x="14585" y="6350"/>
                </a:cubicBezTo>
                <a:cubicBezTo>
                  <a:pt x="14465" y="6404"/>
                  <a:pt x="14366" y="6562"/>
                  <a:pt x="14486" y="6697"/>
                </a:cubicBezTo>
                <a:cubicBezTo>
                  <a:pt x="14612" y="6760"/>
                  <a:pt x="14670" y="6762"/>
                  <a:pt x="14759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99080" y="2133720"/>
            <a:ext cx="1197000" cy="277560"/>
          </a:xfrm>
          <a:custGeom>
            <a:avLst/>
            <a:gdLst/>
            <a:ahLst/>
            <a:rect l="l" t="t" r="r" b="b"/>
            <a:pathLst>
              <a:path w="3324" h="770">
                <a:moveTo>
                  <a:pt x="15553" y="6325"/>
                </a:moveTo>
                <a:cubicBezTo>
                  <a:pt x="15616" y="6415"/>
                  <a:pt x="15673" y="6501"/>
                  <a:pt x="15726" y="6598"/>
                </a:cubicBezTo>
                <a:cubicBezTo>
                  <a:pt x="15726" y="6677"/>
                  <a:pt x="15684" y="6503"/>
                  <a:pt x="15677" y="6424"/>
                </a:cubicBezTo>
                <a:cubicBezTo>
                  <a:pt x="15677" y="6315"/>
                  <a:pt x="15672" y="6289"/>
                  <a:pt x="15701" y="6226"/>
                </a:cubicBezTo>
                <a:cubicBezTo>
                  <a:pt x="15882" y="6262"/>
                  <a:pt x="15975" y="6378"/>
                  <a:pt x="16049" y="6548"/>
                </a:cubicBezTo>
                <a:cubicBezTo>
                  <a:pt x="16073" y="6602"/>
                  <a:pt x="16073" y="6731"/>
                  <a:pt x="16073" y="6672"/>
                </a:cubicBezTo>
              </a:path>
              <a:path w="3324" h="770">
                <a:moveTo>
                  <a:pt x="16098" y="6276"/>
                </a:moveTo>
                <a:cubicBezTo>
                  <a:pt x="16112" y="6330"/>
                  <a:pt x="16155" y="6600"/>
                  <a:pt x="16222" y="6623"/>
                </a:cubicBezTo>
                <a:cubicBezTo>
                  <a:pt x="16379" y="6676"/>
                  <a:pt x="16380" y="6397"/>
                  <a:pt x="16396" y="6325"/>
                </a:cubicBezTo>
                <a:cubicBezTo>
                  <a:pt x="16345" y="6242"/>
                  <a:pt x="16408" y="6409"/>
                  <a:pt x="16446" y="6499"/>
                </a:cubicBezTo>
                <a:cubicBezTo>
                  <a:pt x="16489" y="6586"/>
                  <a:pt x="16496" y="6628"/>
                  <a:pt x="16545" y="6548"/>
                </a:cubicBezTo>
              </a:path>
              <a:path w="3324" h="770">
                <a:moveTo>
                  <a:pt x="16570" y="6350"/>
                </a:moveTo>
                <a:cubicBezTo>
                  <a:pt x="16590" y="6475"/>
                  <a:pt x="16590" y="6502"/>
                  <a:pt x="16619" y="6573"/>
                </a:cubicBezTo>
                <a:cubicBezTo>
                  <a:pt x="16619" y="6493"/>
                  <a:pt x="16591" y="6352"/>
                  <a:pt x="16694" y="6325"/>
                </a:cubicBezTo>
                <a:cubicBezTo>
                  <a:pt x="16869" y="6280"/>
                  <a:pt x="16920" y="6500"/>
                  <a:pt x="16942" y="6623"/>
                </a:cubicBezTo>
                <a:cubicBezTo>
                  <a:pt x="16960" y="6491"/>
                  <a:pt x="16993" y="6374"/>
                  <a:pt x="17041" y="6251"/>
                </a:cubicBezTo>
                <a:cubicBezTo>
                  <a:pt x="17114" y="6342"/>
                  <a:pt x="17166" y="6569"/>
                  <a:pt x="17239" y="6623"/>
                </a:cubicBezTo>
                <a:cubicBezTo>
                  <a:pt x="17239" y="6615"/>
                  <a:pt x="17239" y="6606"/>
                  <a:pt x="17239" y="6598"/>
                </a:cubicBezTo>
              </a:path>
              <a:path w="3324" h="770">
                <a:moveTo>
                  <a:pt x="17214" y="5928"/>
                </a:moveTo>
                <a:cubicBezTo>
                  <a:pt x="17299" y="6139"/>
                  <a:pt x="17360" y="6352"/>
                  <a:pt x="17413" y="6573"/>
                </a:cubicBezTo>
                <a:cubicBezTo>
                  <a:pt x="17434" y="6518"/>
                  <a:pt x="17427" y="6170"/>
                  <a:pt x="17562" y="6226"/>
                </a:cubicBezTo>
                <a:cubicBezTo>
                  <a:pt x="17718" y="6291"/>
                  <a:pt x="17806" y="6667"/>
                  <a:pt x="17562" y="6648"/>
                </a:cubicBezTo>
                <a:cubicBezTo>
                  <a:pt x="17438" y="6598"/>
                  <a:pt x="17397" y="6581"/>
                  <a:pt x="17388" y="6474"/>
                </a:cubicBezTo>
              </a:path>
              <a:path w="3324" h="770">
                <a:moveTo>
                  <a:pt x="17735" y="6424"/>
                </a:moveTo>
                <a:cubicBezTo>
                  <a:pt x="17854" y="6410"/>
                  <a:pt x="17971" y="6388"/>
                  <a:pt x="18083" y="6350"/>
                </a:cubicBezTo>
                <a:cubicBezTo>
                  <a:pt x="17949" y="6202"/>
                  <a:pt x="17821" y="6276"/>
                  <a:pt x="17785" y="6499"/>
                </a:cubicBezTo>
                <a:cubicBezTo>
                  <a:pt x="17728" y="6851"/>
                  <a:pt x="18175" y="6494"/>
                  <a:pt x="18231" y="6449"/>
                </a:cubicBezTo>
              </a:path>
              <a:path w="3324" h="770">
                <a:moveTo>
                  <a:pt x="18306" y="6375"/>
                </a:moveTo>
                <a:cubicBezTo>
                  <a:pt x="18306" y="6476"/>
                  <a:pt x="18296" y="6497"/>
                  <a:pt x="18331" y="6548"/>
                </a:cubicBezTo>
                <a:cubicBezTo>
                  <a:pt x="18307" y="6408"/>
                  <a:pt x="18281" y="6290"/>
                  <a:pt x="18355" y="6152"/>
                </a:cubicBezTo>
                <a:cubicBezTo>
                  <a:pt x="18441" y="6066"/>
                  <a:pt x="18480" y="6039"/>
                  <a:pt x="18579" y="6052"/>
                </a:cubicBezTo>
              </a:path>
              <a:path w="3324" h="770">
                <a:moveTo>
                  <a:pt x="18777" y="6052"/>
                </a:moveTo>
                <a:cubicBezTo>
                  <a:pt x="18716" y="6083"/>
                  <a:pt x="18654" y="6137"/>
                  <a:pt x="18628" y="6201"/>
                </a:cubicBezTo>
                <a:cubicBezTo>
                  <a:pt x="18727" y="6236"/>
                  <a:pt x="18966" y="6287"/>
                  <a:pt x="18852" y="6449"/>
                </a:cubicBezTo>
                <a:cubicBezTo>
                  <a:pt x="18752" y="6524"/>
                  <a:pt x="18719" y="6549"/>
                  <a:pt x="18653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00920" y="2098800"/>
            <a:ext cx="1714320" cy="330120"/>
          </a:xfrm>
          <a:custGeom>
            <a:avLst/>
            <a:gdLst/>
            <a:ahLst/>
            <a:rect l="l" t="t" r="r" b="b"/>
            <a:pathLst>
              <a:path w="4763" h="919">
                <a:moveTo>
                  <a:pt x="19670" y="6152"/>
                </a:moveTo>
                <a:cubicBezTo>
                  <a:pt x="19687" y="6322"/>
                  <a:pt x="19631" y="6152"/>
                  <a:pt x="19472" y="6152"/>
                </a:cubicBezTo>
                <a:cubicBezTo>
                  <a:pt x="19443" y="6180"/>
                  <a:pt x="19435" y="6193"/>
                  <a:pt x="19447" y="6226"/>
                </a:cubicBezTo>
                <a:cubicBezTo>
                  <a:pt x="19631" y="6206"/>
                  <a:pt x="19772" y="6146"/>
                  <a:pt x="19943" y="6077"/>
                </a:cubicBezTo>
              </a:path>
              <a:path w="4763" h="919">
                <a:moveTo>
                  <a:pt x="20489" y="6003"/>
                </a:moveTo>
                <a:cubicBezTo>
                  <a:pt x="20371" y="6128"/>
                  <a:pt x="20337" y="6204"/>
                  <a:pt x="20290" y="6375"/>
                </a:cubicBezTo>
                <a:cubicBezTo>
                  <a:pt x="20426" y="6412"/>
                  <a:pt x="20682" y="6443"/>
                  <a:pt x="20662" y="6201"/>
                </a:cubicBezTo>
                <a:cubicBezTo>
                  <a:pt x="20618" y="6111"/>
                  <a:pt x="20611" y="6082"/>
                  <a:pt x="20538" y="6077"/>
                </a:cubicBezTo>
              </a:path>
              <a:path w="4763" h="919">
                <a:moveTo>
                  <a:pt x="20836" y="6276"/>
                </a:moveTo>
                <a:cubicBezTo>
                  <a:pt x="20868" y="6366"/>
                  <a:pt x="21020" y="6722"/>
                  <a:pt x="20985" y="6722"/>
                </a:cubicBezTo>
                <a:cubicBezTo>
                  <a:pt x="20886" y="6574"/>
                  <a:pt x="20728" y="6290"/>
                  <a:pt x="20811" y="6102"/>
                </a:cubicBezTo>
                <a:cubicBezTo>
                  <a:pt x="20861" y="6061"/>
                  <a:pt x="20910" y="6019"/>
                  <a:pt x="20960" y="5978"/>
                </a:cubicBezTo>
                <a:cubicBezTo>
                  <a:pt x="21068" y="6050"/>
                  <a:pt x="21424" y="6352"/>
                  <a:pt x="21059" y="6424"/>
                </a:cubicBezTo>
                <a:cubicBezTo>
                  <a:pt x="21009" y="6416"/>
                  <a:pt x="20960" y="6408"/>
                  <a:pt x="20910" y="6400"/>
                </a:cubicBezTo>
              </a:path>
              <a:path w="4763" h="919">
                <a:moveTo>
                  <a:pt x="21282" y="6176"/>
                </a:moveTo>
                <a:cubicBezTo>
                  <a:pt x="21367" y="6172"/>
                  <a:pt x="21563" y="6190"/>
                  <a:pt x="21605" y="6127"/>
                </a:cubicBezTo>
                <a:cubicBezTo>
                  <a:pt x="21464" y="5996"/>
                  <a:pt x="21466" y="5987"/>
                  <a:pt x="21282" y="6028"/>
                </a:cubicBezTo>
                <a:cubicBezTo>
                  <a:pt x="21273" y="6242"/>
                  <a:pt x="21308" y="6475"/>
                  <a:pt x="21605" y="6375"/>
                </a:cubicBezTo>
                <a:cubicBezTo>
                  <a:pt x="21655" y="6342"/>
                  <a:pt x="21704" y="6309"/>
                  <a:pt x="21754" y="6276"/>
                </a:cubicBezTo>
              </a:path>
              <a:path w="4763" h="919">
                <a:moveTo>
                  <a:pt x="21803" y="6152"/>
                </a:moveTo>
                <a:cubicBezTo>
                  <a:pt x="21823" y="6269"/>
                  <a:pt x="21817" y="6290"/>
                  <a:pt x="21853" y="6350"/>
                </a:cubicBezTo>
                <a:cubicBezTo>
                  <a:pt x="21819" y="6214"/>
                  <a:pt x="21783" y="6164"/>
                  <a:pt x="21853" y="6003"/>
                </a:cubicBezTo>
                <a:cubicBezTo>
                  <a:pt x="21932" y="5822"/>
                  <a:pt x="22001" y="5875"/>
                  <a:pt x="22151" y="5904"/>
                </a:cubicBezTo>
              </a:path>
              <a:path w="4763" h="919">
                <a:moveTo>
                  <a:pt x="22448" y="6102"/>
                </a:moveTo>
                <a:cubicBezTo>
                  <a:pt x="22448" y="6056"/>
                  <a:pt x="22436" y="6030"/>
                  <a:pt x="22399" y="6003"/>
                </a:cubicBezTo>
                <a:cubicBezTo>
                  <a:pt x="22267" y="6013"/>
                  <a:pt x="22048" y="6189"/>
                  <a:pt x="22175" y="6375"/>
                </a:cubicBezTo>
                <a:cubicBezTo>
                  <a:pt x="22240" y="6470"/>
                  <a:pt x="22341" y="6252"/>
                  <a:pt x="22399" y="6152"/>
                </a:cubicBezTo>
                <a:cubicBezTo>
                  <a:pt x="22432" y="6267"/>
                  <a:pt x="22527" y="6439"/>
                  <a:pt x="22671" y="6300"/>
                </a:cubicBezTo>
                <a:cubicBezTo>
                  <a:pt x="22696" y="6251"/>
                  <a:pt x="22721" y="6201"/>
                  <a:pt x="22746" y="6152"/>
                </a:cubicBezTo>
              </a:path>
              <a:path w="4763" h="919">
                <a:moveTo>
                  <a:pt x="22572" y="5978"/>
                </a:moveTo>
                <a:cubicBezTo>
                  <a:pt x="22687" y="5939"/>
                  <a:pt x="22895" y="5864"/>
                  <a:pt x="23019" y="5904"/>
                </a:cubicBezTo>
                <a:cubicBezTo>
                  <a:pt x="23145" y="5944"/>
                  <a:pt x="23118" y="6186"/>
                  <a:pt x="23118" y="6276"/>
                </a:cubicBezTo>
              </a:path>
              <a:path w="4763" h="919">
                <a:moveTo>
                  <a:pt x="23391" y="5879"/>
                </a:moveTo>
                <a:cubicBezTo>
                  <a:pt x="23269" y="5950"/>
                  <a:pt x="23152" y="6081"/>
                  <a:pt x="23292" y="6226"/>
                </a:cubicBezTo>
                <a:cubicBezTo>
                  <a:pt x="23447" y="6387"/>
                  <a:pt x="23636" y="6135"/>
                  <a:pt x="23589" y="5978"/>
                </a:cubicBezTo>
                <a:cubicBezTo>
                  <a:pt x="23519" y="5885"/>
                  <a:pt x="23502" y="5853"/>
                  <a:pt x="23416" y="5854"/>
                </a:cubicBezTo>
              </a:path>
              <a:path w="4763" h="919">
                <a:moveTo>
                  <a:pt x="23788" y="6176"/>
                </a:moveTo>
                <a:cubicBezTo>
                  <a:pt x="23804" y="6025"/>
                  <a:pt x="23828" y="5951"/>
                  <a:pt x="23912" y="5829"/>
                </a:cubicBezTo>
                <a:cubicBezTo>
                  <a:pt x="23945" y="5874"/>
                  <a:pt x="24040" y="6253"/>
                  <a:pt x="24160" y="6226"/>
                </a:cubicBezTo>
                <a:cubicBezTo>
                  <a:pt x="24176" y="6201"/>
                  <a:pt x="24193" y="6177"/>
                  <a:pt x="24209" y="6152"/>
                </a:cubicBezTo>
              </a:path>
              <a:path w="4763" h="919">
                <a:moveTo>
                  <a:pt x="19645" y="5978"/>
                </a:moveTo>
                <a:cubicBezTo>
                  <a:pt x="19645" y="5951"/>
                  <a:pt x="19699" y="6192"/>
                  <a:pt x="19720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55960" y="2963880"/>
            <a:ext cx="2295360" cy="250920"/>
          </a:xfrm>
          <a:custGeom>
            <a:avLst/>
            <a:gdLst/>
            <a:ahLst/>
            <a:rect l="l" t="t" r="r" b="b"/>
            <a:pathLst>
              <a:path w="6376" h="696">
                <a:moveTo>
                  <a:pt x="8558" y="8806"/>
                </a:moveTo>
                <a:cubicBezTo>
                  <a:pt x="8549" y="8741"/>
                  <a:pt x="8502" y="8559"/>
                  <a:pt x="8384" y="8632"/>
                </a:cubicBezTo>
                <a:cubicBezTo>
                  <a:pt x="8259" y="8757"/>
                  <a:pt x="8217" y="8800"/>
                  <a:pt x="8210" y="8930"/>
                </a:cubicBezTo>
              </a:path>
              <a:path w="6376" h="696">
                <a:moveTo>
                  <a:pt x="8210" y="8930"/>
                </a:moveTo>
                <a:lnTo>
                  <a:pt x="8210" y="8930"/>
                </a:lnTo>
              </a:path>
              <a:path w="6376" h="696">
                <a:moveTo>
                  <a:pt x="14560" y="8235"/>
                </a:moveTo>
                <a:cubicBezTo>
                  <a:pt x="14568" y="8235"/>
                  <a:pt x="14577" y="8235"/>
                  <a:pt x="14585" y="8235"/>
                </a:cubicBezTo>
              </a:path>
              <a:path w="6376" h="696">
                <a:moveTo>
                  <a:pt x="14585" y="8235"/>
                </a:moveTo>
                <a:lnTo>
                  <a:pt x="14585" y="823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25840" y="3009960"/>
            <a:ext cx="955440" cy="419040"/>
          </a:xfrm>
          <a:custGeom>
            <a:avLst/>
            <a:gdLst/>
            <a:ahLst/>
            <a:rect l="l" t="t" r="r" b="b"/>
            <a:pathLst>
              <a:path w="2655" h="1167">
                <a:moveTo>
                  <a:pt x="7615" y="8657"/>
                </a:moveTo>
                <a:cubicBezTo>
                  <a:pt x="7634" y="8714"/>
                  <a:pt x="7655" y="8661"/>
                  <a:pt x="7640" y="8632"/>
                </a:cubicBezTo>
                <a:cubicBezTo>
                  <a:pt x="7592" y="8561"/>
                  <a:pt x="7579" y="8538"/>
                  <a:pt x="7516" y="8533"/>
                </a:cubicBezTo>
                <a:cubicBezTo>
                  <a:pt x="7342" y="8640"/>
                  <a:pt x="7213" y="8858"/>
                  <a:pt x="7317" y="9079"/>
                </a:cubicBezTo>
                <a:cubicBezTo>
                  <a:pt x="7399" y="9253"/>
                  <a:pt x="7740" y="9098"/>
                  <a:pt x="7764" y="8954"/>
                </a:cubicBezTo>
                <a:cubicBezTo>
                  <a:pt x="7756" y="8888"/>
                  <a:pt x="7747" y="8822"/>
                  <a:pt x="7739" y="8756"/>
                </a:cubicBezTo>
              </a:path>
              <a:path w="2655" h="1167">
                <a:moveTo>
                  <a:pt x="7590" y="8359"/>
                </a:moveTo>
                <a:cubicBezTo>
                  <a:pt x="7642" y="8538"/>
                  <a:pt x="7728" y="8734"/>
                  <a:pt x="7813" y="8905"/>
                </a:cubicBezTo>
                <a:cubicBezTo>
                  <a:pt x="7846" y="8938"/>
                  <a:pt x="7846" y="8938"/>
                  <a:pt x="7789" y="8880"/>
                </a:cubicBezTo>
                <a:cubicBezTo>
                  <a:pt x="7770" y="8782"/>
                  <a:pt x="7689" y="8374"/>
                  <a:pt x="7962" y="8533"/>
                </a:cubicBezTo>
                <a:cubicBezTo>
                  <a:pt x="8137" y="8635"/>
                  <a:pt x="8141" y="8830"/>
                  <a:pt x="8161" y="9004"/>
                </a:cubicBezTo>
                <a:cubicBezTo>
                  <a:pt x="8161" y="8996"/>
                  <a:pt x="8161" y="8987"/>
                  <a:pt x="8161" y="8979"/>
                </a:cubicBezTo>
              </a:path>
              <a:path w="2655" h="1167">
                <a:moveTo>
                  <a:pt x="8359" y="8905"/>
                </a:moveTo>
                <a:cubicBezTo>
                  <a:pt x="8406" y="8874"/>
                  <a:pt x="8371" y="8841"/>
                  <a:pt x="8359" y="8781"/>
                </a:cubicBezTo>
                <a:cubicBezTo>
                  <a:pt x="8306" y="8781"/>
                  <a:pt x="8225" y="8759"/>
                  <a:pt x="8186" y="8806"/>
                </a:cubicBezTo>
                <a:cubicBezTo>
                  <a:pt x="8162" y="8835"/>
                  <a:pt x="8056" y="9080"/>
                  <a:pt x="8136" y="9103"/>
                </a:cubicBezTo>
                <a:cubicBezTo>
                  <a:pt x="8280" y="9144"/>
                  <a:pt x="8457" y="9008"/>
                  <a:pt x="8508" y="8880"/>
                </a:cubicBezTo>
                <a:cubicBezTo>
                  <a:pt x="8538" y="8805"/>
                  <a:pt x="8495" y="8793"/>
                  <a:pt x="8483" y="8756"/>
                </a:cubicBezTo>
                <a:cubicBezTo>
                  <a:pt x="8456" y="8822"/>
                  <a:pt x="8493" y="8920"/>
                  <a:pt x="8558" y="8979"/>
                </a:cubicBezTo>
                <a:cubicBezTo>
                  <a:pt x="8653" y="9066"/>
                  <a:pt x="8686" y="9027"/>
                  <a:pt x="8781" y="8979"/>
                </a:cubicBezTo>
              </a:path>
              <a:path w="2655" h="1167">
                <a:moveTo>
                  <a:pt x="8781" y="8731"/>
                </a:moveTo>
                <a:cubicBezTo>
                  <a:pt x="8803" y="8827"/>
                  <a:pt x="8900" y="8955"/>
                  <a:pt x="8880" y="8954"/>
                </a:cubicBezTo>
                <a:cubicBezTo>
                  <a:pt x="8834" y="8840"/>
                  <a:pt x="8820" y="8809"/>
                  <a:pt x="8806" y="8731"/>
                </a:cubicBezTo>
                <a:cubicBezTo>
                  <a:pt x="8902" y="8653"/>
                  <a:pt x="8997" y="8695"/>
                  <a:pt x="9054" y="8806"/>
                </a:cubicBezTo>
                <a:cubicBezTo>
                  <a:pt x="9098" y="8891"/>
                  <a:pt x="9067" y="8925"/>
                  <a:pt x="9054" y="9004"/>
                </a:cubicBezTo>
              </a:path>
              <a:path w="2655" h="1167">
                <a:moveTo>
                  <a:pt x="9351" y="8756"/>
                </a:moveTo>
                <a:cubicBezTo>
                  <a:pt x="9351" y="8685"/>
                  <a:pt x="9253" y="8600"/>
                  <a:pt x="9178" y="8657"/>
                </a:cubicBezTo>
                <a:cubicBezTo>
                  <a:pt x="9036" y="8765"/>
                  <a:pt x="9095" y="8926"/>
                  <a:pt x="9128" y="9054"/>
                </a:cubicBezTo>
                <a:cubicBezTo>
                  <a:pt x="9331" y="9016"/>
                  <a:pt x="9354" y="8966"/>
                  <a:pt x="9327" y="8756"/>
                </a:cubicBezTo>
                <a:cubicBezTo>
                  <a:pt x="9327" y="8913"/>
                  <a:pt x="9429" y="9043"/>
                  <a:pt x="9451" y="9203"/>
                </a:cubicBezTo>
                <a:cubicBezTo>
                  <a:pt x="9474" y="9368"/>
                  <a:pt x="9313" y="9714"/>
                  <a:pt x="9079" y="9500"/>
                </a:cubicBezTo>
                <a:cubicBezTo>
                  <a:pt x="9071" y="9450"/>
                  <a:pt x="9062" y="9401"/>
                  <a:pt x="9054" y="9351"/>
                </a:cubicBezTo>
              </a:path>
              <a:path w="2655" h="1167">
                <a:moveTo>
                  <a:pt x="9649" y="8880"/>
                </a:moveTo>
                <a:cubicBezTo>
                  <a:pt x="9724" y="8869"/>
                  <a:pt x="9798" y="8849"/>
                  <a:pt x="9872" y="8830"/>
                </a:cubicBezTo>
                <a:cubicBezTo>
                  <a:pt x="9844" y="8759"/>
                  <a:pt x="9759" y="8632"/>
                  <a:pt x="9674" y="8607"/>
                </a:cubicBezTo>
                <a:cubicBezTo>
                  <a:pt x="9550" y="8571"/>
                  <a:pt x="9541" y="8977"/>
                  <a:pt x="9575" y="9029"/>
                </a:cubicBezTo>
                <a:cubicBezTo>
                  <a:pt x="9666" y="9170"/>
                  <a:pt x="9872" y="9011"/>
                  <a:pt x="9947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3071880"/>
            <a:ext cx="285480" cy="169920"/>
          </a:xfrm>
          <a:custGeom>
            <a:avLst/>
            <a:gdLst/>
            <a:ahLst/>
            <a:rect l="l" t="t" r="r" b="b"/>
            <a:pathLst>
              <a:path w="795" h="472">
                <a:moveTo>
                  <a:pt x="10988" y="8558"/>
                </a:moveTo>
                <a:cubicBezTo>
                  <a:pt x="10887" y="8625"/>
                  <a:pt x="10683" y="8838"/>
                  <a:pt x="10840" y="8979"/>
                </a:cubicBezTo>
                <a:cubicBezTo>
                  <a:pt x="10988" y="9112"/>
                  <a:pt x="11183" y="8836"/>
                  <a:pt x="11088" y="8706"/>
                </a:cubicBezTo>
                <a:cubicBezTo>
                  <a:pt x="11068" y="8678"/>
                  <a:pt x="10862" y="8657"/>
                  <a:pt x="10988" y="8657"/>
                </a:cubicBezTo>
              </a:path>
              <a:path w="795" h="472">
                <a:moveTo>
                  <a:pt x="11286" y="8830"/>
                </a:moveTo>
                <a:cubicBezTo>
                  <a:pt x="11304" y="8647"/>
                  <a:pt x="11302" y="8548"/>
                  <a:pt x="11509" y="8533"/>
                </a:cubicBezTo>
                <a:cubicBezTo>
                  <a:pt x="11534" y="8533"/>
                  <a:pt x="11559" y="8533"/>
                  <a:pt x="11584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46720" y="2919240"/>
            <a:ext cx="617400" cy="268560"/>
          </a:xfrm>
          <a:custGeom>
            <a:avLst/>
            <a:gdLst/>
            <a:ahLst/>
            <a:rect l="l" t="t" r="r" b="b"/>
            <a:pathLst>
              <a:path w="1712" h="745">
                <a:moveTo>
                  <a:pt x="12353" y="8533"/>
                </a:moveTo>
                <a:cubicBezTo>
                  <a:pt x="12366" y="8645"/>
                  <a:pt x="12379" y="8758"/>
                  <a:pt x="12427" y="8855"/>
                </a:cubicBezTo>
                <a:cubicBezTo>
                  <a:pt x="12516" y="8759"/>
                  <a:pt x="12539" y="8691"/>
                  <a:pt x="12576" y="8558"/>
                </a:cubicBezTo>
                <a:cubicBezTo>
                  <a:pt x="12611" y="8712"/>
                  <a:pt x="12684" y="8746"/>
                  <a:pt x="12824" y="8781"/>
                </a:cubicBezTo>
                <a:cubicBezTo>
                  <a:pt x="12864" y="8675"/>
                  <a:pt x="12944" y="8419"/>
                  <a:pt x="12725" y="8434"/>
                </a:cubicBezTo>
                <a:cubicBezTo>
                  <a:pt x="12668" y="8471"/>
                  <a:pt x="12643" y="8466"/>
                  <a:pt x="12650" y="8508"/>
                </a:cubicBezTo>
              </a:path>
              <a:path w="1712" h="745">
                <a:moveTo>
                  <a:pt x="12849" y="8210"/>
                </a:moveTo>
                <a:cubicBezTo>
                  <a:pt x="12925" y="8389"/>
                  <a:pt x="12978" y="8575"/>
                  <a:pt x="13047" y="8756"/>
                </a:cubicBezTo>
                <a:cubicBezTo>
                  <a:pt x="13026" y="8650"/>
                  <a:pt x="13008" y="8568"/>
                  <a:pt x="13022" y="8458"/>
                </a:cubicBezTo>
                <a:cubicBezTo>
                  <a:pt x="13208" y="8446"/>
                  <a:pt x="13295" y="8512"/>
                  <a:pt x="13345" y="8706"/>
                </a:cubicBezTo>
                <a:cubicBezTo>
                  <a:pt x="13345" y="8748"/>
                  <a:pt x="13345" y="8773"/>
                  <a:pt x="13345" y="8731"/>
                </a:cubicBezTo>
              </a:path>
              <a:path w="1712" h="745">
                <a:moveTo>
                  <a:pt x="13593" y="8558"/>
                </a:moveTo>
                <a:cubicBezTo>
                  <a:pt x="13580" y="8494"/>
                  <a:pt x="13571" y="8496"/>
                  <a:pt x="13519" y="8458"/>
                </a:cubicBezTo>
                <a:cubicBezTo>
                  <a:pt x="13482" y="8498"/>
                  <a:pt x="13276" y="8873"/>
                  <a:pt x="13519" y="8756"/>
                </a:cubicBezTo>
                <a:cubicBezTo>
                  <a:pt x="13614" y="8661"/>
                  <a:pt x="13647" y="8633"/>
                  <a:pt x="13618" y="8533"/>
                </a:cubicBezTo>
                <a:cubicBezTo>
                  <a:pt x="13618" y="8525"/>
                  <a:pt x="13618" y="8516"/>
                  <a:pt x="13618" y="8508"/>
                </a:cubicBezTo>
                <a:cubicBezTo>
                  <a:pt x="13630" y="8568"/>
                  <a:pt x="13724" y="8826"/>
                  <a:pt x="13841" y="8682"/>
                </a:cubicBezTo>
                <a:cubicBezTo>
                  <a:pt x="13858" y="8632"/>
                  <a:pt x="13874" y="8583"/>
                  <a:pt x="13891" y="8533"/>
                </a:cubicBezTo>
              </a:path>
              <a:path w="1712" h="745">
                <a:moveTo>
                  <a:pt x="13767" y="8111"/>
                </a:moveTo>
                <a:cubicBezTo>
                  <a:pt x="13809" y="8325"/>
                  <a:pt x="13871" y="8524"/>
                  <a:pt x="13940" y="8731"/>
                </a:cubicBezTo>
              </a:path>
              <a:path w="1712" h="745">
                <a:moveTo>
                  <a:pt x="13543" y="8508"/>
                </a:moveTo>
                <a:cubicBezTo>
                  <a:pt x="13717" y="8486"/>
                  <a:pt x="13892" y="8458"/>
                  <a:pt x="14064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95960" y="2963880"/>
            <a:ext cx="196920" cy="144360"/>
          </a:xfrm>
          <a:custGeom>
            <a:avLst/>
            <a:gdLst/>
            <a:ahLst/>
            <a:rect l="l" t="t" r="r" b="b"/>
            <a:pathLst>
              <a:path w="547" h="398">
                <a:moveTo>
                  <a:pt x="14709" y="8359"/>
                </a:moveTo>
                <a:cubicBezTo>
                  <a:pt x="14731" y="8427"/>
                  <a:pt x="14849" y="8719"/>
                  <a:pt x="14709" y="8558"/>
                </a:cubicBezTo>
              </a:path>
              <a:path w="547" h="398">
                <a:moveTo>
                  <a:pt x="15106" y="8235"/>
                </a:moveTo>
                <a:cubicBezTo>
                  <a:pt x="15045" y="8276"/>
                  <a:pt x="14975" y="8312"/>
                  <a:pt x="14957" y="8384"/>
                </a:cubicBezTo>
                <a:cubicBezTo>
                  <a:pt x="15075" y="8435"/>
                  <a:pt x="15169" y="8472"/>
                  <a:pt x="15255" y="8558"/>
                </a:cubicBezTo>
                <a:cubicBezTo>
                  <a:pt x="15107" y="8631"/>
                  <a:pt x="15056" y="8596"/>
                  <a:pt x="14883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3720" y="2874960"/>
            <a:ext cx="563400" cy="233280"/>
          </a:xfrm>
          <a:custGeom>
            <a:avLst/>
            <a:gdLst/>
            <a:ahLst/>
            <a:rect l="l" t="t" r="r" b="b"/>
            <a:pathLst>
              <a:path w="1563" h="646">
                <a:moveTo>
                  <a:pt x="16098" y="8409"/>
                </a:moveTo>
                <a:cubicBezTo>
                  <a:pt x="16006" y="8303"/>
                  <a:pt x="15851" y="8221"/>
                  <a:pt x="15726" y="8359"/>
                </a:cubicBezTo>
                <a:cubicBezTo>
                  <a:pt x="15678" y="8480"/>
                  <a:pt x="15662" y="8518"/>
                  <a:pt x="15677" y="8607"/>
                </a:cubicBezTo>
                <a:cubicBezTo>
                  <a:pt x="15845" y="8617"/>
                  <a:pt x="16028" y="8563"/>
                  <a:pt x="16024" y="8334"/>
                </a:cubicBezTo>
                <a:cubicBezTo>
                  <a:pt x="15977" y="8172"/>
                  <a:pt x="15967" y="8125"/>
                  <a:pt x="15900" y="8037"/>
                </a:cubicBezTo>
                <a:cubicBezTo>
                  <a:pt x="15742" y="7905"/>
                  <a:pt x="15960" y="8380"/>
                  <a:pt x="15974" y="8434"/>
                </a:cubicBezTo>
                <a:cubicBezTo>
                  <a:pt x="15993" y="8508"/>
                  <a:pt x="15975" y="8541"/>
                  <a:pt x="16024" y="8533"/>
                </a:cubicBezTo>
              </a:path>
              <a:path w="1563" h="646">
                <a:moveTo>
                  <a:pt x="16197" y="8260"/>
                </a:moveTo>
                <a:cubicBezTo>
                  <a:pt x="16122" y="8385"/>
                  <a:pt x="16098" y="8428"/>
                  <a:pt x="16123" y="8533"/>
                </a:cubicBezTo>
                <a:cubicBezTo>
                  <a:pt x="16240" y="8572"/>
                  <a:pt x="16526" y="8596"/>
                  <a:pt x="16446" y="8359"/>
                </a:cubicBezTo>
                <a:cubicBezTo>
                  <a:pt x="16393" y="8202"/>
                  <a:pt x="16266" y="8350"/>
                  <a:pt x="16321" y="8235"/>
                </a:cubicBezTo>
              </a:path>
              <a:path w="1563" h="646">
                <a:moveTo>
                  <a:pt x="16594" y="8483"/>
                </a:moveTo>
                <a:cubicBezTo>
                  <a:pt x="16594" y="8491"/>
                  <a:pt x="16594" y="8500"/>
                  <a:pt x="16594" y="8508"/>
                </a:cubicBezTo>
                <a:cubicBezTo>
                  <a:pt x="16504" y="8477"/>
                  <a:pt x="16563" y="8328"/>
                  <a:pt x="16594" y="8260"/>
                </a:cubicBezTo>
                <a:cubicBezTo>
                  <a:pt x="16661" y="8112"/>
                  <a:pt x="16837" y="8415"/>
                  <a:pt x="16842" y="8458"/>
                </a:cubicBezTo>
                <a:cubicBezTo>
                  <a:pt x="16834" y="8483"/>
                  <a:pt x="16826" y="8508"/>
                  <a:pt x="16818" y="8533"/>
                </a:cubicBezTo>
              </a:path>
              <a:path w="1563" h="646">
                <a:moveTo>
                  <a:pt x="16867" y="8359"/>
                </a:moveTo>
                <a:cubicBezTo>
                  <a:pt x="16964" y="8359"/>
                  <a:pt x="17050" y="8352"/>
                  <a:pt x="17140" y="8334"/>
                </a:cubicBezTo>
                <a:cubicBezTo>
                  <a:pt x="17093" y="8222"/>
                  <a:pt x="17026" y="8092"/>
                  <a:pt x="16917" y="8260"/>
                </a:cubicBezTo>
                <a:cubicBezTo>
                  <a:pt x="16779" y="8472"/>
                  <a:pt x="16919" y="8582"/>
                  <a:pt x="17115" y="8558"/>
                </a:cubicBezTo>
                <a:cubicBezTo>
                  <a:pt x="17189" y="8539"/>
                  <a:pt x="17196" y="8531"/>
                  <a:pt x="17239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3920" y="3411360"/>
            <a:ext cx="679320" cy="125640"/>
          </a:xfrm>
          <a:custGeom>
            <a:avLst/>
            <a:gdLst/>
            <a:ahLst/>
            <a:rect l="l" t="t" r="r" b="b"/>
            <a:pathLst>
              <a:path w="1886" h="349">
                <a:moveTo>
                  <a:pt x="12874" y="9798"/>
                </a:moveTo>
                <a:cubicBezTo>
                  <a:pt x="13055" y="9824"/>
                  <a:pt x="13121" y="9832"/>
                  <a:pt x="13246" y="9823"/>
                </a:cubicBezTo>
              </a:path>
              <a:path w="1886" h="349">
                <a:moveTo>
                  <a:pt x="14709" y="9475"/>
                </a:moveTo>
                <a:cubicBezTo>
                  <a:pt x="14726" y="9475"/>
                  <a:pt x="14742" y="9475"/>
                  <a:pt x="14759" y="9475"/>
                </a:cubicBezTo>
              </a:path>
              <a:path w="1886" h="349">
                <a:moveTo>
                  <a:pt x="14759" y="9475"/>
                </a:moveTo>
                <a:lnTo>
                  <a:pt x="14759" y="947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71800" y="3438360"/>
            <a:ext cx="1054080" cy="312840"/>
          </a:xfrm>
          <a:custGeom>
            <a:avLst/>
            <a:gdLst/>
            <a:ahLst/>
            <a:rect l="l" t="t" r="r" b="b"/>
            <a:pathLst>
              <a:path w="2928" h="869">
                <a:moveTo>
                  <a:pt x="5829" y="9996"/>
                </a:moveTo>
                <a:cubicBezTo>
                  <a:pt x="5811" y="10142"/>
                  <a:pt x="5821" y="10270"/>
                  <a:pt x="5829" y="10418"/>
                </a:cubicBezTo>
                <a:cubicBezTo>
                  <a:pt x="5805" y="10301"/>
                  <a:pt x="5719" y="10228"/>
                  <a:pt x="5779" y="10096"/>
                </a:cubicBezTo>
                <a:cubicBezTo>
                  <a:pt x="5831" y="9983"/>
                  <a:pt x="6048" y="9867"/>
                  <a:pt x="6152" y="9971"/>
                </a:cubicBezTo>
                <a:cubicBezTo>
                  <a:pt x="6259" y="10078"/>
                  <a:pt x="6261" y="10232"/>
                  <a:pt x="6276" y="10368"/>
                </a:cubicBezTo>
              </a:path>
              <a:path w="2928" h="869">
                <a:moveTo>
                  <a:pt x="6350" y="10071"/>
                </a:moveTo>
                <a:cubicBezTo>
                  <a:pt x="6386" y="10178"/>
                  <a:pt x="6424" y="10293"/>
                  <a:pt x="6449" y="10393"/>
                </a:cubicBezTo>
                <a:cubicBezTo>
                  <a:pt x="6659" y="10379"/>
                  <a:pt x="6652" y="10324"/>
                  <a:pt x="6672" y="10120"/>
                </a:cubicBezTo>
                <a:cubicBezTo>
                  <a:pt x="6672" y="10013"/>
                  <a:pt x="6645" y="10240"/>
                  <a:pt x="6672" y="10344"/>
                </a:cubicBezTo>
                <a:cubicBezTo>
                  <a:pt x="6710" y="10492"/>
                  <a:pt x="6756" y="10395"/>
                  <a:pt x="6796" y="10344"/>
                </a:cubicBezTo>
              </a:path>
              <a:path w="2928" h="869">
                <a:moveTo>
                  <a:pt x="6846" y="10096"/>
                </a:moveTo>
                <a:cubicBezTo>
                  <a:pt x="6893" y="10235"/>
                  <a:pt x="6908" y="10274"/>
                  <a:pt x="6921" y="10368"/>
                </a:cubicBezTo>
                <a:cubicBezTo>
                  <a:pt x="6921" y="10445"/>
                  <a:pt x="6859" y="10271"/>
                  <a:pt x="6871" y="10195"/>
                </a:cubicBezTo>
                <a:cubicBezTo>
                  <a:pt x="6905" y="9985"/>
                  <a:pt x="7133" y="10020"/>
                  <a:pt x="7193" y="10195"/>
                </a:cubicBezTo>
                <a:cubicBezTo>
                  <a:pt x="7215" y="10260"/>
                  <a:pt x="7241" y="10417"/>
                  <a:pt x="7169" y="10344"/>
                </a:cubicBezTo>
                <a:cubicBezTo>
                  <a:pt x="7174" y="10219"/>
                  <a:pt x="7176" y="10137"/>
                  <a:pt x="7218" y="10021"/>
                </a:cubicBezTo>
                <a:cubicBezTo>
                  <a:pt x="7432" y="10021"/>
                  <a:pt x="7512" y="10097"/>
                  <a:pt x="7491" y="10344"/>
                </a:cubicBezTo>
                <a:cubicBezTo>
                  <a:pt x="7471" y="10404"/>
                  <a:pt x="7472" y="10439"/>
                  <a:pt x="7441" y="10393"/>
                </a:cubicBezTo>
              </a:path>
              <a:path w="2928" h="869">
                <a:moveTo>
                  <a:pt x="7565" y="9550"/>
                </a:moveTo>
                <a:cubicBezTo>
                  <a:pt x="7621" y="9774"/>
                  <a:pt x="7682" y="9989"/>
                  <a:pt x="7714" y="10220"/>
                </a:cubicBezTo>
                <a:cubicBezTo>
                  <a:pt x="7714" y="10228"/>
                  <a:pt x="7714" y="10236"/>
                  <a:pt x="7714" y="10244"/>
                </a:cubicBezTo>
                <a:cubicBezTo>
                  <a:pt x="7714" y="10136"/>
                  <a:pt x="7703" y="9938"/>
                  <a:pt x="7813" y="9872"/>
                </a:cubicBezTo>
                <a:cubicBezTo>
                  <a:pt x="7855" y="9872"/>
                  <a:pt x="7896" y="9872"/>
                  <a:pt x="7938" y="9872"/>
                </a:cubicBezTo>
                <a:cubicBezTo>
                  <a:pt x="7995" y="10012"/>
                  <a:pt x="8103" y="10319"/>
                  <a:pt x="7813" y="10319"/>
                </a:cubicBezTo>
                <a:cubicBezTo>
                  <a:pt x="7722" y="10319"/>
                  <a:pt x="7666" y="10261"/>
                  <a:pt x="7640" y="10195"/>
                </a:cubicBezTo>
              </a:path>
              <a:path w="2928" h="869">
                <a:moveTo>
                  <a:pt x="8136" y="10096"/>
                </a:moveTo>
                <a:cubicBezTo>
                  <a:pt x="8179" y="10096"/>
                  <a:pt x="8359" y="10123"/>
                  <a:pt x="8334" y="10071"/>
                </a:cubicBezTo>
                <a:cubicBezTo>
                  <a:pt x="8326" y="10063"/>
                  <a:pt x="8318" y="10054"/>
                  <a:pt x="8310" y="10046"/>
                </a:cubicBezTo>
                <a:cubicBezTo>
                  <a:pt x="8130" y="9921"/>
                  <a:pt x="8042" y="10009"/>
                  <a:pt x="8037" y="10244"/>
                </a:cubicBezTo>
                <a:cubicBezTo>
                  <a:pt x="8045" y="10277"/>
                  <a:pt x="8054" y="10311"/>
                  <a:pt x="8062" y="10344"/>
                </a:cubicBezTo>
                <a:cubicBezTo>
                  <a:pt x="8297" y="10343"/>
                  <a:pt x="8288" y="10267"/>
                  <a:pt x="8458" y="10145"/>
                </a:cubicBezTo>
                <a:cubicBezTo>
                  <a:pt x="8507" y="10109"/>
                  <a:pt x="8489" y="10261"/>
                  <a:pt x="8508" y="10319"/>
                </a:cubicBezTo>
                <a:cubicBezTo>
                  <a:pt x="8508" y="10176"/>
                  <a:pt x="8483" y="10053"/>
                  <a:pt x="8632" y="9996"/>
                </a:cubicBezTo>
                <a:cubicBezTo>
                  <a:pt x="8649" y="9996"/>
                  <a:pt x="8665" y="9996"/>
                  <a:pt x="8682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68800" y="3606840"/>
            <a:ext cx="536400" cy="260280"/>
          </a:xfrm>
          <a:custGeom>
            <a:avLst/>
            <a:gdLst/>
            <a:ahLst/>
            <a:rect l="l" t="t" r="r" b="b"/>
            <a:pathLst>
              <a:path w="1489" h="720">
                <a:moveTo>
                  <a:pt x="9401" y="10096"/>
                </a:moveTo>
                <a:cubicBezTo>
                  <a:pt x="9394" y="10147"/>
                  <a:pt x="9312" y="10346"/>
                  <a:pt x="9426" y="10319"/>
                </a:cubicBezTo>
                <a:cubicBezTo>
                  <a:pt x="9564" y="10287"/>
                  <a:pt x="9582" y="10182"/>
                  <a:pt x="9624" y="10071"/>
                </a:cubicBezTo>
                <a:cubicBezTo>
                  <a:pt x="9624" y="10063"/>
                  <a:pt x="9624" y="10054"/>
                  <a:pt x="9624" y="10046"/>
                </a:cubicBezTo>
                <a:cubicBezTo>
                  <a:pt x="9684" y="10244"/>
                  <a:pt x="9801" y="10442"/>
                  <a:pt x="9649" y="10641"/>
                </a:cubicBezTo>
                <a:cubicBezTo>
                  <a:pt x="9525" y="10804"/>
                  <a:pt x="8972" y="10757"/>
                  <a:pt x="9079" y="10492"/>
                </a:cubicBezTo>
                <a:cubicBezTo>
                  <a:pt x="9128" y="10459"/>
                  <a:pt x="9178" y="10426"/>
                  <a:pt x="9227" y="10393"/>
                </a:cubicBezTo>
              </a:path>
              <a:path w="1489" h="720">
                <a:moveTo>
                  <a:pt x="9922" y="10021"/>
                </a:moveTo>
                <a:cubicBezTo>
                  <a:pt x="9752" y="10089"/>
                  <a:pt x="9738" y="10173"/>
                  <a:pt x="9748" y="10344"/>
                </a:cubicBezTo>
                <a:cubicBezTo>
                  <a:pt x="9889" y="10322"/>
                  <a:pt x="10141" y="10222"/>
                  <a:pt x="9897" y="10096"/>
                </a:cubicBezTo>
                <a:cubicBezTo>
                  <a:pt x="9813" y="10075"/>
                  <a:pt x="9766" y="10074"/>
                  <a:pt x="9847" y="10046"/>
                </a:cubicBezTo>
              </a:path>
              <a:path w="1489" h="720">
                <a:moveTo>
                  <a:pt x="10096" y="10046"/>
                </a:moveTo>
                <a:cubicBezTo>
                  <a:pt x="10103" y="10216"/>
                  <a:pt x="10078" y="10251"/>
                  <a:pt x="10195" y="10344"/>
                </a:cubicBezTo>
                <a:cubicBezTo>
                  <a:pt x="10314" y="10242"/>
                  <a:pt x="10342" y="10191"/>
                  <a:pt x="10393" y="10046"/>
                </a:cubicBezTo>
                <a:cubicBezTo>
                  <a:pt x="10393" y="10171"/>
                  <a:pt x="10378" y="10209"/>
                  <a:pt x="10567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62240" y="3429000"/>
            <a:ext cx="652680" cy="241200"/>
          </a:xfrm>
          <a:custGeom>
            <a:avLst/>
            <a:gdLst/>
            <a:ahLst/>
            <a:rect l="l" t="t" r="r" b="b"/>
            <a:pathLst>
              <a:path w="1812" h="671">
                <a:moveTo>
                  <a:pt x="11534" y="9847"/>
                </a:moveTo>
                <a:cubicBezTo>
                  <a:pt x="11449" y="9847"/>
                  <a:pt x="11429" y="9841"/>
                  <a:pt x="11385" y="9872"/>
                </a:cubicBezTo>
                <a:cubicBezTo>
                  <a:pt x="11455" y="9977"/>
                  <a:pt x="11630" y="10042"/>
                  <a:pt x="11733" y="10145"/>
                </a:cubicBezTo>
                <a:cubicBezTo>
                  <a:pt x="11394" y="10265"/>
                  <a:pt x="11321" y="10222"/>
                  <a:pt x="11410" y="9922"/>
                </a:cubicBezTo>
              </a:path>
              <a:path w="1812" h="671">
                <a:moveTo>
                  <a:pt x="11906" y="9525"/>
                </a:moveTo>
                <a:cubicBezTo>
                  <a:pt x="11962" y="9737"/>
                  <a:pt x="11989" y="9960"/>
                  <a:pt x="12055" y="10170"/>
                </a:cubicBezTo>
                <a:cubicBezTo>
                  <a:pt x="12055" y="10162"/>
                  <a:pt x="12055" y="10153"/>
                  <a:pt x="12055" y="10145"/>
                </a:cubicBezTo>
              </a:path>
              <a:path w="1812" h="671">
                <a:moveTo>
                  <a:pt x="11782" y="9847"/>
                </a:moveTo>
                <a:cubicBezTo>
                  <a:pt x="11989" y="9847"/>
                  <a:pt x="12195" y="9847"/>
                  <a:pt x="12402" y="9847"/>
                </a:cubicBezTo>
              </a:path>
              <a:path w="1812" h="671">
                <a:moveTo>
                  <a:pt x="12551" y="9872"/>
                </a:moveTo>
                <a:cubicBezTo>
                  <a:pt x="12423" y="9872"/>
                  <a:pt x="12269" y="9920"/>
                  <a:pt x="12204" y="10046"/>
                </a:cubicBezTo>
                <a:cubicBezTo>
                  <a:pt x="12204" y="10079"/>
                  <a:pt x="12204" y="10112"/>
                  <a:pt x="12204" y="10145"/>
                </a:cubicBezTo>
                <a:cubicBezTo>
                  <a:pt x="12360" y="10136"/>
                  <a:pt x="12434" y="10153"/>
                  <a:pt x="12502" y="9996"/>
                </a:cubicBezTo>
                <a:cubicBezTo>
                  <a:pt x="12557" y="10107"/>
                  <a:pt x="12626" y="10140"/>
                  <a:pt x="12750" y="10096"/>
                </a:cubicBezTo>
                <a:cubicBezTo>
                  <a:pt x="12797" y="10079"/>
                  <a:pt x="12774" y="10120"/>
                  <a:pt x="12774" y="10096"/>
                </a:cubicBezTo>
                <a:cubicBezTo>
                  <a:pt x="12764" y="9871"/>
                  <a:pt x="12804" y="9819"/>
                  <a:pt x="12998" y="9699"/>
                </a:cubicBezTo>
              </a:path>
              <a:path w="1812" h="671">
                <a:moveTo>
                  <a:pt x="13097" y="9575"/>
                </a:moveTo>
                <a:cubicBezTo>
                  <a:pt x="13079" y="9751"/>
                  <a:pt x="13072" y="9919"/>
                  <a:pt x="13072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3357720"/>
            <a:ext cx="652320" cy="258480"/>
          </a:xfrm>
          <a:custGeom>
            <a:avLst/>
            <a:gdLst/>
            <a:ahLst/>
            <a:rect l="l" t="t" r="r" b="b"/>
            <a:pathLst>
              <a:path w="1812" h="720">
                <a:moveTo>
                  <a:pt x="14015" y="9699"/>
                </a:moveTo>
                <a:cubicBezTo>
                  <a:pt x="13991" y="9793"/>
                  <a:pt x="13894" y="9965"/>
                  <a:pt x="14015" y="10046"/>
                </a:cubicBezTo>
                <a:cubicBezTo>
                  <a:pt x="14144" y="10132"/>
                  <a:pt x="14227" y="9906"/>
                  <a:pt x="14263" y="9847"/>
                </a:cubicBezTo>
                <a:cubicBezTo>
                  <a:pt x="14271" y="9839"/>
                  <a:pt x="14280" y="9831"/>
                  <a:pt x="14288" y="9823"/>
                </a:cubicBezTo>
                <a:cubicBezTo>
                  <a:pt x="14288" y="9942"/>
                  <a:pt x="14279" y="10117"/>
                  <a:pt x="14461" y="10021"/>
                </a:cubicBezTo>
                <a:cubicBezTo>
                  <a:pt x="14675" y="9908"/>
                  <a:pt x="14516" y="9775"/>
                  <a:pt x="14387" y="9723"/>
                </a:cubicBezTo>
              </a:path>
              <a:path w="1812" h="720">
                <a:moveTo>
                  <a:pt x="14759" y="9798"/>
                </a:moveTo>
                <a:cubicBezTo>
                  <a:pt x="14759" y="9914"/>
                  <a:pt x="14759" y="9930"/>
                  <a:pt x="14759" y="9996"/>
                </a:cubicBezTo>
              </a:path>
              <a:path w="1812" h="720">
                <a:moveTo>
                  <a:pt x="15156" y="9327"/>
                </a:moveTo>
                <a:cubicBezTo>
                  <a:pt x="15172" y="9509"/>
                  <a:pt x="15198" y="9689"/>
                  <a:pt x="15205" y="9872"/>
                </a:cubicBezTo>
                <a:cubicBezTo>
                  <a:pt x="15205" y="9880"/>
                  <a:pt x="15205" y="9889"/>
                  <a:pt x="15205" y="9897"/>
                </a:cubicBezTo>
              </a:path>
              <a:path w="1812" h="720">
                <a:moveTo>
                  <a:pt x="14858" y="9575"/>
                </a:moveTo>
                <a:cubicBezTo>
                  <a:pt x="15051" y="9732"/>
                  <a:pt x="15244" y="9749"/>
                  <a:pt x="15453" y="9550"/>
                </a:cubicBezTo>
                <a:cubicBezTo>
                  <a:pt x="15538" y="9469"/>
                  <a:pt x="15550" y="9314"/>
                  <a:pt x="15528" y="9500"/>
                </a:cubicBezTo>
                <a:cubicBezTo>
                  <a:pt x="15505" y="9732"/>
                  <a:pt x="15498" y="9798"/>
                  <a:pt x="15478" y="9947"/>
                </a:cubicBezTo>
                <a:cubicBezTo>
                  <a:pt x="15478" y="9955"/>
                  <a:pt x="15478" y="9963"/>
                  <a:pt x="15478" y="9971"/>
                </a:cubicBezTo>
                <a:cubicBezTo>
                  <a:pt x="15517" y="9818"/>
                  <a:pt x="15584" y="9698"/>
                  <a:pt x="15677" y="9575"/>
                </a:cubicBezTo>
                <a:cubicBezTo>
                  <a:pt x="15786" y="9671"/>
                  <a:pt x="15776" y="9806"/>
                  <a:pt x="15776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29080" y="3983040"/>
            <a:ext cx="3902040" cy="330120"/>
          </a:xfrm>
          <a:custGeom>
            <a:avLst/>
            <a:gdLst/>
            <a:ahLst/>
            <a:rect l="l" t="t" r="r" b="b"/>
            <a:pathLst>
              <a:path w="10841" h="919">
                <a:moveTo>
                  <a:pt x="12427" y="11361"/>
                </a:moveTo>
                <a:cubicBezTo>
                  <a:pt x="12449" y="11556"/>
                  <a:pt x="12499" y="11758"/>
                  <a:pt x="12477" y="11956"/>
                </a:cubicBezTo>
                <a:cubicBezTo>
                  <a:pt x="12469" y="11964"/>
                  <a:pt x="12460" y="11973"/>
                  <a:pt x="12452" y="11981"/>
                </a:cubicBezTo>
              </a:path>
              <a:path w="10841" h="919">
                <a:moveTo>
                  <a:pt x="12303" y="11609"/>
                </a:moveTo>
                <a:cubicBezTo>
                  <a:pt x="12394" y="11592"/>
                  <a:pt x="12485" y="11576"/>
                  <a:pt x="12576" y="11559"/>
                </a:cubicBezTo>
              </a:path>
              <a:path w="10841" h="919">
                <a:moveTo>
                  <a:pt x="12576" y="11559"/>
                </a:moveTo>
                <a:lnTo>
                  <a:pt x="12576" y="11559"/>
                </a:lnTo>
              </a:path>
              <a:path w="10841" h="919">
                <a:moveTo>
                  <a:pt x="13593" y="11658"/>
                </a:moveTo>
                <a:cubicBezTo>
                  <a:pt x="13840" y="11746"/>
                  <a:pt x="13951" y="11743"/>
                  <a:pt x="14213" y="11708"/>
                </a:cubicBezTo>
              </a:path>
              <a:path w="10841" h="919">
                <a:moveTo>
                  <a:pt x="23143" y="11063"/>
                </a:moveTo>
                <a:cubicBezTo>
                  <a:pt x="23121" y="11262"/>
                  <a:pt x="23101" y="11458"/>
                  <a:pt x="23093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94000" y="4106880"/>
            <a:ext cx="2062080" cy="438120"/>
          </a:xfrm>
          <a:custGeom>
            <a:avLst/>
            <a:gdLst/>
            <a:ahLst/>
            <a:rect l="l" t="t" r="r" b="b"/>
            <a:pathLst>
              <a:path w="5731" h="1217">
                <a:moveTo>
                  <a:pt x="6648" y="11807"/>
                </a:moveTo>
                <a:cubicBezTo>
                  <a:pt x="6661" y="11913"/>
                  <a:pt x="6667" y="11997"/>
                  <a:pt x="6672" y="12105"/>
                </a:cubicBezTo>
                <a:cubicBezTo>
                  <a:pt x="6672" y="12249"/>
                  <a:pt x="6692" y="11892"/>
                  <a:pt x="6697" y="11881"/>
                </a:cubicBezTo>
                <a:cubicBezTo>
                  <a:pt x="6780" y="11712"/>
                  <a:pt x="7002" y="11706"/>
                  <a:pt x="7069" y="11881"/>
                </a:cubicBezTo>
                <a:cubicBezTo>
                  <a:pt x="7108" y="11983"/>
                  <a:pt x="7119" y="12202"/>
                  <a:pt x="7069" y="12105"/>
                </a:cubicBezTo>
              </a:path>
              <a:path w="5731" h="1217">
                <a:moveTo>
                  <a:pt x="7169" y="11807"/>
                </a:moveTo>
                <a:cubicBezTo>
                  <a:pt x="7225" y="11907"/>
                  <a:pt x="7240" y="12024"/>
                  <a:pt x="7293" y="12129"/>
                </a:cubicBezTo>
                <a:cubicBezTo>
                  <a:pt x="7484" y="12081"/>
                  <a:pt x="7454" y="11970"/>
                  <a:pt x="7516" y="11807"/>
                </a:cubicBezTo>
                <a:cubicBezTo>
                  <a:pt x="7566" y="11677"/>
                  <a:pt x="7507" y="12077"/>
                  <a:pt x="7565" y="12204"/>
                </a:cubicBezTo>
              </a:path>
              <a:path w="5731" h="1217">
                <a:moveTo>
                  <a:pt x="7714" y="11807"/>
                </a:moveTo>
                <a:cubicBezTo>
                  <a:pt x="7714" y="11957"/>
                  <a:pt x="7714" y="12007"/>
                  <a:pt x="7739" y="12105"/>
                </a:cubicBezTo>
                <a:cubicBezTo>
                  <a:pt x="7798" y="12200"/>
                  <a:pt x="7721" y="12044"/>
                  <a:pt x="7739" y="11956"/>
                </a:cubicBezTo>
                <a:cubicBezTo>
                  <a:pt x="7806" y="11633"/>
                  <a:pt x="7954" y="11935"/>
                  <a:pt x="7987" y="12080"/>
                </a:cubicBezTo>
                <a:cubicBezTo>
                  <a:pt x="7987" y="12096"/>
                  <a:pt x="7987" y="12113"/>
                  <a:pt x="7987" y="12129"/>
                </a:cubicBezTo>
                <a:cubicBezTo>
                  <a:pt x="7987" y="11984"/>
                  <a:pt x="8023" y="11884"/>
                  <a:pt x="8086" y="11757"/>
                </a:cubicBezTo>
                <a:cubicBezTo>
                  <a:pt x="8145" y="11853"/>
                  <a:pt x="8199" y="12062"/>
                  <a:pt x="8235" y="12080"/>
                </a:cubicBezTo>
              </a:path>
              <a:path w="5731" h="1217">
                <a:moveTo>
                  <a:pt x="8359" y="11410"/>
                </a:moveTo>
                <a:cubicBezTo>
                  <a:pt x="8407" y="11637"/>
                  <a:pt x="8459" y="11853"/>
                  <a:pt x="8483" y="12080"/>
                </a:cubicBezTo>
                <a:cubicBezTo>
                  <a:pt x="8483" y="11949"/>
                  <a:pt x="8464" y="11757"/>
                  <a:pt x="8607" y="11683"/>
                </a:cubicBezTo>
                <a:cubicBezTo>
                  <a:pt x="8759" y="11604"/>
                  <a:pt x="8824" y="12053"/>
                  <a:pt x="8582" y="12105"/>
                </a:cubicBezTo>
                <a:cubicBezTo>
                  <a:pt x="8447" y="12082"/>
                  <a:pt x="8403" y="12086"/>
                  <a:pt x="8384" y="11981"/>
                </a:cubicBezTo>
              </a:path>
              <a:path w="5731" h="1217">
                <a:moveTo>
                  <a:pt x="8756" y="11832"/>
                </a:moveTo>
                <a:cubicBezTo>
                  <a:pt x="8858" y="11847"/>
                  <a:pt x="8953" y="11887"/>
                  <a:pt x="8979" y="11757"/>
                </a:cubicBezTo>
                <a:cubicBezTo>
                  <a:pt x="8824" y="11745"/>
                  <a:pt x="8694" y="11874"/>
                  <a:pt x="8781" y="12055"/>
                </a:cubicBezTo>
                <a:cubicBezTo>
                  <a:pt x="8884" y="12269"/>
                  <a:pt x="9080" y="11888"/>
                  <a:pt x="9103" y="11857"/>
                </a:cubicBezTo>
                <a:cubicBezTo>
                  <a:pt x="9194" y="11765"/>
                  <a:pt x="9103" y="11998"/>
                  <a:pt x="9079" y="12055"/>
                </a:cubicBezTo>
                <a:cubicBezTo>
                  <a:pt x="9107" y="11823"/>
                  <a:pt x="9124" y="11799"/>
                  <a:pt x="9302" y="11683"/>
                </a:cubicBezTo>
              </a:path>
              <a:path w="5731" h="1217">
                <a:moveTo>
                  <a:pt x="9897" y="11757"/>
                </a:moveTo>
                <a:cubicBezTo>
                  <a:pt x="9911" y="11855"/>
                  <a:pt x="9907" y="12030"/>
                  <a:pt x="10021" y="12080"/>
                </a:cubicBezTo>
                <a:cubicBezTo>
                  <a:pt x="10159" y="12140"/>
                  <a:pt x="10190" y="11829"/>
                  <a:pt x="10195" y="11782"/>
                </a:cubicBezTo>
                <a:cubicBezTo>
                  <a:pt x="10232" y="12052"/>
                  <a:pt x="10345" y="12415"/>
                  <a:pt x="10046" y="12576"/>
                </a:cubicBezTo>
                <a:cubicBezTo>
                  <a:pt x="9760" y="12731"/>
                  <a:pt x="9722" y="12572"/>
                  <a:pt x="9649" y="12378"/>
                </a:cubicBezTo>
              </a:path>
              <a:path w="5731" h="1217">
                <a:moveTo>
                  <a:pt x="10443" y="11807"/>
                </a:moveTo>
                <a:cubicBezTo>
                  <a:pt x="10353" y="11970"/>
                  <a:pt x="10309" y="11973"/>
                  <a:pt x="10393" y="12105"/>
                </a:cubicBezTo>
                <a:cubicBezTo>
                  <a:pt x="10513" y="12061"/>
                  <a:pt x="10806" y="11875"/>
                  <a:pt x="10517" y="11757"/>
                </a:cubicBezTo>
                <a:cubicBezTo>
                  <a:pt x="10467" y="11757"/>
                  <a:pt x="10418" y="11757"/>
                  <a:pt x="10368" y="11757"/>
                </a:cubicBezTo>
              </a:path>
              <a:path w="5731" h="1217">
                <a:moveTo>
                  <a:pt x="10691" y="11708"/>
                </a:moveTo>
                <a:cubicBezTo>
                  <a:pt x="10696" y="11784"/>
                  <a:pt x="10698" y="12259"/>
                  <a:pt x="10889" y="12055"/>
                </a:cubicBezTo>
                <a:cubicBezTo>
                  <a:pt x="10965" y="11930"/>
                  <a:pt x="10990" y="11887"/>
                  <a:pt x="10964" y="11782"/>
                </a:cubicBezTo>
                <a:cubicBezTo>
                  <a:pt x="10979" y="12021"/>
                  <a:pt x="10951" y="11944"/>
                  <a:pt x="11162" y="12030"/>
                </a:cubicBezTo>
              </a:path>
              <a:path w="5731" h="1217">
                <a:moveTo>
                  <a:pt x="11832" y="11708"/>
                </a:moveTo>
                <a:cubicBezTo>
                  <a:pt x="11712" y="11742"/>
                  <a:pt x="11531" y="11907"/>
                  <a:pt x="11584" y="12055"/>
                </a:cubicBezTo>
                <a:cubicBezTo>
                  <a:pt x="11635" y="12197"/>
                  <a:pt x="11804" y="11802"/>
                  <a:pt x="11807" y="11782"/>
                </a:cubicBezTo>
                <a:cubicBezTo>
                  <a:pt x="11859" y="11971"/>
                  <a:pt x="12030" y="12338"/>
                  <a:pt x="11782" y="12477"/>
                </a:cubicBezTo>
                <a:cubicBezTo>
                  <a:pt x="11623" y="12477"/>
                  <a:pt x="11566" y="12472"/>
                  <a:pt x="11485" y="12378"/>
                </a:cubicBezTo>
              </a:path>
              <a:path w="5731" h="1217">
                <a:moveTo>
                  <a:pt x="11956" y="11807"/>
                </a:moveTo>
                <a:cubicBezTo>
                  <a:pt x="12058" y="11778"/>
                  <a:pt x="12063" y="11755"/>
                  <a:pt x="12129" y="11683"/>
                </a:cubicBezTo>
                <a:cubicBezTo>
                  <a:pt x="11908" y="11746"/>
                  <a:pt x="11898" y="11822"/>
                  <a:pt x="11956" y="12030"/>
                </a:cubicBezTo>
                <a:cubicBezTo>
                  <a:pt x="12187" y="12001"/>
                  <a:pt x="12278" y="11971"/>
                  <a:pt x="12378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86200" y="4071960"/>
            <a:ext cx="625680" cy="277920"/>
          </a:xfrm>
          <a:custGeom>
            <a:avLst/>
            <a:gdLst/>
            <a:ahLst/>
            <a:rect l="l" t="t" r="r" b="b"/>
            <a:pathLst>
              <a:path w="1738" h="770">
                <a:moveTo>
                  <a:pt x="13643" y="11782"/>
                </a:moveTo>
                <a:cubicBezTo>
                  <a:pt x="13616" y="11863"/>
                  <a:pt x="13544" y="11701"/>
                  <a:pt x="13519" y="11683"/>
                </a:cubicBezTo>
                <a:cubicBezTo>
                  <a:pt x="13494" y="11675"/>
                  <a:pt x="13469" y="11666"/>
                  <a:pt x="13444" y="11658"/>
                </a:cubicBezTo>
                <a:cubicBezTo>
                  <a:pt x="13412" y="11711"/>
                  <a:pt x="13226" y="12255"/>
                  <a:pt x="13419" y="12055"/>
                </a:cubicBezTo>
                <a:cubicBezTo>
                  <a:pt x="13494" y="11977"/>
                  <a:pt x="13506" y="11857"/>
                  <a:pt x="13519" y="11757"/>
                </a:cubicBezTo>
                <a:cubicBezTo>
                  <a:pt x="13588" y="11941"/>
                  <a:pt x="13562" y="12051"/>
                  <a:pt x="13742" y="12005"/>
                </a:cubicBezTo>
              </a:path>
              <a:path w="1738" h="770">
                <a:moveTo>
                  <a:pt x="13990" y="11385"/>
                </a:moveTo>
                <a:cubicBezTo>
                  <a:pt x="13760" y="11203"/>
                  <a:pt x="13780" y="11530"/>
                  <a:pt x="13791" y="11708"/>
                </a:cubicBezTo>
                <a:cubicBezTo>
                  <a:pt x="13798" y="11820"/>
                  <a:pt x="13848" y="11980"/>
                  <a:pt x="13816" y="11981"/>
                </a:cubicBezTo>
              </a:path>
              <a:path w="1738" h="770">
                <a:moveTo>
                  <a:pt x="14263" y="11361"/>
                </a:moveTo>
                <a:cubicBezTo>
                  <a:pt x="14284" y="11544"/>
                  <a:pt x="14307" y="11721"/>
                  <a:pt x="14312" y="11906"/>
                </a:cubicBezTo>
                <a:cubicBezTo>
                  <a:pt x="14312" y="11923"/>
                  <a:pt x="14312" y="11939"/>
                  <a:pt x="14312" y="11956"/>
                </a:cubicBezTo>
              </a:path>
              <a:path w="1738" h="770">
                <a:moveTo>
                  <a:pt x="14139" y="11683"/>
                </a:moveTo>
                <a:cubicBezTo>
                  <a:pt x="14324" y="11683"/>
                  <a:pt x="14504" y="11685"/>
                  <a:pt x="14684" y="11658"/>
                </a:cubicBezTo>
                <a:cubicBezTo>
                  <a:pt x="14692" y="11658"/>
                  <a:pt x="14701" y="11658"/>
                  <a:pt x="14709" y="11658"/>
                </a:cubicBezTo>
                <a:cubicBezTo>
                  <a:pt x="14705" y="11645"/>
                  <a:pt x="14632" y="11517"/>
                  <a:pt x="14585" y="11584"/>
                </a:cubicBezTo>
                <a:cubicBezTo>
                  <a:pt x="14480" y="11732"/>
                  <a:pt x="14567" y="12070"/>
                  <a:pt x="14784" y="11881"/>
                </a:cubicBezTo>
                <a:cubicBezTo>
                  <a:pt x="14817" y="11832"/>
                  <a:pt x="14850" y="11782"/>
                  <a:pt x="14883" y="11733"/>
                </a:cubicBezTo>
                <a:cubicBezTo>
                  <a:pt x="15002" y="11571"/>
                  <a:pt x="14911" y="11780"/>
                  <a:pt x="14883" y="11857"/>
                </a:cubicBezTo>
                <a:cubicBezTo>
                  <a:pt x="14883" y="11678"/>
                  <a:pt x="14944" y="11588"/>
                  <a:pt x="15032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72080" y="4160880"/>
            <a:ext cx="446040" cy="339840"/>
          </a:xfrm>
          <a:custGeom>
            <a:avLst/>
            <a:gdLst/>
            <a:ahLst/>
            <a:rect l="l" t="t" r="r" b="b"/>
            <a:pathLst>
              <a:path w="1241" h="944">
                <a:moveTo>
                  <a:pt x="15602" y="11559"/>
                </a:moveTo>
                <a:cubicBezTo>
                  <a:pt x="15607" y="11634"/>
                  <a:pt x="15626" y="12152"/>
                  <a:pt x="15850" y="11906"/>
                </a:cubicBezTo>
                <a:cubicBezTo>
                  <a:pt x="15908" y="11790"/>
                  <a:pt x="15917" y="11774"/>
                  <a:pt x="15949" y="11708"/>
                </a:cubicBezTo>
                <a:cubicBezTo>
                  <a:pt x="15984" y="11951"/>
                  <a:pt x="16077" y="12245"/>
                  <a:pt x="15875" y="12452"/>
                </a:cubicBezTo>
                <a:cubicBezTo>
                  <a:pt x="15584" y="12751"/>
                  <a:pt x="15507" y="12205"/>
                  <a:pt x="15503" y="12080"/>
                </a:cubicBezTo>
              </a:path>
              <a:path w="1241" h="944">
                <a:moveTo>
                  <a:pt x="16148" y="11683"/>
                </a:moveTo>
                <a:cubicBezTo>
                  <a:pt x="16047" y="11862"/>
                  <a:pt x="15992" y="11860"/>
                  <a:pt x="16098" y="12005"/>
                </a:cubicBezTo>
                <a:cubicBezTo>
                  <a:pt x="16320" y="11917"/>
                  <a:pt x="16292" y="11849"/>
                  <a:pt x="16148" y="11683"/>
                </a:cubicBezTo>
              </a:path>
              <a:path w="1241" h="944">
                <a:moveTo>
                  <a:pt x="16321" y="11782"/>
                </a:moveTo>
                <a:cubicBezTo>
                  <a:pt x="16443" y="11956"/>
                  <a:pt x="16478" y="11913"/>
                  <a:pt x="16570" y="11733"/>
                </a:cubicBezTo>
                <a:cubicBezTo>
                  <a:pt x="16599" y="11677"/>
                  <a:pt x="16633" y="11803"/>
                  <a:pt x="16718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9960" y="4027320"/>
            <a:ext cx="679320" cy="411480"/>
          </a:xfrm>
          <a:custGeom>
            <a:avLst/>
            <a:gdLst/>
            <a:ahLst/>
            <a:rect l="l" t="t" r="r" b="b"/>
            <a:pathLst>
              <a:path w="1886" h="1142">
                <a:moveTo>
                  <a:pt x="17735" y="11757"/>
                </a:moveTo>
                <a:cubicBezTo>
                  <a:pt x="17716" y="11877"/>
                  <a:pt x="17671" y="11699"/>
                  <a:pt x="17562" y="11683"/>
                </a:cubicBezTo>
                <a:cubicBezTo>
                  <a:pt x="17333" y="11650"/>
                  <a:pt x="17388" y="11880"/>
                  <a:pt x="17388" y="12005"/>
                </a:cubicBezTo>
                <a:cubicBezTo>
                  <a:pt x="17509" y="12005"/>
                  <a:pt x="17550" y="11796"/>
                  <a:pt x="17636" y="11881"/>
                </a:cubicBezTo>
                <a:cubicBezTo>
                  <a:pt x="17693" y="11937"/>
                  <a:pt x="17695" y="12017"/>
                  <a:pt x="17810" y="11906"/>
                </a:cubicBezTo>
                <a:cubicBezTo>
                  <a:pt x="17984" y="11739"/>
                  <a:pt x="17904" y="11796"/>
                  <a:pt x="17909" y="12105"/>
                </a:cubicBezTo>
                <a:cubicBezTo>
                  <a:pt x="17909" y="12232"/>
                  <a:pt x="17941" y="12257"/>
                  <a:pt x="17884" y="12303"/>
                </a:cubicBezTo>
                <a:cubicBezTo>
                  <a:pt x="17783" y="12120"/>
                  <a:pt x="17781" y="11879"/>
                  <a:pt x="17934" y="11708"/>
                </a:cubicBezTo>
                <a:cubicBezTo>
                  <a:pt x="17984" y="11683"/>
                  <a:pt x="18033" y="11658"/>
                  <a:pt x="18083" y="11633"/>
                </a:cubicBezTo>
                <a:cubicBezTo>
                  <a:pt x="18152" y="11865"/>
                  <a:pt x="18107" y="11934"/>
                  <a:pt x="17859" y="11881"/>
                </a:cubicBezTo>
              </a:path>
              <a:path w="1886" h="1142">
                <a:moveTo>
                  <a:pt x="18306" y="11683"/>
                </a:moveTo>
                <a:cubicBezTo>
                  <a:pt x="18311" y="11844"/>
                  <a:pt x="18319" y="11995"/>
                  <a:pt x="18331" y="12154"/>
                </a:cubicBezTo>
                <a:cubicBezTo>
                  <a:pt x="18306" y="11982"/>
                  <a:pt x="18299" y="11814"/>
                  <a:pt x="18405" y="11658"/>
                </a:cubicBezTo>
                <a:cubicBezTo>
                  <a:pt x="18438" y="11633"/>
                  <a:pt x="18471" y="11609"/>
                  <a:pt x="18504" y="11584"/>
                </a:cubicBezTo>
                <a:cubicBezTo>
                  <a:pt x="18533" y="11664"/>
                  <a:pt x="18522" y="11992"/>
                  <a:pt x="18331" y="11857"/>
                </a:cubicBezTo>
                <a:cubicBezTo>
                  <a:pt x="18306" y="11816"/>
                  <a:pt x="18281" y="11774"/>
                  <a:pt x="18256" y="11733"/>
                </a:cubicBezTo>
              </a:path>
              <a:path w="1886" h="1142">
                <a:moveTo>
                  <a:pt x="18728" y="11187"/>
                </a:moveTo>
                <a:cubicBezTo>
                  <a:pt x="18713" y="11367"/>
                  <a:pt x="18638" y="11594"/>
                  <a:pt x="18752" y="11757"/>
                </a:cubicBezTo>
                <a:cubicBezTo>
                  <a:pt x="18847" y="11892"/>
                  <a:pt x="18995" y="11624"/>
                  <a:pt x="19025" y="11584"/>
                </a:cubicBezTo>
                <a:cubicBezTo>
                  <a:pt x="19031" y="11668"/>
                  <a:pt x="19031" y="11952"/>
                  <a:pt x="19174" y="11782"/>
                </a:cubicBezTo>
                <a:cubicBezTo>
                  <a:pt x="19223" y="11686"/>
                  <a:pt x="19239" y="11656"/>
                  <a:pt x="19248" y="11584"/>
                </a:cubicBezTo>
                <a:cubicBezTo>
                  <a:pt x="19238" y="11796"/>
                  <a:pt x="19257" y="12019"/>
                  <a:pt x="19124" y="12204"/>
                </a:cubicBezTo>
                <a:cubicBezTo>
                  <a:pt x="18933" y="12471"/>
                  <a:pt x="18738" y="12264"/>
                  <a:pt x="18554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16840" y="4000680"/>
            <a:ext cx="465120" cy="285480"/>
          </a:xfrm>
          <a:custGeom>
            <a:avLst/>
            <a:gdLst/>
            <a:ahLst/>
            <a:rect l="l" t="t" r="r" b="b"/>
            <a:pathLst>
              <a:path w="1291" h="795">
                <a:moveTo>
                  <a:pt x="20067" y="11112"/>
                </a:moveTo>
                <a:cubicBezTo>
                  <a:pt x="20092" y="11377"/>
                  <a:pt x="20117" y="11639"/>
                  <a:pt x="20117" y="11906"/>
                </a:cubicBezTo>
              </a:path>
              <a:path w="1291" h="795">
                <a:moveTo>
                  <a:pt x="19769" y="11460"/>
                </a:moveTo>
                <a:cubicBezTo>
                  <a:pt x="20024" y="11511"/>
                  <a:pt x="20417" y="11636"/>
                  <a:pt x="20489" y="11261"/>
                </a:cubicBezTo>
                <a:cubicBezTo>
                  <a:pt x="20481" y="11228"/>
                  <a:pt x="20472" y="11195"/>
                  <a:pt x="20464" y="11162"/>
                </a:cubicBezTo>
                <a:cubicBezTo>
                  <a:pt x="20464" y="11361"/>
                  <a:pt x="20444" y="11558"/>
                  <a:pt x="20439" y="11757"/>
                </a:cubicBezTo>
                <a:cubicBezTo>
                  <a:pt x="20439" y="11765"/>
                  <a:pt x="20439" y="11774"/>
                  <a:pt x="20439" y="11782"/>
                </a:cubicBezTo>
                <a:cubicBezTo>
                  <a:pt x="20457" y="11737"/>
                  <a:pt x="20553" y="11358"/>
                  <a:pt x="20662" y="11410"/>
                </a:cubicBezTo>
                <a:cubicBezTo>
                  <a:pt x="20771" y="11462"/>
                  <a:pt x="20765" y="11658"/>
                  <a:pt x="20786" y="11757"/>
                </a:cubicBezTo>
              </a:path>
              <a:path w="1291" h="795">
                <a:moveTo>
                  <a:pt x="20886" y="11633"/>
                </a:moveTo>
                <a:cubicBezTo>
                  <a:pt x="20975" y="11559"/>
                  <a:pt x="21072" y="11498"/>
                  <a:pt x="21034" y="11385"/>
                </a:cubicBezTo>
                <a:cubicBezTo>
                  <a:pt x="20854" y="11578"/>
                  <a:pt x="20768" y="11674"/>
                  <a:pt x="21010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85080" y="4044960"/>
            <a:ext cx="357120" cy="179280"/>
          </a:xfrm>
          <a:custGeom>
            <a:avLst/>
            <a:gdLst/>
            <a:ahLst/>
            <a:rect l="l" t="t" r="r" b="b"/>
            <a:pathLst>
              <a:path w="993" h="497">
                <a:moveTo>
                  <a:pt x="21903" y="11385"/>
                </a:moveTo>
                <a:cubicBezTo>
                  <a:pt x="21933" y="11495"/>
                  <a:pt x="22022" y="11699"/>
                  <a:pt x="21952" y="11609"/>
                </a:cubicBezTo>
                <a:cubicBezTo>
                  <a:pt x="22004" y="11330"/>
                  <a:pt x="21988" y="11263"/>
                  <a:pt x="22275" y="11237"/>
                </a:cubicBezTo>
              </a:path>
              <a:path w="993" h="497">
                <a:moveTo>
                  <a:pt x="22498" y="11286"/>
                </a:moveTo>
                <a:cubicBezTo>
                  <a:pt x="22437" y="11476"/>
                  <a:pt x="22367" y="11609"/>
                  <a:pt x="22523" y="11733"/>
                </a:cubicBezTo>
                <a:cubicBezTo>
                  <a:pt x="22645" y="11629"/>
                  <a:pt x="22700" y="11575"/>
                  <a:pt x="22721" y="11410"/>
                </a:cubicBezTo>
                <a:cubicBezTo>
                  <a:pt x="22767" y="11593"/>
                  <a:pt x="22770" y="11607"/>
                  <a:pt x="22895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75760" y="4054320"/>
            <a:ext cx="135000" cy="15264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23341" y="11485"/>
                </a:moveTo>
                <a:cubicBezTo>
                  <a:pt x="23396" y="11485"/>
                  <a:pt x="23502" y="11511"/>
                  <a:pt x="23515" y="11460"/>
                </a:cubicBezTo>
                <a:cubicBezTo>
                  <a:pt x="23533" y="11388"/>
                  <a:pt x="23505" y="11328"/>
                  <a:pt x="23490" y="11261"/>
                </a:cubicBezTo>
                <a:cubicBezTo>
                  <a:pt x="23345" y="11334"/>
                  <a:pt x="23097" y="11601"/>
                  <a:pt x="23416" y="11683"/>
                </a:cubicBezTo>
                <a:cubicBezTo>
                  <a:pt x="23490" y="11683"/>
                  <a:pt x="23565" y="11683"/>
                  <a:pt x="23639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96080" y="4786200"/>
            <a:ext cx="1928880" cy="1893960"/>
          </a:xfrm>
          <a:custGeom>
            <a:avLst/>
            <a:gdLst/>
            <a:ahLst/>
            <a:rect l="l" t="t" r="r" b="b"/>
            <a:pathLst>
              <a:path w="5359" h="5260">
                <a:moveTo>
                  <a:pt x="18876" y="14213"/>
                </a:moveTo>
                <a:cubicBezTo>
                  <a:pt x="18953" y="14217"/>
                  <a:pt x="19103" y="14232"/>
                  <a:pt x="19199" y="14238"/>
                </a:cubicBezTo>
                <a:cubicBezTo>
                  <a:pt x="19558" y="14261"/>
                  <a:pt x="19932" y="14231"/>
                  <a:pt x="20290" y="14213"/>
                </a:cubicBezTo>
                <a:cubicBezTo>
                  <a:pt x="20745" y="14190"/>
                  <a:pt x="21198" y="14188"/>
                  <a:pt x="21654" y="14188"/>
                </a:cubicBezTo>
                <a:cubicBezTo>
                  <a:pt x="22217" y="14188"/>
                  <a:pt x="22778" y="14163"/>
                  <a:pt x="23341" y="14163"/>
                </a:cubicBezTo>
                <a:cubicBezTo>
                  <a:pt x="23426" y="14163"/>
                  <a:pt x="24432" y="14083"/>
                  <a:pt x="24110" y="14213"/>
                </a:cubicBezTo>
              </a:path>
              <a:path w="5359" h="5260">
                <a:moveTo>
                  <a:pt x="21332" y="13370"/>
                </a:moveTo>
                <a:cubicBezTo>
                  <a:pt x="21325" y="13460"/>
                  <a:pt x="21322" y="13555"/>
                  <a:pt x="21307" y="13643"/>
                </a:cubicBezTo>
                <a:cubicBezTo>
                  <a:pt x="21282" y="13795"/>
                  <a:pt x="21292" y="13981"/>
                  <a:pt x="21307" y="14139"/>
                </a:cubicBezTo>
                <a:cubicBezTo>
                  <a:pt x="21333" y="14418"/>
                  <a:pt x="21364" y="14702"/>
                  <a:pt x="21382" y="14982"/>
                </a:cubicBezTo>
                <a:cubicBezTo>
                  <a:pt x="21394" y="15171"/>
                  <a:pt x="21402" y="15364"/>
                  <a:pt x="21406" y="15553"/>
                </a:cubicBezTo>
                <a:cubicBezTo>
                  <a:pt x="21412" y="15836"/>
                  <a:pt x="21415" y="16115"/>
                  <a:pt x="21431" y="16396"/>
                </a:cubicBezTo>
                <a:cubicBezTo>
                  <a:pt x="21444" y="16612"/>
                  <a:pt x="21456" y="16823"/>
                  <a:pt x="21456" y="17041"/>
                </a:cubicBezTo>
                <a:cubicBezTo>
                  <a:pt x="21456" y="17152"/>
                  <a:pt x="21440" y="17156"/>
                  <a:pt x="21431" y="17239"/>
                </a:cubicBezTo>
                <a:cubicBezTo>
                  <a:pt x="21416" y="17380"/>
                  <a:pt x="21400" y="17633"/>
                  <a:pt x="21456" y="17760"/>
                </a:cubicBezTo>
                <a:cubicBezTo>
                  <a:pt x="21456" y="17752"/>
                  <a:pt x="21456" y="17743"/>
                  <a:pt x="21456" y="17735"/>
                </a:cubicBezTo>
              </a:path>
              <a:path w="5359" h="5260">
                <a:moveTo>
                  <a:pt x="19745" y="13494"/>
                </a:moveTo>
                <a:cubicBezTo>
                  <a:pt x="19681" y="13515"/>
                  <a:pt x="19720" y="13748"/>
                  <a:pt x="19720" y="13816"/>
                </a:cubicBezTo>
                <a:cubicBezTo>
                  <a:pt x="19720" y="13866"/>
                  <a:pt x="19720" y="13915"/>
                  <a:pt x="19720" y="13965"/>
                </a:cubicBezTo>
              </a:path>
              <a:path w="5359" h="5260">
                <a:moveTo>
                  <a:pt x="19199" y="13543"/>
                </a:moveTo>
                <a:cubicBezTo>
                  <a:pt x="19382" y="13527"/>
                  <a:pt x="19560" y="13519"/>
                  <a:pt x="19745" y="13519"/>
                </a:cubicBezTo>
                <a:cubicBezTo>
                  <a:pt x="19873" y="13519"/>
                  <a:pt x="19879" y="13492"/>
                  <a:pt x="19943" y="13568"/>
                </a:cubicBezTo>
              </a:path>
              <a:path w="5359" h="5260">
                <a:moveTo>
                  <a:pt x="19298" y="13990"/>
                </a:moveTo>
                <a:cubicBezTo>
                  <a:pt x="19487" y="13990"/>
                  <a:pt x="19658" y="13959"/>
                  <a:pt x="19844" y="13940"/>
                </a:cubicBezTo>
                <a:cubicBezTo>
                  <a:pt x="19902" y="13940"/>
                  <a:pt x="19910" y="13940"/>
                  <a:pt x="19943" y="13940"/>
                </a:cubicBezTo>
              </a:path>
              <a:path w="5359" h="5260">
                <a:moveTo>
                  <a:pt x="20017" y="13717"/>
                </a:moveTo>
                <a:cubicBezTo>
                  <a:pt x="20034" y="13800"/>
                  <a:pt x="20045" y="13883"/>
                  <a:pt x="20067" y="13965"/>
                </a:cubicBezTo>
                <a:cubicBezTo>
                  <a:pt x="20038" y="13878"/>
                  <a:pt x="19979" y="13814"/>
                  <a:pt x="20042" y="13717"/>
                </a:cubicBezTo>
                <a:cubicBezTo>
                  <a:pt x="20121" y="13596"/>
                  <a:pt x="20256" y="13660"/>
                  <a:pt x="20315" y="13767"/>
                </a:cubicBezTo>
                <a:cubicBezTo>
                  <a:pt x="20352" y="13834"/>
                  <a:pt x="20340" y="13918"/>
                  <a:pt x="20340" y="13990"/>
                </a:cubicBezTo>
              </a:path>
              <a:path w="5359" h="5260">
                <a:moveTo>
                  <a:pt x="22175" y="13667"/>
                </a:moveTo>
                <a:cubicBezTo>
                  <a:pt x="22175" y="13602"/>
                  <a:pt x="22191" y="13570"/>
                  <a:pt x="22101" y="13543"/>
                </a:cubicBezTo>
                <a:cubicBezTo>
                  <a:pt x="22076" y="13543"/>
                  <a:pt x="22052" y="13543"/>
                  <a:pt x="22027" y="13543"/>
                </a:cubicBezTo>
                <a:cubicBezTo>
                  <a:pt x="21890" y="13742"/>
                  <a:pt x="21876" y="13849"/>
                  <a:pt x="21977" y="14064"/>
                </a:cubicBezTo>
                <a:cubicBezTo>
                  <a:pt x="22157" y="13969"/>
                  <a:pt x="22274" y="13908"/>
                  <a:pt x="22151" y="13692"/>
                </a:cubicBezTo>
                <a:cubicBezTo>
                  <a:pt x="22094" y="13617"/>
                  <a:pt x="22090" y="13605"/>
                  <a:pt x="22051" y="13568"/>
                </a:cubicBezTo>
              </a:path>
              <a:path w="5359" h="5260">
                <a:moveTo>
                  <a:pt x="22349" y="13667"/>
                </a:moveTo>
                <a:cubicBezTo>
                  <a:pt x="22327" y="13775"/>
                  <a:pt x="22287" y="13848"/>
                  <a:pt x="22324" y="13965"/>
                </a:cubicBezTo>
                <a:cubicBezTo>
                  <a:pt x="22332" y="13973"/>
                  <a:pt x="22341" y="13982"/>
                  <a:pt x="22349" y="13990"/>
                </a:cubicBezTo>
                <a:cubicBezTo>
                  <a:pt x="22459" y="13926"/>
                  <a:pt x="22510" y="13872"/>
                  <a:pt x="22547" y="13742"/>
                </a:cubicBezTo>
                <a:cubicBezTo>
                  <a:pt x="22563" y="13856"/>
                  <a:pt x="22573" y="13903"/>
                  <a:pt x="22671" y="13940"/>
                </a:cubicBezTo>
              </a:path>
              <a:path w="5359" h="5260">
                <a:moveTo>
                  <a:pt x="22771" y="13295"/>
                </a:moveTo>
                <a:cubicBezTo>
                  <a:pt x="22771" y="13465"/>
                  <a:pt x="22777" y="13621"/>
                  <a:pt x="22771" y="13791"/>
                </a:cubicBezTo>
                <a:cubicBezTo>
                  <a:pt x="22771" y="13885"/>
                  <a:pt x="22750" y="13906"/>
                  <a:pt x="22796" y="13940"/>
                </a:cubicBezTo>
                <a:cubicBezTo>
                  <a:pt x="22888" y="13940"/>
                  <a:pt x="22937" y="13931"/>
                  <a:pt x="23019" y="13891"/>
                </a:cubicBezTo>
              </a:path>
              <a:path w="5359" h="5260">
                <a:moveTo>
                  <a:pt x="22696" y="13643"/>
                </a:moveTo>
                <a:cubicBezTo>
                  <a:pt x="22808" y="13629"/>
                  <a:pt x="22886" y="13618"/>
                  <a:pt x="22994" y="13618"/>
                </a:cubicBezTo>
              </a:path>
              <a:path w="5359" h="5260">
                <a:moveTo>
                  <a:pt x="19720" y="14486"/>
                </a:moveTo>
                <a:cubicBezTo>
                  <a:pt x="19736" y="14567"/>
                  <a:pt x="19769" y="14620"/>
                  <a:pt x="19720" y="14709"/>
                </a:cubicBezTo>
                <a:cubicBezTo>
                  <a:pt x="19681" y="14748"/>
                  <a:pt x="19664" y="14750"/>
                  <a:pt x="19670" y="14784"/>
                </a:cubicBezTo>
                <a:cubicBezTo>
                  <a:pt x="19780" y="14784"/>
                  <a:pt x="19884" y="14764"/>
                  <a:pt x="19993" y="14759"/>
                </a:cubicBezTo>
                <a:cubicBezTo>
                  <a:pt x="20051" y="14756"/>
                  <a:pt x="20011" y="14787"/>
                  <a:pt x="20067" y="14759"/>
                </a:cubicBezTo>
              </a:path>
              <a:path w="5359" h="5260">
                <a:moveTo>
                  <a:pt x="19968" y="14387"/>
                </a:moveTo>
                <a:cubicBezTo>
                  <a:pt x="19987" y="14579"/>
                  <a:pt x="19993" y="14763"/>
                  <a:pt x="19993" y="14957"/>
                </a:cubicBezTo>
                <a:cubicBezTo>
                  <a:pt x="19993" y="15006"/>
                  <a:pt x="19968" y="15139"/>
                  <a:pt x="20017" y="15156"/>
                </a:cubicBezTo>
              </a:path>
              <a:path w="5359" h="5260">
                <a:moveTo>
                  <a:pt x="22622" y="14436"/>
                </a:moveTo>
                <a:cubicBezTo>
                  <a:pt x="22437" y="14451"/>
                  <a:pt x="22342" y="14497"/>
                  <a:pt x="22200" y="14610"/>
                </a:cubicBezTo>
                <a:cubicBezTo>
                  <a:pt x="22251" y="14814"/>
                  <a:pt x="22450" y="14819"/>
                  <a:pt x="22523" y="15007"/>
                </a:cubicBezTo>
                <a:cubicBezTo>
                  <a:pt x="22515" y="15023"/>
                  <a:pt x="22506" y="15040"/>
                  <a:pt x="22498" y="15056"/>
                </a:cubicBezTo>
                <a:cubicBezTo>
                  <a:pt x="22308" y="15091"/>
                  <a:pt x="22335" y="14937"/>
                  <a:pt x="22399" y="14784"/>
                </a:cubicBezTo>
                <a:cubicBezTo>
                  <a:pt x="22466" y="14671"/>
                  <a:pt x="22482" y="14639"/>
                  <a:pt x="22547" y="14585"/>
                </a:cubicBezTo>
              </a:path>
              <a:path w="5359" h="5260">
                <a:moveTo>
                  <a:pt x="19893" y="15627"/>
                </a:moveTo>
                <a:cubicBezTo>
                  <a:pt x="19823" y="15735"/>
                  <a:pt x="19800" y="15898"/>
                  <a:pt x="19769" y="16024"/>
                </a:cubicBezTo>
                <a:cubicBezTo>
                  <a:pt x="19748" y="16131"/>
                  <a:pt x="19740" y="16155"/>
                  <a:pt x="19745" y="16222"/>
                </a:cubicBezTo>
                <a:cubicBezTo>
                  <a:pt x="19925" y="16202"/>
                  <a:pt x="20087" y="16165"/>
                  <a:pt x="20216" y="16024"/>
                </a:cubicBezTo>
                <a:cubicBezTo>
                  <a:pt x="20236" y="15983"/>
                  <a:pt x="20245" y="15977"/>
                  <a:pt x="20241" y="15949"/>
                </a:cubicBezTo>
                <a:cubicBezTo>
                  <a:pt x="20116" y="15909"/>
                  <a:pt x="20005" y="15935"/>
                  <a:pt x="19943" y="16073"/>
                </a:cubicBezTo>
                <a:cubicBezTo>
                  <a:pt x="19895" y="16181"/>
                  <a:pt x="19982" y="16185"/>
                  <a:pt x="20042" y="16197"/>
                </a:cubicBezTo>
              </a:path>
              <a:path w="5359" h="5260">
                <a:moveTo>
                  <a:pt x="22151" y="15528"/>
                </a:moveTo>
                <a:cubicBezTo>
                  <a:pt x="22151" y="15672"/>
                  <a:pt x="22166" y="15807"/>
                  <a:pt x="22175" y="15949"/>
                </a:cubicBezTo>
                <a:cubicBezTo>
                  <a:pt x="22175" y="16007"/>
                  <a:pt x="22175" y="16016"/>
                  <a:pt x="22175" y="16049"/>
                </a:cubicBezTo>
              </a:path>
              <a:path w="5359" h="5260">
                <a:moveTo>
                  <a:pt x="22423" y="15553"/>
                </a:moveTo>
                <a:cubicBezTo>
                  <a:pt x="22479" y="15497"/>
                  <a:pt x="22561" y="15443"/>
                  <a:pt x="22647" y="15478"/>
                </a:cubicBezTo>
                <a:cubicBezTo>
                  <a:pt x="22869" y="15567"/>
                  <a:pt x="22825" y="15849"/>
                  <a:pt x="22647" y="15949"/>
                </a:cubicBezTo>
                <a:cubicBezTo>
                  <a:pt x="22557" y="16000"/>
                  <a:pt x="22487" y="15962"/>
                  <a:pt x="22399" y="15949"/>
                </a:cubicBezTo>
                <a:cubicBezTo>
                  <a:pt x="22468" y="15811"/>
                  <a:pt x="22579" y="15729"/>
                  <a:pt x="22746" y="15850"/>
                </a:cubicBezTo>
                <a:cubicBezTo>
                  <a:pt x="22767" y="15866"/>
                  <a:pt x="22817" y="15946"/>
                  <a:pt x="22845" y="15974"/>
                </a:cubicBezTo>
              </a:path>
              <a:path w="5359" h="5260">
                <a:moveTo>
                  <a:pt x="20737" y="14684"/>
                </a:moveTo>
                <a:cubicBezTo>
                  <a:pt x="20796" y="14744"/>
                  <a:pt x="20843" y="14789"/>
                  <a:pt x="20886" y="14858"/>
                </a:cubicBezTo>
              </a:path>
              <a:path w="5359" h="5260">
                <a:moveTo>
                  <a:pt x="21084" y="14511"/>
                </a:moveTo>
                <a:cubicBezTo>
                  <a:pt x="21166" y="14511"/>
                  <a:pt x="21195" y="14509"/>
                  <a:pt x="21183" y="14610"/>
                </a:cubicBezTo>
                <a:cubicBezTo>
                  <a:pt x="21171" y="14712"/>
                  <a:pt x="21137" y="14749"/>
                  <a:pt x="21109" y="14833"/>
                </a:cubicBezTo>
                <a:cubicBezTo>
                  <a:pt x="21170" y="14833"/>
                  <a:pt x="21210" y="14829"/>
                  <a:pt x="21258" y="14808"/>
                </a:cubicBezTo>
              </a:path>
              <a:path w="5359" h="5260">
                <a:moveTo>
                  <a:pt x="21580" y="14635"/>
                </a:moveTo>
                <a:cubicBezTo>
                  <a:pt x="21625" y="14635"/>
                  <a:pt x="21640" y="14620"/>
                  <a:pt x="21679" y="14610"/>
                </a:cubicBezTo>
              </a:path>
              <a:path w="5359" h="5260">
                <a:moveTo>
                  <a:pt x="21506" y="14784"/>
                </a:moveTo>
                <a:cubicBezTo>
                  <a:pt x="21589" y="14784"/>
                  <a:pt x="21671" y="14784"/>
                  <a:pt x="21754" y="14784"/>
                </a:cubicBezTo>
              </a:path>
              <a:path w="5359" h="5260">
                <a:moveTo>
                  <a:pt x="20687" y="15974"/>
                </a:moveTo>
                <a:cubicBezTo>
                  <a:pt x="20687" y="15937"/>
                  <a:pt x="20763" y="16014"/>
                  <a:pt x="20811" y="16024"/>
                </a:cubicBezTo>
              </a:path>
              <a:path w="5359" h="5260">
                <a:moveTo>
                  <a:pt x="20836" y="15875"/>
                </a:moveTo>
                <a:cubicBezTo>
                  <a:pt x="20828" y="15944"/>
                  <a:pt x="20800" y="16141"/>
                  <a:pt x="20786" y="16073"/>
                </a:cubicBezTo>
                <a:cubicBezTo>
                  <a:pt x="20786" y="16057"/>
                  <a:pt x="20786" y="16040"/>
                  <a:pt x="20786" y="16024"/>
                </a:cubicBezTo>
              </a:path>
              <a:path w="5359" h="5260">
                <a:moveTo>
                  <a:pt x="21034" y="15801"/>
                </a:moveTo>
                <a:cubicBezTo>
                  <a:pt x="21145" y="15811"/>
                  <a:pt x="21200" y="15792"/>
                  <a:pt x="21183" y="15925"/>
                </a:cubicBezTo>
                <a:cubicBezTo>
                  <a:pt x="21173" y="16003"/>
                  <a:pt x="21146" y="16067"/>
                  <a:pt x="21109" y="16049"/>
                </a:cubicBezTo>
                <a:cubicBezTo>
                  <a:pt x="21205" y="16013"/>
                  <a:pt x="21284" y="15994"/>
                  <a:pt x="21382" y="15974"/>
                </a:cubicBezTo>
              </a:path>
              <a:path w="5359" h="5260">
                <a:moveTo>
                  <a:pt x="19273" y="17959"/>
                </a:moveTo>
                <a:cubicBezTo>
                  <a:pt x="19286" y="18007"/>
                  <a:pt x="19442" y="18435"/>
                  <a:pt x="19372" y="18479"/>
                </a:cubicBezTo>
                <a:cubicBezTo>
                  <a:pt x="19364" y="18471"/>
                  <a:pt x="19356" y="18463"/>
                  <a:pt x="19348" y="18455"/>
                </a:cubicBezTo>
              </a:path>
              <a:path w="5359" h="5260">
                <a:moveTo>
                  <a:pt x="18926" y="17934"/>
                </a:moveTo>
                <a:cubicBezTo>
                  <a:pt x="19070" y="17894"/>
                  <a:pt x="19543" y="17722"/>
                  <a:pt x="19472" y="18058"/>
                </a:cubicBezTo>
                <a:cubicBezTo>
                  <a:pt x="19453" y="18150"/>
                  <a:pt x="19346" y="18162"/>
                  <a:pt x="19348" y="18256"/>
                </a:cubicBezTo>
                <a:cubicBezTo>
                  <a:pt x="19559" y="18244"/>
                  <a:pt x="19645" y="18279"/>
                  <a:pt x="19695" y="18504"/>
                </a:cubicBezTo>
                <a:cubicBezTo>
                  <a:pt x="19695" y="18521"/>
                  <a:pt x="19695" y="18537"/>
                  <a:pt x="19695" y="18554"/>
                </a:cubicBezTo>
              </a:path>
              <a:path w="5359" h="5260">
                <a:moveTo>
                  <a:pt x="19794" y="18231"/>
                </a:moveTo>
                <a:cubicBezTo>
                  <a:pt x="19837" y="18359"/>
                  <a:pt x="19841" y="18389"/>
                  <a:pt x="19893" y="18455"/>
                </a:cubicBezTo>
                <a:cubicBezTo>
                  <a:pt x="20082" y="18454"/>
                  <a:pt x="20095" y="18366"/>
                  <a:pt x="20117" y="18182"/>
                </a:cubicBezTo>
                <a:cubicBezTo>
                  <a:pt x="20022" y="18150"/>
                  <a:pt x="20138" y="18388"/>
                  <a:pt x="20166" y="18430"/>
                </a:cubicBezTo>
                <a:cubicBezTo>
                  <a:pt x="20220" y="18483"/>
                  <a:pt x="20242" y="18496"/>
                  <a:pt x="20290" y="18430"/>
                </a:cubicBezTo>
              </a:path>
              <a:path w="5359" h="5260">
                <a:moveTo>
                  <a:pt x="20464" y="18132"/>
                </a:moveTo>
                <a:cubicBezTo>
                  <a:pt x="20529" y="18128"/>
                  <a:pt x="20665" y="18145"/>
                  <a:pt x="20687" y="18083"/>
                </a:cubicBezTo>
                <a:cubicBezTo>
                  <a:pt x="20581" y="17998"/>
                  <a:pt x="20528" y="18094"/>
                  <a:pt x="20489" y="18207"/>
                </a:cubicBezTo>
                <a:cubicBezTo>
                  <a:pt x="20469" y="18308"/>
                  <a:pt x="20450" y="18328"/>
                  <a:pt x="20489" y="18380"/>
                </a:cubicBezTo>
                <a:cubicBezTo>
                  <a:pt x="20646" y="18361"/>
                  <a:pt x="20762" y="18315"/>
                  <a:pt x="20910" y="18256"/>
                </a:cubicBezTo>
              </a:path>
              <a:path w="5359" h="5260">
                <a:moveTo>
                  <a:pt x="22275" y="17711"/>
                </a:moveTo>
                <a:cubicBezTo>
                  <a:pt x="22379" y="17696"/>
                  <a:pt x="22527" y="17642"/>
                  <a:pt x="22572" y="17785"/>
                </a:cubicBezTo>
                <a:cubicBezTo>
                  <a:pt x="22639" y="18001"/>
                  <a:pt x="22425" y="18174"/>
                  <a:pt x="22299" y="18306"/>
                </a:cubicBezTo>
                <a:cubicBezTo>
                  <a:pt x="22291" y="18314"/>
                  <a:pt x="22283" y="18323"/>
                  <a:pt x="22275" y="18331"/>
                </a:cubicBezTo>
                <a:cubicBezTo>
                  <a:pt x="22401" y="18288"/>
                  <a:pt x="22651" y="18251"/>
                  <a:pt x="22721" y="181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69120" y="5249880"/>
            <a:ext cx="687600" cy="1376280"/>
          </a:xfrm>
          <a:custGeom>
            <a:avLst/>
            <a:gdLst/>
            <a:ahLst/>
            <a:rect l="l" t="t" r="r" b="b"/>
            <a:pathLst>
              <a:path w="1911" h="3821">
                <a:moveTo>
                  <a:pt x="20861" y="14585"/>
                </a:moveTo>
                <a:cubicBezTo>
                  <a:pt x="20825" y="14666"/>
                  <a:pt x="20793" y="14841"/>
                  <a:pt x="20762" y="14883"/>
                </a:cubicBezTo>
              </a:path>
              <a:path w="1911" h="3821">
                <a:moveTo>
                  <a:pt x="21679" y="15751"/>
                </a:moveTo>
                <a:cubicBezTo>
                  <a:pt x="21720" y="15724"/>
                  <a:pt x="21753" y="15710"/>
                  <a:pt x="21803" y="15701"/>
                </a:cubicBezTo>
              </a:path>
              <a:path w="1911" h="3821">
                <a:moveTo>
                  <a:pt x="21654" y="15875"/>
                </a:moveTo>
                <a:cubicBezTo>
                  <a:pt x="21741" y="15875"/>
                  <a:pt x="21777" y="15870"/>
                  <a:pt x="21828" y="15825"/>
                </a:cubicBezTo>
              </a:path>
              <a:path w="1911" h="3821">
                <a:moveTo>
                  <a:pt x="21828" y="15825"/>
                </a:moveTo>
                <a:lnTo>
                  <a:pt x="21828" y="15825"/>
                </a:lnTo>
              </a:path>
              <a:path w="1911" h="3821">
                <a:moveTo>
                  <a:pt x="20191" y="17835"/>
                </a:moveTo>
                <a:cubicBezTo>
                  <a:pt x="20283" y="18014"/>
                  <a:pt x="20356" y="18163"/>
                  <a:pt x="20414" y="18355"/>
                </a:cubicBezTo>
              </a:path>
              <a:path w="1911" h="3821">
                <a:moveTo>
                  <a:pt x="20985" y="17909"/>
                </a:moveTo>
                <a:cubicBezTo>
                  <a:pt x="20985" y="17917"/>
                  <a:pt x="20985" y="17926"/>
                  <a:pt x="20985" y="17934"/>
                </a:cubicBezTo>
              </a:path>
              <a:path w="1911" h="3821">
                <a:moveTo>
                  <a:pt x="21034" y="18157"/>
                </a:moveTo>
                <a:cubicBezTo>
                  <a:pt x="21034" y="18165"/>
                  <a:pt x="21034" y="18174"/>
                  <a:pt x="21034" y="18182"/>
                </a:cubicBezTo>
              </a:path>
              <a:path w="1911" h="3821">
                <a:moveTo>
                  <a:pt x="21034" y="18182"/>
                </a:moveTo>
                <a:lnTo>
                  <a:pt x="21034" y="18182"/>
                </a:lnTo>
              </a:path>
              <a:path w="1911" h="3821">
                <a:moveTo>
                  <a:pt x="21779" y="18033"/>
                </a:moveTo>
                <a:cubicBezTo>
                  <a:pt x="21886" y="18126"/>
                  <a:pt x="21990" y="18220"/>
                  <a:pt x="22101" y="18306"/>
                </a:cubicBezTo>
              </a:path>
              <a:path w="1911" h="3821">
                <a:moveTo>
                  <a:pt x="22027" y="17934"/>
                </a:moveTo>
                <a:cubicBezTo>
                  <a:pt x="22014" y="17975"/>
                  <a:pt x="21891" y="18418"/>
                  <a:pt x="21853" y="183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304920"/>
            <a:ext cx="838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04920"/>
            <a:ext cx="8686800" cy="73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to identify pattern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pret and write a rule for a one-operation function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a function table, all we have to do is fi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s being follo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know about patter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how a relationship between objects/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peration would result in an incre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peration would result in a decre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0120" y="3714840"/>
            <a:ext cx="160560" cy="27000"/>
          </a:xfrm>
          <a:custGeom>
            <a:avLst/>
            <a:gdLst/>
            <a:ahLst/>
            <a:rect l="l" t="t" r="r" b="b"/>
            <a:pathLst>
              <a:path w="447" h="75">
                <a:moveTo>
                  <a:pt x="7417" y="10393"/>
                </a:moveTo>
                <a:cubicBezTo>
                  <a:pt x="7639" y="10344"/>
                  <a:pt x="7712" y="10328"/>
                  <a:pt x="7863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84280" y="3679920"/>
            <a:ext cx="384480" cy="357120"/>
          </a:xfrm>
          <a:custGeom>
            <a:avLst/>
            <a:gdLst/>
            <a:ahLst/>
            <a:rect l="l" t="t" r="r" b="b"/>
            <a:pathLst>
              <a:path w="1067" h="993">
                <a:moveTo>
                  <a:pt x="7144" y="10616"/>
                </a:moveTo>
                <a:cubicBezTo>
                  <a:pt x="7220" y="10616"/>
                  <a:pt x="7214" y="10534"/>
                  <a:pt x="7169" y="10468"/>
                </a:cubicBezTo>
                <a:cubicBezTo>
                  <a:pt x="6987" y="10199"/>
                  <a:pt x="6839" y="10546"/>
                  <a:pt x="6772" y="10691"/>
                </a:cubicBezTo>
                <a:cubicBezTo>
                  <a:pt x="6954" y="10823"/>
                  <a:pt x="6992" y="10710"/>
                  <a:pt x="7020" y="10517"/>
                </a:cubicBezTo>
                <a:cubicBezTo>
                  <a:pt x="6997" y="10494"/>
                  <a:pt x="6989" y="10483"/>
                  <a:pt x="6995" y="10517"/>
                </a:cubicBezTo>
                <a:cubicBezTo>
                  <a:pt x="7082" y="10768"/>
                  <a:pt x="7223" y="10970"/>
                  <a:pt x="6945" y="11137"/>
                </a:cubicBezTo>
                <a:cubicBezTo>
                  <a:pt x="6764" y="11198"/>
                  <a:pt x="6733" y="11234"/>
                  <a:pt x="6623" y="11187"/>
                </a:cubicBezTo>
              </a:path>
              <a:path w="1067" h="993">
                <a:moveTo>
                  <a:pt x="7169" y="10641"/>
                </a:moveTo>
                <a:cubicBezTo>
                  <a:pt x="7210" y="10618"/>
                  <a:pt x="7322" y="10573"/>
                  <a:pt x="7342" y="10542"/>
                </a:cubicBezTo>
                <a:cubicBezTo>
                  <a:pt x="7342" y="10534"/>
                  <a:pt x="7342" y="10525"/>
                  <a:pt x="7342" y="10517"/>
                </a:cubicBezTo>
                <a:cubicBezTo>
                  <a:pt x="7228" y="10501"/>
                  <a:pt x="7144" y="10478"/>
                  <a:pt x="7144" y="10641"/>
                </a:cubicBezTo>
                <a:cubicBezTo>
                  <a:pt x="7144" y="11007"/>
                  <a:pt x="7533" y="10642"/>
                  <a:pt x="7615" y="10567"/>
                </a:cubicBezTo>
              </a:path>
              <a:path w="1067" h="993">
                <a:moveTo>
                  <a:pt x="7491" y="10220"/>
                </a:moveTo>
                <a:cubicBezTo>
                  <a:pt x="7539" y="10350"/>
                  <a:pt x="7587" y="10583"/>
                  <a:pt x="7689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81240" y="3625920"/>
            <a:ext cx="812880" cy="330120"/>
          </a:xfrm>
          <a:custGeom>
            <a:avLst/>
            <a:gdLst/>
            <a:ahLst/>
            <a:rect l="l" t="t" r="r" b="b"/>
            <a:pathLst>
              <a:path w="2258" h="918">
                <a:moveTo>
                  <a:pt x="8558" y="10071"/>
                </a:moveTo>
                <a:cubicBezTo>
                  <a:pt x="8633" y="10254"/>
                  <a:pt x="8721" y="10427"/>
                  <a:pt x="8781" y="10616"/>
                </a:cubicBezTo>
              </a:path>
              <a:path w="2258" h="918">
                <a:moveTo>
                  <a:pt x="9128" y="10344"/>
                </a:moveTo>
                <a:cubicBezTo>
                  <a:pt x="9027" y="10242"/>
                  <a:pt x="8900" y="10341"/>
                  <a:pt x="8880" y="10492"/>
                </a:cubicBezTo>
                <a:cubicBezTo>
                  <a:pt x="8888" y="10525"/>
                  <a:pt x="8897" y="10559"/>
                  <a:pt x="8905" y="10592"/>
                </a:cubicBezTo>
                <a:cubicBezTo>
                  <a:pt x="9064" y="10558"/>
                  <a:pt x="9189" y="10523"/>
                  <a:pt x="9128" y="10344"/>
                </a:cubicBezTo>
                <a:cubicBezTo>
                  <a:pt x="9077" y="10433"/>
                  <a:pt x="9196" y="10631"/>
                  <a:pt x="9351" y="10517"/>
                </a:cubicBezTo>
                <a:cubicBezTo>
                  <a:pt x="9542" y="10377"/>
                  <a:pt x="9379" y="10323"/>
                  <a:pt x="9451" y="10468"/>
                </a:cubicBezTo>
                <a:cubicBezTo>
                  <a:pt x="9467" y="10484"/>
                  <a:pt x="9484" y="10501"/>
                  <a:pt x="9500" y="10517"/>
                </a:cubicBezTo>
                <a:cubicBezTo>
                  <a:pt x="9487" y="10467"/>
                  <a:pt x="9433" y="10340"/>
                  <a:pt x="9475" y="10294"/>
                </a:cubicBezTo>
                <a:cubicBezTo>
                  <a:pt x="9550" y="10294"/>
                  <a:pt x="9592" y="10299"/>
                  <a:pt x="9649" y="10319"/>
                </a:cubicBezTo>
              </a:path>
              <a:path w="2258" h="918">
                <a:moveTo>
                  <a:pt x="9947" y="10368"/>
                </a:moveTo>
                <a:cubicBezTo>
                  <a:pt x="9870" y="10351"/>
                  <a:pt x="9662" y="10434"/>
                  <a:pt x="9723" y="10542"/>
                </a:cubicBezTo>
                <a:cubicBezTo>
                  <a:pt x="9748" y="10550"/>
                  <a:pt x="9773" y="10559"/>
                  <a:pt x="9798" y="10567"/>
                </a:cubicBezTo>
                <a:cubicBezTo>
                  <a:pt x="9866" y="10444"/>
                  <a:pt x="9896" y="10411"/>
                  <a:pt x="9872" y="10269"/>
                </a:cubicBezTo>
                <a:cubicBezTo>
                  <a:pt x="9922" y="10485"/>
                  <a:pt x="10060" y="10658"/>
                  <a:pt x="10145" y="10864"/>
                </a:cubicBezTo>
                <a:cubicBezTo>
                  <a:pt x="9914" y="11035"/>
                  <a:pt x="9776" y="11014"/>
                  <a:pt x="9599" y="10815"/>
                </a:cubicBezTo>
              </a:path>
              <a:path w="2258" h="918">
                <a:moveTo>
                  <a:pt x="10145" y="10443"/>
                </a:moveTo>
                <a:cubicBezTo>
                  <a:pt x="10250" y="10443"/>
                  <a:pt x="10311" y="10403"/>
                  <a:pt x="10393" y="10344"/>
                </a:cubicBezTo>
                <a:cubicBezTo>
                  <a:pt x="10150" y="10327"/>
                  <a:pt x="10119" y="10422"/>
                  <a:pt x="10046" y="10641"/>
                </a:cubicBezTo>
                <a:cubicBezTo>
                  <a:pt x="10350" y="10727"/>
                  <a:pt x="10416" y="10671"/>
                  <a:pt x="10517" y="10368"/>
                </a:cubicBezTo>
              </a:path>
              <a:path w="2258" h="918">
                <a:moveTo>
                  <a:pt x="10567" y="10517"/>
                </a:moveTo>
                <a:cubicBezTo>
                  <a:pt x="10575" y="10542"/>
                  <a:pt x="10584" y="10567"/>
                  <a:pt x="10592" y="10592"/>
                </a:cubicBezTo>
                <a:cubicBezTo>
                  <a:pt x="10592" y="10489"/>
                  <a:pt x="10553" y="10335"/>
                  <a:pt x="10691" y="10319"/>
                </a:cubicBezTo>
                <a:cubicBezTo>
                  <a:pt x="10732" y="10327"/>
                  <a:pt x="10774" y="10336"/>
                  <a:pt x="10815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89680" y="3571920"/>
            <a:ext cx="723600" cy="438120"/>
          </a:xfrm>
          <a:custGeom>
            <a:avLst/>
            <a:gdLst/>
            <a:ahLst/>
            <a:rect l="l" t="t" r="r" b="b"/>
            <a:pathLst>
              <a:path w="2010" h="1216">
                <a:moveTo>
                  <a:pt x="14610" y="9996"/>
                </a:moveTo>
                <a:cubicBezTo>
                  <a:pt x="14522" y="10047"/>
                  <a:pt x="14380" y="10028"/>
                  <a:pt x="14337" y="10120"/>
                </a:cubicBezTo>
                <a:cubicBezTo>
                  <a:pt x="14296" y="10244"/>
                  <a:pt x="14288" y="10269"/>
                  <a:pt x="14263" y="10344"/>
                </a:cubicBezTo>
                <a:cubicBezTo>
                  <a:pt x="14447" y="10321"/>
                  <a:pt x="14581" y="10235"/>
                  <a:pt x="14734" y="10393"/>
                </a:cubicBezTo>
                <a:cubicBezTo>
                  <a:pt x="14742" y="10426"/>
                  <a:pt x="14751" y="10459"/>
                  <a:pt x="14759" y="10492"/>
                </a:cubicBezTo>
                <a:cubicBezTo>
                  <a:pt x="14529" y="10663"/>
                  <a:pt x="14427" y="10672"/>
                  <a:pt x="14188" y="10517"/>
                </a:cubicBezTo>
              </a:path>
              <a:path w="2010" h="1216">
                <a:moveTo>
                  <a:pt x="14982" y="9971"/>
                </a:moveTo>
                <a:cubicBezTo>
                  <a:pt x="15008" y="10229"/>
                  <a:pt x="15082" y="10482"/>
                  <a:pt x="15106" y="10740"/>
                </a:cubicBezTo>
                <a:cubicBezTo>
                  <a:pt x="15114" y="10829"/>
                  <a:pt x="15080" y="11088"/>
                  <a:pt x="15156" y="11137"/>
                </a:cubicBezTo>
              </a:path>
              <a:path w="2010" h="1216">
                <a:moveTo>
                  <a:pt x="15503" y="10195"/>
                </a:moveTo>
                <a:cubicBezTo>
                  <a:pt x="15516" y="10320"/>
                  <a:pt x="15551" y="10446"/>
                  <a:pt x="15577" y="10567"/>
                </a:cubicBezTo>
                <a:cubicBezTo>
                  <a:pt x="15577" y="10575"/>
                  <a:pt x="15577" y="10584"/>
                  <a:pt x="15577" y="10592"/>
                </a:cubicBezTo>
              </a:path>
              <a:path w="2010" h="1216">
                <a:moveTo>
                  <a:pt x="15875" y="10195"/>
                </a:moveTo>
                <a:cubicBezTo>
                  <a:pt x="15789" y="10335"/>
                  <a:pt x="15767" y="10382"/>
                  <a:pt x="15776" y="10542"/>
                </a:cubicBezTo>
                <a:cubicBezTo>
                  <a:pt x="15852" y="10542"/>
                  <a:pt x="16241" y="10481"/>
                  <a:pt x="16148" y="10294"/>
                </a:cubicBezTo>
                <a:cubicBezTo>
                  <a:pt x="16045" y="10242"/>
                  <a:pt x="16008" y="10225"/>
                  <a:pt x="15925" y="10244"/>
                </a:cubicBezTo>
              </a:path>
              <a:path w="2010" h="1216">
                <a:moveTo>
                  <a:pt x="14139" y="9947"/>
                </a:moveTo>
                <a:cubicBezTo>
                  <a:pt x="14252" y="9889"/>
                  <a:pt x="14485" y="9915"/>
                  <a:pt x="14610" y="9922"/>
                </a:cubicBezTo>
                <a:cubicBezTo>
                  <a:pt x="15003" y="9943"/>
                  <a:pt x="15383" y="9927"/>
                  <a:pt x="15776" y="9922"/>
                </a:cubicBezTo>
                <a:cubicBezTo>
                  <a:pt x="15859" y="9921"/>
                  <a:pt x="15941" y="9922"/>
                  <a:pt x="16024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0760" y="5106960"/>
            <a:ext cx="169920" cy="196920"/>
          </a:xfrm>
          <a:custGeom>
            <a:avLst/>
            <a:gdLst/>
            <a:ahLst/>
            <a:rect l="l" t="t" r="r" b="b"/>
            <a:pathLst>
              <a:path w="472" h="547">
                <a:moveTo>
                  <a:pt x="7541" y="14188"/>
                </a:moveTo>
                <a:cubicBezTo>
                  <a:pt x="7573" y="14338"/>
                  <a:pt x="7583" y="14589"/>
                  <a:pt x="7689" y="14709"/>
                </a:cubicBezTo>
                <a:cubicBezTo>
                  <a:pt x="7746" y="14737"/>
                  <a:pt x="7769" y="14743"/>
                  <a:pt x="7813" y="14709"/>
                </a:cubicBezTo>
              </a:path>
              <a:path w="472" h="547">
                <a:moveTo>
                  <a:pt x="7392" y="14511"/>
                </a:moveTo>
                <a:cubicBezTo>
                  <a:pt x="7623" y="14459"/>
                  <a:pt x="7705" y="14441"/>
                  <a:pt x="7863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5205240"/>
            <a:ext cx="276480" cy="277920"/>
          </a:xfrm>
          <a:custGeom>
            <a:avLst/>
            <a:gdLst/>
            <a:ahLst/>
            <a:rect l="l" t="t" r="r" b="b"/>
            <a:pathLst>
              <a:path w="770" h="770">
                <a:moveTo>
                  <a:pt x="7045" y="14560"/>
                </a:moveTo>
                <a:cubicBezTo>
                  <a:pt x="6985" y="14541"/>
                  <a:pt x="6963" y="14404"/>
                  <a:pt x="6846" y="14461"/>
                </a:cubicBezTo>
                <a:cubicBezTo>
                  <a:pt x="6674" y="14544"/>
                  <a:pt x="6696" y="14867"/>
                  <a:pt x="6921" y="14709"/>
                </a:cubicBezTo>
                <a:cubicBezTo>
                  <a:pt x="6957" y="14636"/>
                  <a:pt x="6974" y="14631"/>
                  <a:pt x="6970" y="14585"/>
                </a:cubicBezTo>
                <a:cubicBezTo>
                  <a:pt x="7066" y="14681"/>
                  <a:pt x="7105" y="14875"/>
                  <a:pt x="7094" y="15007"/>
                </a:cubicBezTo>
                <a:cubicBezTo>
                  <a:pt x="7068" y="15334"/>
                  <a:pt x="6788" y="15245"/>
                  <a:pt x="6697" y="15081"/>
                </a:cubicBezTo>
              </a:path>
              <a:path w="770" h="770">
                <a:moveTo>
                  <a:pt x="7119" y="14660"/>
                </a:moveTo>
                <a:cubicBezTo>
                  <a:pt x="7152" y="14618"/>
                  <a:pt x="7234" y="14572"/>
                  <a:pt x="7293" y="14536"/>
                </a:cubicBezTo>
                <a:cubicBezTo>
                  <a:pt x="7136" y="14549"/>
                  <a:pt x="7111" y="14590"/>
                  <a:pt x="7045" y="14734"/>
                </a:cubicBezTo>
                <a:cubicBezTo>
                  <a:pt x="7232" y="14805"/>
                  <a:pt x="7271" y="14772"/>
                  <a:pt x="7466" y="14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3800" y="5106960"/>
            <a:ext cx="1027080" cy="216000"/>
          </a:xfrm>
          <a:custGeom>
            <a:avLst/>
            <a:gdLst/>
            <a:ahLst/>
            <a:rect l="l" t="t" r="r" b="b"/>
            <a:pathLst>
              <a:path w="2854" h="597">
                <a:moveTo>
                  <a:pt x="8930" y="14288"/>
                </a:moveTo>
                <a:cubicBezTo>
                  <a:pt x="8847" y="14315"/>
                  <a:pt x="8815" y="14329"/>
                  <a:pt x="8781" y="14387"/>
                </a:cubicBezTo>
                <a:cubicBezTo>
                  <a:pt x="8776" y="14392"/>
                  <a:pt x="9012" y="14537"/>
                  <a:pt x="9079" y="14585"/>
                </a:cubicBezTo>
                <a:cubicBezTo>
                  <a:pt x="8959" y="14770"/>
                  <a:pt x="8837" y="14780"/>
                  <a:pt x="8706" y="14610"/>
                </a:cubicBezTo>
              </a:path>
              <a:path w="2854" h="597">
                <a:moveTo>
                  <a:pt x="9103" y="14486"/>
                </a:moveTo>
                <a:cubicBezTo>
                  <a:pt x="9165" y="14609"/>
                  <a:pt x="9180" y="14630"/>
                  <a:pt x="9203" y="14709"/>
                </a:cubicBezTo>
                <a:cubicBezTo>
                  <a:pt x="9202" y="14702"/>
                  <a:pt x="9131" y="14363"/>
                  <a:pt x="9252" y="14436"/>
                </a:cubicBezTo>
                <a:cubicBezTo>
                  <a:pt x="9361" y="14501"/>
                  <a:pt x="9398" y="14629"/>
                  <a:pt x="9451" y="14734"/>
                </a:cubicBezTo>
                <a:cubicBezTo>
                  <a:pt x="9388" y="14624"/>
                  <a:pt x="9399" y="14553"/>
                  <a:pt x="9451" y="14436"/>
                </a:cubicBezTo>
                <a:cubicBezTo>
                  <a:pt x="9558" y="14552"/>
                  <a:pt x="9573" y="14652"/>
                  <a:pt x="9649" y="14784"/>
                </a:cubicBezTo>
              </a:path>
              <a:path w="2854" h="597">
                <a:moveTo>
                  <a:pt x="10170" y="14536"/>
                </a:moveTo>
                <a:cubicBezTo>
                  <a:pt x="10034" y="14460"/>
                  <a:pt x="9906" y="14411"/>
                  <a:pt x="9823" y="14610"/>
                </a:cubicBezTo>
                <a:cubicBezTo>
                  <a:pt x="9823" y="14711"/>
                  <a:pt x="9803" y="14742"/>
                  <a:pt x="9872" y="14759"/>
                </a:cubicBezTo>
                <a:cubicBezTo>
                  <a:pt x="10060" y="14614"/>
                  <a:pt x="9913" y="14588"/>
                  <a:pt x="10046" y="14684"/>
                </a:cubicBezTo>
                <a:cubicBezTo>
                  <a:pt x="10268" y="14844"/>
                  <a:pt x="10421" y="14708"/>
                  <a:pt x="10393" y="14461"/>
                </a:cubicBezTo>
                <a:cubicBezTo>
                  <a:pt x="10377" y="14403"/>
                  <a:pt x="10360" y="14346"/>
                  <a:pt x="10344" y="14288"/>
                </a:cubicBezTo>
                <a:cubicBezTo>
                  <a:pt x="10336" y="14271"/>
                  <a:pt x="10327" y="14255"/>
                  <a:pt x="10319" y="14238"/>
                </a:cubicBezTo>
                <a:cubicBezTo>
                  <a:pt x="10338" y="14364"/>
                  <a:pt x="10370" y="14689"/>
                  <a:pt x="10492" y="14759"/>
                </a:cubicBezTo>
                <a:cubicBezTo>
                  <a:pt x="10500" y="14742"/>
                  <a:pt x="10509" y="14726"/>
                  <a:pt x="10517" y="14709"/>
                </a:cubicBezTo>
              </a:path>
              <a:path w="2854" h="597">
                <a:moveTo>
                  <a:pt x="10567" y="14188"/>
                </a:moveTo>
                <a:cubicBezTo>
                  <a:pt x="10616" y="14373"/>
                  <a:pt x="10642" y="14592"/>
                  <a:pt x="10716" y="14759"/>
                </a:cubicBezTo>
              </a:path>
              <a:path w="2854" h="597">
                <a:moveTo>
                  <a:pt x="10914" y="14436"/>
                </a:moveTo>
                <a:cubicBezTo>
                  <a:pt x="11003" y="14407"/>
                  <a:pt x="11043" y="14412"/>
                  <a:pt x="11088" y="14337"/>
                </a:cubicBezTo>
                <a:cubicBezTo>
                  <a:pt x="10935" y="14313"/>
                  <a:pt x="10758" y="14377"/>
                  <a:pt x="10815" y="14585"/>
                </a:cubicBezTo>
                <a:cubicBezTo>
                  <a:pt x="10840" y="14618"/>
                  <a:pt x="10864" y="14651"/>
                  <a:pt x="10889" y="14684"/>
                </a:cubicBezTo>
                <a:cubicBezTo>
                  <a:pt x="11049" y="14628"/>
                  <a:pt x="11082" y="14292"/>
                  <a:pt x="11237" y="14362"/>
                </a:cubicBezTo>
                <a:cubicBezTo>
                  <a:pt x="11266" y="14451"/>
                  <a:pt x="11277" y="14492"/>
                  <a:pt x="11286" y="14560"/>
                </a:cubicBezTo>
                <a:cubicBezTo>
                  <a:pt x="11286" y="14583"/>
                  <a:pt x="11404" y="14320"/>
                  <a:pt x="11435" y="14288"/>
                </a:cubicBezTo>
                <a:cubicBezTo>
                  <a:pt x="11476" y="14263"/>
                  <a:pt x="11518" y="14238"/>
                  <a:pt x="11559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49880" y="4983120"/>
            <a:ext cx="1019160" cy="465120"/>
          </a:xfrm>
          <a:custGeom>
            <a:avLst/>
            <a:gdLst/>
            <a:ahLst/>
            <a:rect l="l" t="t" r="r" b="b"/>
            <a:pathLst>
              <a:path w="2829" h="1291">
                <a:moveTo>
                  <a:pt x="14784" y="14089"/>
                </a:moveTo>
                <a:cubicBezTo>
                  <a:pt x="14852" y="14255"/>
                  <a:pt x="14706" y="14579"/>
                  <a:pt x="14883" y="14610"/>
                </a:cubicBezTo>
                <a:cubicBezTo>
                  <a:pt x="14891" y="14585"/>
                  <a:pt x="14900" y="14561"/>
                  <a:pt x="14908" y="14536"/>
                </a:cubicBezTo>
              </a:path>
              <a:path w="2829" h="1291">
                <a:moveTo>
                  <a:pt x="15205" y="14039"/>
                </a:moveTo>
                <a:cubicBezTo>
                  <a:pt x="15090" y="14235"/>
                  <a:pt x="15079" y="14346"/>
                  <a:pt x="15205" y="14536"/>
                </a:cubicBezTo>
                <a:cubicBezTo>
                  <a:pt x="15324" y="14486"/>
                  <a:pt x="15592" y="14326"/>
                  <a:pt x="15379" y="14163"/>
                </a:cubicBezTo>
                <a:cubicBezTo>
                  <a:pt x="15346" y="14155"/>
                  <a:pt x="15313" y="14147"/>
                  <a:pt x="15280" y="14139"/>
                </a:cubicBezTo>
              </a:path>
              <a:path w="2829" h="1291">
                <a:moveTo>
                  <a:pt x="15850" y="13965"/>
                </a:moveTo>
                <a:cubicBezTo>
                  <a:pt x="15905" y="14304"/>
                  <a:pt x="15961" y="14631"/>
                  <a:pt x="16073" y="14957"/>
                </a:cubicBezTo>
                <a:cubicBezTo>
                  <a:pt x="16113" y="15055"/>
                  <a:pt x="16129" y="15069"/>
                  <a:pt x="16123" y="15131"/>
                </a:cubicBezTo>
              </a:path>
              <a:path w="2829" h="1291">
                <a:moveTo>
                  <a:pt x="16545" y="13891"/>
                </a:moveTo>
                <a:cubicBezTo>
                  <a:pt x="16480" y="13891"/>
                  <a:pt x="16431" y="13909"/>
                  <a:pt x="16371" y="13915"/>
                </a:cubicBezTo>
                <a:cubicBezTo>
                  <a:pt x="16301" y="13922"/>
                  <a:pt x="16281" y="14102"/>
                  <a:pt x="16272" y="14163"/>
                </a:cubicBezTo>
                <a:cubicBezTo>
                  <a:pt x="16368" y="14163"/>
                  <a:pt x="16449" y="14079"/>
                  <a:pt x="16545" y="14114"/>
                </a:cubicBezTo>
                <a:cubicBezTo>
                  <a:pt x="16766" y="14194"/>
                  <a:pt x="16694" y="14436"/>
                  <a:pt x="16470" y="14436"/>
                </a:cubicBezTo>
                <a:cubicBezTo>
                  <a:pt x="16404" y="14420"/>
                  <a:pt x="16338" y="14403"/>
                  <a:pt x="16272" y="14387"/>
                </a:cubicBezTo>
              </a:path>
              <a:path w="2829" h="1291">
                <a:moveTo>
                  <a:pt x="14585" y="13841"/>
                </a:moveTo>
                <a:cubicBezTo>
                  <a:pt x="14778" y="13896"/>
                  <a:pt x="14966" y="13890"/>
                  <a:pt x="15180" y="13891"/>
                </a:cubicBezTo>
                <a:cubicBezTo>
                  <a:pt x="15924" y="13896"/>
                  <a:pt x="16669" y="13891"/>
                  <a:pt x="17413" y="13891"/>
                </a:cubicBezTo>
              </a:path>
              <a:path w="2829" h="1291">
                <a:moveTo>
                  <a:pt x="16371" y="13965"/>
                </a:moveTo>
                <a:cubicBezTo>
                  <a:pt x="16443" y="13965"/>
                  <a:pt x="16501" y="13946"/>
                  <a:pt x="16570" y="13940"/>
                </a:cubicBezTo>
                <a:cubicBezTo>
                  <a:pt x="16578" y="13940"/>
                  <a:pt x="16586" y="13940"/>
                  <a:pt x="16594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24240" y="5983200"/>
            <a:ext cx="223920" cy="34920"/>
          </a:xfrm>
          <a:custGeom>
            <a:avLst/>
            <a:gdLst/>
            <a:ahLst/>
            <a:rect l="l" t="t" r="r" b="b"/>
            <a:pathLst>
              <a:path w="621" h="100">
                <a:moveTo>
                  <a:pt x="11733" y="16669"/>
                </a:moveTo>
                <a:cubicBezTo>
                  <a:pt x="11880" y="16669"/>
                  <a:pt x="12034" y="16660"/>
                  <a:pt x="12179" y="16644"/>
                </a:cubicBezTo>
                <a:cubicBezTo>
                  <a:pt x="12254" y="16636"/>
                  <a:pt x="12378" y="16619"/>
                  <a:pt x="12303" y="16619"/>
                </a:cubicBezTo>
                <a:cubicBezTo>
                  <a:pt x="12146" y="16672"/>
                  <a:pt x="11992" y="16668"/>
                  <a:pt x="11832" y="16694"/>
                </a:cubicBezTo>
                <a:cubicBezTo>
                  <a:pt x="11774" y="16713"/>
                  <a:pt x="11731" y="16721"/>
                  <a:pt x="11782" y="16718"/>
                </a:cubicBezTo>
                <a:cubicBezTo>
                  <a:pt x="11938" y="16694"/>
                  <a:pt x="12098" y="16656"/>
                  <a:pt x="12254" y="16644"/>
                </a:cubicBezTo>
                <a:cubicBezTo>
                  <a:pt x="12278" y="16644"/>
                  <a:pt x="12287" y="16644"/>
                  <a:pt x="12303" y="16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4880" y="6205680"/>
            <a:ext cx="285840" cy="144360"/>
          </a:xfrm>
          <a:custGeom>
            <a:avLst/>
            <a:gdLst/>
            <a:ahLst/>
            <a:rect l="l" t="t" r="r" b="b"/>
            <a:pathLst>
              <a:path w="795" h="398">
                <a:moveTo>
                  <a:pt x="11708" y="17636"/>
                </a:moveTo>
                <a:cubicBezTo>
                  <a:pt x="11898" y="17620"/>
                  <a:pt x="12087" y="17576"/>
                  <a:pt x="12278" y="17562"/>
                </a:cubicBezTo>
                <a:cubicBezTo>
                  <a:pt x="12366" y="17556"/>
                  <a:pt x="12420" y="17551"/>
                  <a:pt x="12502" y="17537"/>
                </a:cubicBezTo>
              </a:path>
              <a:path w="795" h="398">
                <a:moveTo>
                  <a:pt x="11956" y="17239"/>
                </a:moveTo>
                <a:cubicBezTo>
                  <a:pt x="11956" y="17299"/>
                  <a:pt x="11949" y="17296"/>
                  <a:pt x="11981" y="17338"/>
                </a:cubicBezTo>
                <a:cubicBezTo>
                  <a:pt x="12116" y="17270"/>
                  <a:pt x="11912" y="17250"/>
                  <a:pt x="11906" y="17264"/>
                </a:cubicBezTo>
                <a:cubicBezTo>
                  <a:pt x="11914" y="17281"/>
                  <a:pt x="11923" y="17297"/>
                  <a:pt x="11931" y="17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86160" y="6491160"/>
            <a:ext cx="88920" cy="3672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12154" y="18033"/>
                </a:moveTo>
                <a:cubicBezTo>
                  <a:pt x="12072" y="18033"/>
                  <a:pt x="12003" y="18037"/>
                  <a:pt x="11931" y="18083"/>
                </a:cubicBezTo>
                <a:cubicBezTo>
                  <a:pt x="11829" y="18147"/>
                  <a:pt x="12023" y="18141"/>
                  <a:pt x="12055" y="18107"/>
                </a:cubicBezTo>
                <a:cubicBezTo>
                  <a:pt x="12192" y="17962"/>
                  <a:pt x="11797" y="18110"/>
                  <a:pt x="12080" y="180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81320" y="4384800"/>
            <a:ext cx="214560" cy="241200"/>
          </a:xfrm>
          <a:custGeom>
            <a:avLst/>
            <a:gdLst/>
            <a:ahLst/>
            <a:rect l="l" t="t" r="r" b="b"/>
            <a:pathLst>
              <a:path w="596" h="671">
                <a:moveTo>
                  <a:pt x="11609" y="12179"/>
                </a:moveTo>
                <a:cubicBezTo>
                  <a:pt x="11609" y="12381"/>
                  <a:pt x="11612" y="12576"/>
                  <a:pt x="11633" y="12774"/>
                </a:cubicBezTo>
                <a:cubicBezTo>
                  <a:pt x="11633" y="12816"/>
                  <a:pt x="11633" y="12824"/>
                  <a:pt x="11633" y="12849"/>
                </a:cubicBezTo>
              </a:path>
              <a:path w="596" h="671">
                <a:moveTo>
                  <a:pt x="11336" y="12675"/>
                </a:moveTo>
                <a:cubicBezTo>
                  <a:pt x="11470" y="12637"/>
                  <a:pt x="11616" y="12574"/>
                  <a:pt x="11757" y="12551"/>
                </a:cubicBezTo>
                <a:cubicBezTo>
                  <a:pt x="11969" y="12517"/>
                  <a:pt x="11750" y="12551"/>
                  <a:pt x="11683" y="12551"/>
                </a:cubicBezTo>
                <a:cubicBezTo>
                  <a:pt x="11610" y="12551"/>
                  <a:pt x="11347" y="12605"/>
                  <a:pt x="11361" y="12601"/>
                </a:cubicBezTo>
                <a:cubicBezTo>
                  <a:pt x="11386" y="12593"/>
                  <a:pt x="11410" y="12584"/>
                  <a:pt x="11435" y="12576"/>
                </a:cubicBezTo>
                <a:cubicBezTo>
                  <a:pt x="11601" y="12536"/>
                  <a:pt x="11763" y="12506"/>
                  <a:pt x="11931" y="12477"/>
                </a:cubicBezTo>
                <a:cubicBezTo>
                  <a:pt x="11789" y="12548"/>
                  <a:pt x="11598" y="12555"/>
                  <a:pt x="11435" y="12576"/>
                </a:cubicBezTo>
                <a:cubicBezTo>
                  <a:pt x="11320" y="12591"/>
                  <a:pt x="11618" y="12567"/>
                  <a:pt x="11733" y="12551"/>
                </a:cubicBezTo>
                <a:cubicBezTo>
                  <a:pt x="11782" y="12543"/>
                  <a:pt x="11832" y="12534"/>
                  <a:pt x="11881" y="12526"/>
                </a:cubicBezTo>
                <a:cubicBezTo>
                  <a:pt x="11984" y="12429"/>
                  <a:pt x="11530" y="12564"/>
                  <a:pt x="11460" y="12576"/>
                </a:cubicBezTo>
                <a:cubicBezTo>
                  <a:pt x="11302" y="12602"/>
                  <a:pt x="11674" y="12523"/>
                  <a:pt x="11832" y="12502"/>
                </a:cubicBezTo>
                <a:cubicBezTo>
                  <a:pt x="11865" y="12502"/>
                  <a:pt x="11898" y="12502"/>
                  <a:pt x="11931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75080" y="4714920"/>
            <a:ext cx="179280" cy="223920"/>
          </a:xfrm>
          <a:custGeom>
            <a:avLst/>
            <a:gdLst/>
            <a:ahLst/>
            <a:rect l="l" t="t" r="r" b="b"/>
            <a:pathLst>
              <a:path w="497" h="621">
                <a:moveTo>
                  <a:pt x="12154" y="13196"/>
                </a:moveTo>
                <a:cubicBezTo>
                  <a:pt x="12292" y="13294"/>
                  <a:pt x="12718" y="13376"/>
                  <a:pt x="12576" y="13469"/>
                </a:cubicBezTo>
                <a:cubicBezTo>
                  <a:pt x="12559" y="13469"/>
                  <a:pt x="12543" y="13469"/>
                  <a:pt x="12526" y="13469"/>
                </a:cubicBezTo>
                <a:cubicBezTo>
                  <a:pt x="12411" y="13386"/>
                  <a:pt x="12287" y="13311"/>
                  <a:pt x="12179" y="13221"/>
                </a:cubicBezTo>
                <a:cubicBezTo>
                  <a:pt x="12294" y="13335"/>
                  <a:pt x="12420" y="13424"/>
                  <a:pt x="12551" y="13519"/>
                </a:cubicBezTo>
                <a:cubicBezTo>
                  <a:pt x="12624" y="13573"/>
                  <a:pt x="12657" y="13565"/>
                  <a:pt x="12650" y="13618"/>
                </a:cubicBezTo>
              </a:path>
              <a:path w="497" h="621">
                <a:moveTo>
                  <a:pt x="12626" y="13097"/>
                </a:moveTo>
                <a:cubicBezTo>
                  <a:pt x="12491" y="13293"/>
                  <a:pt x="12377" y="13532"/>
                  <a:pt x="12254" y="13717"/>
                </a:cubicBezTo>
                <a:cubicBezTo>
                  <a:pt x="12254" y="13709"/>
                  <a:pt x="12254" y="13700"/>
                  <a:pt x="12254" y="13692"/>
                </a:cubicBezTo>
                <a:cubicBezTo>
                  <a:pt x="12357" y="13520"/>
                  <a:pt x="12468" y="13373"/>
                  <a:pt x="12601" y="13221"/>
                </a:cubicBezTo>
                <a:cubicBezTo>
                  <a:pt x="12485" y="13298"/>
                  <a:pt x="12359" y="13490"/>
                  <a:pt x="12278" y="13618"/>
                </a:cubicBezTo>
                <a:cubicBezTo>
                  <a:pt x="12255" y="13654"/>
                  <a:pt x="12449" y="13469"/>
                  <a:pt x="12477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1040" y="3581280"/>
            <a:ext cx="1643040" cy="482760"/>
          </a:xfrm>
          <a:custGeom>
            <a:avLst/>
            <a:gdLst/>
            <a:ahLst/>
            <a:rect l="l" t="t" r="r" b="b"/>
            <a:pathLst>
              <a:path w="4565" h="1340">
                <a:moveTo>
                  <a:pt x="2431" y="11137"/>
                </a:moveTo>
                <a:cubicBezTo>
                  <a:pt x="2730" y="11199"/>
                  <a:pt x="3040" y="11236"/>
                  <a:pt x="3349" y="11261"/>
                </a:cubicBezTo>
                <a:cubicBezTo>
                  <a:pt x="4006" y="11314"/>
                  <a:pt x="4710" y="11321"/>
                  <a:pt x="5358" y="11187"/>
                </a:cubicBezTo>
                <a:cubicBezTo>
                  <a:pt x="5562" y="11145"/>
                  <a:pt x="5870" y="11039"/>
                  <a:pt x="6003" y="10864"/>
                </a:cubicBezTo>
                <a:cubicBezTo>
                  <a:pt x="6066" y="10781"/>
                  <a:pt x="6154" y="10648"/>
                  <a:pt x="6176" y="10542"/>
                </a:cubicBezTo>
                <a:cubicBezTo>
                  <a:pt x="6190" y="10474"/>
                  <a:pt x="6191" y="10353"/>
                  <a:pt x="6152" y="10294"/>
                </a:cubicBezTo>
                <a:cubicBezTo>
                  <a:pt x="6008" y="10076"/>
                  <a:pt x="5458" y="10050"/>
                  <a:pt x="5259" y="10021"/>
                </a:cubicBezTo>
                <a:cubicBezTo>
                  <a:pt x="4735" y="9944"/>
                  <a:pt x="4200" y="9928"/>
                  <a:pt x="3671" y="9947"/>
                </a:cubicBezTo>
                <a:cubicBezTo>
                  <a:pt x="3262" y="9962"/>
                  <a:pt x="2794" y="9985"/>
                  <a:pt x="2406" y="10120"/>
                </a:cubicBezTo>
                <a:cubicBezTo>
                  <a:pt x="2119" y="10219"/>
                  <a:pt x="1851" y="10433"/>
                  <a:pt x="1662" y="10666"/>
                </a:cubicBezTo>
                <a:cubicBezTo>
                  <a:pt x="1610" y="10770"/>
                  <a:pt x="1594" y="10808"/>
                  <a:pt x="1637" y="10889"/>
                </a:cubicBezTo>
                <a:cubicBezTo>
                  <a:pt x="1971" y="11082"/>
                  <a:pt x="2190" y="11124"/>
                  <a:pt x="2580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8960" y="4911840"/>
            <a:ext cx="1662120" cy="588960"/>
          </a:xfrm>
          <a:custGeom>
            <a:avLst/>
            <a:gdLst/>
            <a:ahLst/>
            <a:rect l="l" t="t" r="r" b="b"/>
            <a:pathLst>
              <a:path w="4615" h="1638">
                <a:moveTo>
                  <a:pt x="1836" y="15106"/>
                </a:moveTo>
                <a:cubicBezTo>
                  <a:pt x="1964" y="15121"/>
                  <a:pt x="2077" y="15157"/>
                  <a:pt x="2208" y="15180"/>
                </a:cubicBezTo>
                <a:cubicBezTo>
                  <a:pt x="2531" y="15235"/>
                  <a:pt x="2820" y="15277"/>
                  <a:pt x="3150" y="15280"/>
                </a:cubicBezTo>
                <a:cubicBezTo>
                  <a:pt x="3431" y="15283"/>
                  <a:pt x="3715" y="15282"/>
                  <a:pt x="3994" y="15255"/>
                </a:cubicBezTo>
                <a:cubicBezTo>
                  <a:pt x="4307" y="15225"/>
                  <a:pt x="4625" y="15238"/>
                  <a:pt x="4936" y="15180"/>
                </a:cubicBezTo>
                <a:cubicBezTo>
                  <a:pt x="5124" y="15145"/>
                  <a:pt x="5316" y="15076"/>
                  <a:pt x="5507" y="15056"/>
                </a:cubicBezTo>
                <a:cubicBezTo>
                  <a:pt x="5655" y="15041"/>
                  <a:pt x="5767" y="15021"/>
                  <a:pt x="5904" y="14957"/>
                </a:cubicBezTo>
                <a:cubicBezTo>
                  <a:pt x="6047" y="14890"/>
                  <a:pt x="6160" y="14753"/>
                  <a:pt x="6226" y="14610"/>
                </a:cubicBezTo>
                <a:cubicBezTo>
                  <a:pt x="6315" y="14416"/>
                  <a:pt x="6113" y="14264"/>
                  <a:pt x="5978" y="14163"/>
                </a:cubicBezTo>
                <a:cubicBezTo>
                  <a:pt x="5796" y="14027"/>
                  <a:pt x="5571" y="13937"/>
                  <a:pt x="5358" y="13866"/>
                </a:cubicBezTo>
                <a:cubicBezTo>
                  <a:pt x="5131" y="13790"/>
                  <a:pt x="4903" y="13732"/>
                  <a:pt x="4663" y="13717"/>
                </a:cubicBezTo>
                <a:cubicBezTo>
                  <a:pt x="4290" y="13694"/>
                  <a:pt x="3921" y="13684"/>
                  <a:pt x="3547" y="13667"/>
                </a:cubicBezTo>
                <a:cubicBezTo>
                  <a:pt x="3197" y="13651"/>
                  <a:pt x="2872" y="13652"/>
                  <a:pt x="2530" y="13742"/>
                </a:cubicBezTo>
                <a:cubicBezTo>
                  <a:pt x="2318" y="13798"/>
                  <a:pt x="2119" y="13881"/>
                  <a:pt x="1960" y="14039"/>
                </a:cubicBezTo>
                <a:cubicBezTo>
                  <a:pt x="1812" y="14187"/>
                  <a:pt x="1746" y="14340"/>
                  <a:pt x="1687" y="14536"/>
                </a:cubicBezTo>
                <a:cubicBezTo>
                  <a:pt x="1627" y="14734"/>
                  <a:pt x="1577" y="14970"/>
                  <a:pt x="1811" y="15081"/>
                </a:cubicBezTo>
                <a:cubicBezTo>
                  <a:pt x="1981" y="15162"/>
                  <a:pt x="2155" y="15163"/>
                  <a:pt x="2332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380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52280"/>
            <a:ext cx="853416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Pract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, 40, 38, 36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 and continues by 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 3, 9, 27, 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____ 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and continues by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, 400, 200, ____ , 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, 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and continues by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 6, 9, ____ , ____ 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and continues by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 2, 4, 7, ____ , ____ 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and continues by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1920" y="4919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421" y="13667"/>
                </a:moveTo>
                <a:lnTo>
                  <a:pt x="16421" y="13667"/>
                </a:lnTo>
              </a:path>
              <a:path w="1" h="1">
                <a:moveTo>
                  <a:pt x="16421" y="13667"/>
                </a:moveTo>
                <a:lnTo>
                  <a:pt x="16421" y="1366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17960" y="303120"/>
            <a:ext cx="4724280" cy="2938680"/>
          </a:xfrm>
          <a:custGeom>
            <a:avLst/>
            <a:gdLst/>
            <a:ahLst/>
            <a:rect l="l" t="t" r="r" b="b"/>
            <a:pathLst>
              <a:path w="13123" h="8162">
                <a:moveTo>
                  <a:pt x="22126" y="868"/>
                </a:moveTo>
                <a:cubicBezTo>
                  <a:pt x="22126" y="840"/>
                  <a:pt x="22128" y="834"/>
                  <a:pt x="22151" y="868"/>
                </a:cubicBezTo>
              </a:path>
              <a:path w="13123" h="8162">
                <a:moveTo>
                  <a:pt x="22324" y="1712"/>
                </a:moveTo>
                <a:cubicBezTo>
                  <a:pt x="22332" y="1712"/>
                  <a:pt x="22341" y="1712"/>
                  <a:pt x="22349" y="1712"/>
                </a:cubicBezTo>
              </a:path>
              <a:path w="13123" h="8162">
                <a:moveTo>
                  <a:pt x="24160" y="8235"/>
                </a:moveTo>
                <a:cubicBezTo>
                  <a:pt x="24242" y="8173"/>
                  <a:pt x="24207" y="8225"/>
                  <a:pt x="24259" y="8359"/>
                </a:cubicBezTo>
              </a:path>
              <a:path w="13123" h="8162">
                <a:moveTo>
                  <a:pt x="24284" y="8905"/>
                </a:moveTo>
                <a:lnTo>
                  <a:pt x="24284" y="8905"/>
                </a:lnTo>
                <a:lnTo>
                  <a:pt x="24284" y="8905"/>
                </a:lnTo>
              </a:path>
              <a:path w="13123" h="8162">
                <a:moveTo>
                  <a:pt x="11187" y="8632"/>
                </a:moveTo>
                <a:cubicBezTo>
                  <a:pt x="11171" y="8818"/>
                  <a:pt x="11161" y="8854"/>
                  <a:pt x="11261" y="9004"/>
                </a:cubicBezTo>
                <a:cubicBezTo>
                  <a:pt x="11362" y="8945"/>
                  <a:pt x="11672" y="8736"/>
                  <a:pt x="11460" y="8582"/>
                </a:cubicBezTo>
                <a:cubicBezTo>
                  <a:pt x="11427" y="8582"/>
                  <a:pt x="11394" y="8582"/>
                  <a:pt x="11361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77080" y="3125880"/>
            <a:ext cx="125640" cy="598320"/>
          </a:xfrm>
          <a:custGeom>
            <a:avLst/>
            <a:gdLst/>
            <a:ahLst/>
            <a:rect l="l" t="t" r="r" b="b"/>
            <a:pathLst>
              <a:path w="348" h="1663">
                <a:moveTo>
                  <a:pt x="21605" y="8682"/>
                </a:moveTo>
                <a:lnTo>
                  <a:pt x="21605" y="8682"/>
                </a:lnTo>
              </a:path>
              <a:path w="348" h="1663">
                <a:moveTo>
                  <a:pt x="21903" y="9823"/>
                </a:moveTo>
                <a:cubicBezTo>
                  <a:pt x="21860" y="9823"/>
                  <a:pt x="21858" y="9840"/>
                  <a:pt x="21903" y="9897"/>
                </a:cubicBezTo>
              </a:path>
              <a:path w="348" h="1663">
                <a:moveTo>
                  <a:pt x="21952" y="10344"/>
                </a:moveTo>
                <a:cubicBezTo>
                  <a:pt x="21952" y="10303"/>
                  <a:pt x="21939" y="10331"/>
                  <a:pt x="21927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67800" y="1258920"/>
            <a:ext cx="411120" cy="304920"/>
          </a:xfrm>
          <a:custGeom>
            <a:avLst/>
            <a:gdLst/>
            <a:ahLst/>
            <a:rect l="l" t="t" r="r" b="b"/>
            <a:pathLst>
              <a:path w="1142" h="845">
                <a:moveTo>
                  <a:pt x="21853" y="4142"/>
                </a:moveTo>
                <a:cubicBezTo>
                  <a:pt x="21950" y="4134"/>
                  <a:pt x="22207" y="4132"/>
                  <a:pt x="22250" y="4068"/>
                </a:cubicBezTo>
              </a:path>
              <a:path w="1142" h="845">
                <a:moveTo>
                  <a:pt x="22523" y="3671"/>
                </a:moveTo>
                <a:cubicBezTo>
                  <a:pt x="22539" y="3602"/>
                  <a:pt x="22642" y="3546"/>
                  <a:pt x="22696" y="3497"/>
                </a:cubicBezTo>
                <a:cubicBezTo>
                  <a:pt x="22796" y="3522"/>
                  <a:pt x="22825" y="3624"/>
                  <a:pt x="22820" y="3721"/>
                </a:cubicBezTo>
                <a:cubicBezTo>
                  <a:pt x="22811" y="3899"/>
                  <a:pt x="22686" y="4023"/>
                  <a:pt x="22572" y="4142"/>
                </a:cubicBezTo>
                <a:cubicBezTo>
                  <a:pt x="22501" y="4216"/>
                  <a:pt x="22469" y="4247"/>
                  <a:pt x="22448" y="4341"/>
                </a:cubicBezTo>
                <a:cubicBezTo>
                  <a:pt x="22482" y="4277"/>
                  <a:pt x="22542" y="4099"/>
                  <a:pt x="22647" y="4118"/>
                </a:cubicBezTo>
                <a:cubicBezTo>
                  <a:pt x="22759" y="4138"/>
                  <a:pt x="22801" y="4205"/>
                  <a:pt x="22920" y="4167"/>
                </a:cubicBezTo>
                <a:cubicBezTo>
                  <a:pt x="22960" y="4147"/>
                  <a:pt x="22966" y="4138"/>
                  <a:pt x="22994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85080" y="2384280"/>
            <a:ext cx="366840" cy="268560"/>
          </a:xfrm>
          <a:custGeom>
            <a:avLst/>
            <a:gdLst/>
            <a:ahLst/>
            <a:rect l="l" t="t" r="r" b="b"/>
            <a:pathLst>
              <a:path w="1018" h="745">
                <a:moveTo>
                  <a:pt x="21903" y="6945"/>
                </a:moveTo>
                <a:cubicBezTo>
                  <a:pt x="22007" y="7066"/>
                  <a:pt x="22120" y="7198"/>
                  <a:pt x="22250" y="7293"/>
                </a:cubicBezTo>
                <a:cubicBezTo>
                  <a:pt x="22258" y="7293"/>
                  <a:pt x="22267" y="7293"/>
                  <a:pt x="22275" y="7293"/>
                </a:cubicBezTo>
              </a:path>
              <a:path w="1018" h="745">
                <a:moveTo>
                  <a:pt x="22225" y="6896"/>
                </a:moveTo>
                <a:cubicBezTo>
                  <a:pt x="22160" y="7047"/>
                  <a:pt x="22040" y="7178"/>
                  <a:pt x="21977" y="7317"/>
                </a:cubicBezTo>
                <a:cubicBezTo>
                  <a:pt x="21977" y="7334"/>
                  <a:pt x="21977" y="7350"/>
                  <a:pt x="21977" y="7367"/>
                </a:cubicBezTo>
              </a:path>
              <a:path w="1018" h="745">
                <a:moveTo>
                  <a:pt x="22547" y="6697"/>
                </a:moveTo>
                <a:cubicBezTo>
                  <a:pt x="22625" y="6671"/>
                  <a:pt x="22684" y="6633"/>
                  <a:pt x="22771" y="6623"/>
                </a:cubicBezTo>
                <a:cubicBezTo>
                  <a:pt x="22825" y="6705"/>
                  <a:pt x="22849" y="6816"/>
                  <a:pt x="22746" y="6896"/>
                </a:cubicBezTo>
                <a:cubicBezTo>
                  <a:pt x="22685" y="6916"/>
                  <a:pt x="22671" y="6914"/>
                  <a:pt x="22647" y="6945"/>
                </a:cubicBezTo>
                <a:cubicBezTo>
                  <a:pt x="22731" y="6910"/>
                  <a:pt x="22884" y="6894"/>
                  <a:pt x="22920" y="7020"/>
                </a:cubicBezTo>
                <a:cubicBezTo>
                  <a:pt x="22967" y="7184"/>
                  <a:pt x="22819" y="7293"/>
                  <a:pt x="22671" y="7293"/>
                </a:cubicBezTo>
                <a:cubicBezTo>
                  <a:pt x="22588" y="7293"/>
                  <a:pt x="22418" y="7271"/>
                  <a:pt x="22498" y="7293"/>
                </a:cubicBezTo>
                <a:cubicBezTo>
                  <a:pt x="22514" y="7293"/>
                  <a:pt x="22531" y="7293"/>
                  <a:pt x="22547" y="7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72200" y="3044880"/>
            <a:ext cx="588960" cy="179280"/>
          </a:xfrm>
          <a:custGeom>
            <a:avLst/>
            <a:gdLst/>
            <a:ahLst/>
            <a:rect l="l" t="t" r="r" b="b"/>
            <a:pathLst>
              <a:path w="1638" h="497">
                <a:moveTo>
                  <a:pt x="19645" y="8508"/>
                </a:moveTo>
                <a:cubicBezTo>
                  <a:pt x="19850" y="8496"/>
                  <a:pt x="20378" y="8408"/>
                  <a:pt x="20439" y="8706"/>
                </a:cubicBezTo>
                <a:cubicBezTo>
                  <a:pt x="20468" y="8845"/>
                  <a:pt x="20238" y="8997"/>
                  <a:pt x="20117" y="8954"/>
                </a:cubicBezTo>
                <a:cubicBezTo>
                  <a:pt x="20117" y="8885"/>
                  <a:pt x="20152" y="8849"/>
                  <a:pt x="20241" y="8830"/>
                </a:cubicBezTo>
              </a:path>
              <a:path w="1638" h="497">
                <a:moveTo>
                  <a:pt x="20588" y="8706"/>
                </a:moveTo>
                <a:cubicBezTo>
                  <a:pt x="20656" y="8686"/>
                  <a:pt x="20719" y="8678"/>
                  <a:pt x="20786" y="8657"/>
                </a:cubicBezTo>
                <a:cubicBezTo>
                  <a:pt x="20776" y="8605"/>
                  <a:pt x="20716" y="8501"/>
                  <a:pt x="20638" y="8558"/>
                </a:cubicBezTo>
                <a:cubicBezTo>
                  <a:pt x="20568" y="8609"/>
                  <a:pt x="20413" y="8925"/>
                  <a:pt x="20588" y="8954"/>
                </a:cubicBezTo>
                <a:cubicBezTo>
                  <a:pt x="20741" y="8979"/>
                  <a:pt x="20880" y="8848"/>
                  <a:pt x="21010" y="8806"/>
                </a:cubicBezTo>
              </a:path>
              <a:path w="1638" h="497">
                <a:moveTo>
                  <a:pt x="21258" y="8508"/>
                </a:moveTo>
                <a:cubicBezTo>
                  <a:pt x="21116" y="8461"/>
                  <a:pt x="21065" y="8426"/>
                  <a:pt x="20985" y="8607"/>
                </a:cubicBezTo>
                <a:cubicBezTo>
                  <a:pt x="20903" y="8793"/>
                  <a:pt x="21007" y="8875"/>
                  <a:pt x="21183" y="8855"/>
                </a:cubicBezTo>
                <a:cubicBezTo>
                  <a:pt x="21216" y="8847"/>
                  <a:pt x="21249" y="8838"/>
                  <a:pt x="21282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3625920"/>
            <a:ext cx="214200" cy="9360"/>
          </a:xfrm>
          <a:custGeom>
            <a:avLst/>
            <a:gdLst/>
            <a:ahLst/>
            <a:rect l="l" t="t" r="r" b="b"/>
            <a:pathLst>
              <a:path w="596" h="26">
                <a:moveTo>
                  <a:pt x="21630" y="10096"/>
                </a:moveTo>
                <a:cubicBezTo>
                  <a:pt x="21808" y="10060"/>
                  <a:pt x="21991" y="10071"/>
                  <a:pt x="22175" y="10071"/>
                </a:cubicBezTo>
                <a:cubicBezTo>
                  <a:pt x="22200" y="10071"/>
                  <a:pt x="22208" y="10071"/>
                  <a:pt x="22225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23160" y="4626000"/>
            <a:ext cx="330120" cy="214200"/>
          </a:xfrm>
          <a:custGeom>
            <a:avLst/>
            <a:gdLst/>
            <a:ahLst/>
            <a:rect l="l" t="t" r="r" b="b"/>
            <a:pathLst>
              <a:path w="919" h="596">
                <a:moveTo>
                  <a:pt x="21729" y="13271"/>
                </a:moveTo>
                <a:cubicBezTo>
                  <a:pt x="21866" y="13271"/>
                  <a:pt x="21992" y="13265"/>
                  <a:pt x="22126" y="13246"/>
                </a:cubicBezTo>
              </a:path>
              <a:path w="919" h="596">
                <a:moveTo>
                  <a:pt x="22324" y="12898"/>
                </a:moveTo>
                <a:cubicBezTo>
                  <a:pt x="22409" y="12884"/>
                  <a:pt x="22486" y="12811"/>
                  <a:pt x="22547" y="12898"/>
                </a:cubicBezTo>
                <a:cubicBezTo>
                  <a:pt x="22610" y="12988"/>
                  <a:pt x="22328" y="13063"/>
                  <a:pt x="22399" y="13146"/>
                </a:cubicBezTo>
                <a:cubicBezTo>
                  <a:pt x="22424" y="13176"/>
                  <a:pt x="22625" y="13072"/>
                  <a:pt x="22647" y="13246"/>
                </a:cubicBezTo>
                <a:cubicBezTo>
                  <a:pt x="22664" y="13374"/>
                  <a:pt x="22538" y="13464"/>
                  <a:pt x="22423" y="13444"/>
                </a:cubicBezTo>
                <a:cubicBezTo>
                  <a:pt x="22401" y="13421"/>
                  <a:pt x="22393" y="13410"/>
                  <a:pt x="22399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24200" y="3106800"/>
            <a:ext cx="223920" cy="152280"/>
          </a:xfrm>
          <a:custGeom>
            <a:avLst/>
            <a:gdLst/>
            <a:ahLst/>
            <a:rect l="l" t="t" r="r" b="b"/>
            <a:pathLst>
              <a:path w="621" h="423">
                <a:moveTo>
                  <a:pt x="10344" y="8632"/>
                </a:moveTo>
                <a:cubicBezTo>
                  <a:pt x="10405" y="8772"/>
                  <a:pt x="10396" y="8921"/>
                  <a:pt x="10443" y="9054"/>
                </a:cubicBezTo>
                <a:cubicBezTo>
                  <a:pt x="10495" y="9054"/>
                  <a:pt x="10522" y="9035"/>
                  <a:pt x="10542" y="8979"/>
                </a:cubicBezTo>
              </a:path>
              <a:path w="621" h="423">
                <a:moveTo>
                  <a:pt x="10666" y="8632"/>
                </a:moveTo>
                <a:cubicBezTo>
                  <a:pt x="10679" y="8805"/>
                  <a:pt x="10692" y="8874"/>
                  <a:pt x="10765" y="9029"/>
                </a:cubicBezTo>
                <a:cubicBezTo>
                  <a:pt x="10846" y="8986"/>
                  <a:pt x="11096" y="8797"/>
                  <a:pt x="10914" y="8682"/>
                </a:cubicBezTo>
                <a:cubicBezTo>
                  <a:pt x="10813" y="8662"/>
                  <a:pt x="10793" y="8643"/>
                  <a:pt x="10740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18640" y="3510000"/>
            <a:ext cx="188640" cy="249120"/>
          </a:xfrm>
          <a:custGeom>
            <a:avLst/>
            <a:gdLst/>
            <a:ahLst/>
            <a:rect l="l" t="t" r="r" b="b"/>
            <a:pathLst>
              <a:path w="522" h="696">
                <a:moveTo>
                  <a:pt x="22399" y="9872"/>
                </a:moveTo>
                <a:cubicBezTo>
                  <a:pt x="22427" y="9800"/>
                  <a:pt x="22490" y="9764"/>
                  <a:pt x="22572" y="9748"/>
                </a:cubicBezTo>
                <a:cubicBezTo>
                  <a:pt x="22648" y="9734"/>
                  <a:pt x="22713" y="9860"/>
                  <a:pt x="22696" y="9922"/>
                </a:cubicBezTo>
                <a:cubicBezTo>
                  <a:pt x="22681" y="9976"/>
                  <a:pt x="22560" y="10102"/>
                  <a:pt x="22523" y="10145"/>
                </a:cubicBezTo>
                <a:cubicBezTo>
                  <a:pt x="22455" y="10224"/>
                  <a:pt x="22360" y="10284"/>
                  <a:pt x="22299" y="10368"/>
                </a:cubicBezTo>
                <a:cubicBezTo>
                  <a:pt x="22291" y="10385"/>
                  <a:pt x="22283" y="10401"/>
                  <a:pt x="22275" y="10418"/>
                </a:cubicBezTo>
                <a:cubicBezTo>
                  <a:pt x="22303" y="10476"/>
                  <a:pt x="22291" y="10366"/>
                  <a:pt x="22324" y="10344"/>
                </a:cubicBezTo>
                <a:cubicBezTo>
                  <a:pt x="22345" y="10330"/>
                  <a:pt x="22527" y="10252"/>
                  <a:pt x="22547" y="10269"/>
                </a:cubicBezTo>
                <a:cubicBezTo>
                  <a:pt x="22630" y="10342"/>
                  <a:pt x="22638" y="10382"/>
                  <a:pt x="22771" y="10319"/>
                </a:cubicBezTo>
                <a:cubicBezTo>
                  <a:pt x="22779" y="10311"/>
                  <a:pt x="22788" y="10302"/>
                  <a:pt x="22796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109000" y="3071880"/>
            <a:ext cx="187200" cy="17280"/>
          </a:xfrm>
          <a:custGeom>
            <a:avLst/>
            <a:gdLst/>
            <a:ahLst/>
            <a:rect l="l" t="t" r="r" b="b"/>
            <a:pathLst>
              <a:path w="522" h="50">
                <a:moveTo>
                  <a:pt x="22547" y="8582"/>
                </a:moveTo>
                <a:cubicBezTo>
                  <a:pt x="22456" y="8582"/>
                  <a:pt x="22681" y="8570"/>
                  <a:pt x="22771" y="8558"/>
                </a:cubicBezTo>
                <a:cubicBezTo>
                  <a:pt x="22876" y="8544"/>
                  <a:pt x="22945" y="8533"/>
                  <a:pt x="23044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4240" y="3062160"/>
            <a:ext cx="216000" cy="19080"/>
          </a:xfrm>
          <a:custGeom>
            <a:avLst/>
            <a:gdLst/>
            <a:ahLst/>
            <a:rect l="l" t="t" r="r" b="b"/>
            <a:pathLst>
              <a:path w="596" h="51">
                <a:moveTo>
                  <a:pt x="23986" y="8558"/>
                </a:moveTo>
                <a:cubicBezTo>
                  <a:pt x="24072" y="8558"/>
                  <a:pt x="24175" y="8543"/>
                  <a:pt x="24259" y="8533"/>
                </a:cubicBezTo>
                <a:cubicBezTo>
                  <a:pt x="24385" y="8518"/>
                  <a:pt x="24470" y="8504"/>
                  <a:pt x="24581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31000" y="4205160"/>
            <a:ext cx="214200" cy="135000"/>
          </a:xfrm>
          <a:custGeom>
            <a:avLst/>
            <a:gdLst/>
            <a:ahLst/>
            <a:rect l="l" t="t" r="r" b="b"/>
            <a:pathLst>
              <a:path w="596" h="373">
                <a:moveTo>
                  <a:pt x="19199" y="11782"/>
                </a:moveTo>
                <a:cubicBezTo>
                  <a:pt x="19155" y="11717"/>
                  <a:pt x="19149" y="11698"/>
                  <a:pt x="19100" y="11683"/>
                </a:cubicBezTo>
                <a:cubicBezTo>
                  <a:pt x="19059" y="11738"/>
                  <a:pt x="18857" y="12008"/>
                  <a:pt x="19025" y="12055"/>
                </a:cubicBezTo>
                <a:cubicBezTo>
                  <a:pt x="19169" y="12055"/>
                  <a:pt x="19214" y="12057"/>
                  <a:pt x="19298" y="12005"/>
                </a:cubicBezTo>
              </a:path>
              <a:path w="596" h="373">
                <a:moveTo>
                  <a:pt x="19546" y="11931"/>
                </a:moveTo>
                <a:cubicBezTo>
                  <a:pt x="19554" y="11931"/>
                  <a:pt x="19563" y="11931"/>
                  <a:pt x="19571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62160" y="4160880"/>
            <a:ext cx="196920" cy="179280"/>
          </a:xfrm>
          <a:custGeom>
            <a:avLst/>
            <a:gdLst/>
            <a:ahLst/>
            <a:rect l="l" t="t" r="r" b="b"/>
            <a:pathLst>
              <a:path w="547" h="497">
                <a:moveTo>
                  <a:pt x="8533" y="11633"/>
                </a:moveTo>
                <a:cubicBezTo>
                  <a:pt x="8533" y="11625"/>
                  <a:pt x="8533" y="11617"/>
                  <a:pt x="8533" y="11609"/>
                </a:cubicBezTo>
                <a:cubicBezTo>
                  <a:pt x="8452" y="11635"/>
                  <a:pt x="8529" y="11894"/>
                  <a:pt x="8533" y="11956"/>
                </a:cubicBezTo>
                <a:cubicBezTo>
                  <a:pt x="8533" y="11981"/>
                  <a:pt x="8533" y="12005"/>
                  <a:pt x="8533" y="12030"/>
                </a:cubicBezTo>
              </a:path>
              <a:path w="547" h="497">
                <a:moveTo>
                  <a:pt x="8806" y="11584"/>
                </a:moveTo>
                <a:cubicBezTo>
                  <a:pt x="8897" y="11561"/>
                  <a:pt x="8923" y="11550"/>
                  <a:pt x="8979" y="11584"/>
                </a:cubicBezTo>
                <a:cubicBezTo>
                  <a:pt x="9031" y="11769"/>
                  <a:pt x="9007" y="11968"/>
                  <a:pt x="8781" y="12055"/>
                </a:cubicBezTo>
                <a:cubicBezTo>
                  <a:pt x="8740" y="12055"/>
                  <a:pt x="8698" y="12055"/>
                  <a:pt x="8657" y="12055"/>
                </a:cubicBezTo>
                <a:cubicBezTo>
                  <a:pt x="8682" y="11948"/>
                  <a:pt x="8766" y="11723"/>
                  <a:pt x="8930" y="11782"/>
                </a:cubicBezTo>
                <a:cubicBezTo>
                  <a:pt x="8990" y="11804"/>
                  <a:pt x="9037" y="11905"/>
                  <a:pt x="9054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41840" y="4106880"/>
            <a:ext cx="206280" cy="19836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10393" y="11584"/>
                </a:moveTo>
                <a:cubicBezTo>
                  <a:pt x="10416" y="11674"/>
                  <a:pt x="10430" y="11853"/>
                  <a:pt x="10468" y="11931"/>
                </a:cubicBezTo>
                <a:cubicBezTo>
                  <a:pt x="10476" y="11931"/>
                  <a:pt x="10484" y="11931"/>
                  <a:pt x="10492" y="11931"/>
                </a:cubicBezTo>
              </a:path>
              <a:path w="572" h="547">
                <a:moveTo>
                  <a:pt x="10864" y="11410"/>
                </a:moveTo>
                <a:cubicBezTo>
                  <a:pt x="10806" y="11459"/>
                  <a:pt x="10663" y="11508"/>
                  <a:pt x="10641" y="11584"/>
                </a:cubicBezTo>
                <a:cubicBezTo>
                  <a:pt x="10641" y="11625"/>
                  <a:pt x="10641" y="11633"/>
                  <a:pt x="10641" y="11658"/>
                </a:cubicBezTo>
                <a:cubicBezTo>
                  <a:pt x="10749" y="11658"/>
                  <a:pt x="10773" y="11591"/>
                  <a:pt x="10889" y="11633"/>
                </a:cubicBezTo>
                <a:cubicBezTo>
                  <a:pt x="11074" y="11701"/>
                  <a:pt x="10928" y="11933"/>
                  <a:pt x="10790" y="11956"/>
                </a:cubicBezTo>
                <a:cubicBezTo>
                  <a:pt x="10725" y="11934"/>
                  <a:pt x="10700" y="11935"/>
                  <a:pt x="10716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1000" y="4143240"/>
            <a:ext cx="179280" cy="179640"/>
          </a:xfrm>
          <a:custGeom>
            <a:avLst/>
            <a:gdLst/>
            <a:ahLst/>
            <a:rect l="l" t="t" r="r" b="b"/>
            <a:pathLst>
              <a:path w="497" h="497">
                <a:moveTo>
                  <a:pt x="12477" y="11559"/>
                </a:moveTo>
                <a:cubicBezTo>
                  <a:pt x="12486" y="11697"/>
                  <a:pt x="12493" y="11847"/>
                  <a:pt x="12526" y="11981"/>
                </a:cubicBezTo>
                <a:cubicBezTo>
                  <a:pt x="12526" y="11973"/>
                  <a:pt x="12526" y="11964"/>
                  <a:pt x="12526" y="11956"/>
                </a:cubicBezTo>
              </a:path>
              <a:path w="497" h="497">
                <a:moveTo>
                  <a:pt x="12948" y="11509"/>
                </a:moveTo>
                <a:cubicBezTo>
                  <a:pt x="12847" y="11539"/>
                  <a:pt x="12727" y="11604"/>
                  <a:pt x="12675" y="11708"/>
                </a:cubicBezTo>
                <a:cubicBezTo>
                  <a:pt x="12675" y="11716"/>
                  <a:pt x="12675" y="11725"/>
                  <a:pt x="12675" y="11733"/>
                </a:cubicBezTo>
                <a:cubicBezTo>
                  <a:pt x="12838" y="11805"/>
                  <a:pt x="12963" y="11796"/>
                  <a:pt x="12948" y="11981"/>
                </a:cubicBezTo>
                <a:cubicBezTo>
                  <a:pt x="12804" y="12037"/>
                  <a:pt x="12854" y="11789"/>
                  <a:pt x="12874" y="11708"/>
                </a:cubicBezTo>
                <a:cubicBezTo>
                  <a:pt x="12893" y="11633"/>
                  <a:pt x="12923" y="11506"/>
                  <a:pt x="12923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13320" y="4224240"/>
            <a:ext cx="490680" cy="214560"/>
          </a:xfrm>
          <a:custGeom>
            <a:avLst/>
            <a:gdLst/>
            <a:ahLst/>
            <a:rect l="l" t="t" r="r" b="b"/>
            <a:pathLst>
              <a:path w="1365" h="596">
                <a:moveTo>
                  <a:pt x="17959" y="11782"/>
                </a:moveTo>
                <a:cubicBezTo>
                  <a:pt x="17982" y="11900"/>
                  <a:pt x="18053" y="12012"/>
                  <a:pt x="18083" y="12129"/>
                </a:cubicBezTo>
                <a:cubicBezTo>
                  <a:pt x="18083" y="12171"/>
                  <a:pt x="18083" y="12196"/>
                  <a:pt x="18083" y="12154"/>
                </a:cubicBezTo>
              </a:path>
              <a:path w="1365" h="596">
                <a:moveTo>
                  <a:pt x="17537" y="11881"/>
                </a:moveTo>
                <a:cubicBezTo>
                  <a:pt x="17755" y="11838"/>
                  <a:pt x="18133" y="11672"/>
                  <a:pt x="18355" y="11733"/>
                </a:cubicBezTo>
                <a:cubicBezTo>
                  <a:pt x="18355" y="11783"/>
                  <a:pt x="18349" y="11817"/>
                  <a:pt x="18331" y="11857"/>
                </a:cubicBezTo>
              </a:path>
              <a:path w="1365" h="596">
                <a:moveTo>
                  <a:pt x="17835" y="12328"/>
                </a:moveTo>
                <a:cubicBezTo>
                  <a:pt x="18010" y="12268"/>
                  <a:pt x="18246" y="12244"/>
                  <a:pt x="18405" y="12154"/>
                </a:cubicBezTo>
                <a:cubicBezTo>
                  <a:pt x="18413" y="12146"/>
                  <a:pt x="18422" y="12137"/>
                  <a:pt x="18430" y="12129"/>
                </a:cubicBezTo>
              </a:path>
              <a:path w="1365" h="596">
                <a:moveTo>
                  <a:pt x="18430" y="12005"/>
                </a:moveTo>
                <a:cubicBezTo>
                  <a:pt x="18479" y="12080"/>
                  <a:pt x="18495" y="12105"/>
                  <a:pt x="18529" y="12154"/>
                </a:cubicBezTo>
                <a:cubicBezTo>
                  <a:pt x="18513" y="12075"/>
                  <a:pt x="18433" y="11958"/>
                  <a:pt x="18504" y="11881"/>
                </a:cubicBezTo>
                <a:cubicBezTo>
                  <a:pt x="18629" y="11746"/>
                  <a:pt x="18794" y="11921"/>
                  <a:pt x="18852" y="12030"/>
                </a:cubicBezTo>
                <a:cubicBezTo>
                  <a:pt x="18879" y="12081"/>
                  <a:pt x="18798" y="12090"/>
                  <a:pt x="18901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3760" y="4106880"/>
            <a:ext cx="187200" cy="162000"/>
          </a:xfrm>
          <a:custGeom>
            <a:avLst/>
            <a:gdLst/>
            <a:ahLst/>
            <a:rect l="l" t="t" r="r" b="b"/>
            <a:pathLst>
              <a:path w="522" h="448">
                <a:moveTo>
                  <a:pt x="20513" y="11410"/>
                </a:moveTo>
                <a:cubicBezTo>
                  <a:pt x="20569" y="11504"/>
                  <a:pt x="20560" y="11643"/>
                  <a:pt x="20563" y="11757"/>
                </a:cubicBezTo>
                <a:cubicBezTo>
                  <a:pt x="20563" y="11815"/>
                  <a:pt x="20563" y="11824"/>
                  <a:pt x="20563" y="11857"/>
                </a:cubicBezTo>
              </a:path>
              <a:path w="522" h="448">
                <a:moveTo>
                  <a:pt x="20315" y="11708"/>
                </a:moveTo>
                <a:cubicBezTo>
                  <a:pt x="20447" y="11695"/>
                  <a:pt x="20579" y="11670"/>
                  <a:pt x="20712" y="11658"/>
                </a:cubicBezTo>
                <a:cubicBezTo>
                  <a:pt x="20751" y="11655"/>
                  <a:pt x="20796" y="11658"/>
                  <a:pt x="20836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9160" y="4197240"/>
            <a:ext cx="133560" cy="12564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21605" y="11683"/>
                </a:moveTo>
                <a:cubicBezTo>
                  <a:pt x="21690" y="11683"/>
                  <a:pt x="21750" y="11770"/>
                  <a:pt x="21803" y="11832"/>
                </a:cubicBezTo>
                <a:cubicBezTo>
                  <a:pt x="21836" y="11871"/>
                  <a:pt x="21914" y="11951"/>
                  <a:pt x="21927" y="12005"/>
                </a:cubicBezTo>
              </a:path>
              <a:path w="373" h="348">
                <a:moveTo>
                  <a:pt x="21952" y="11658"/>
                </a:moveTo>
                <a:cubicBezTo>
                  <a:pt x="21849" y="11762"/>
                  <a:pt x="21736" y="11855"/>
                  <a:pt x="21630" y="11956"/>
                </a:cubicBezTo>
                <a:cubicBezTo>
                  <a:pt x="21613" y="11972"/>
                  <a:pt x="21597" y="11989"/>
                  <a:pt x="21580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7680" y="4714920"/>
            <a:ext cx="8091360" cy="1527120"/>
          </a:xfrm>
          <a:custGeom>
            <a:avLst/>
            <a:gdLst/>
            <a:ahLst/>
            <a:rect l="l" t="t" r="r" b="b"/>
            <a:pathLst>
              <a:path w="22474" h="4242">
                <a:moveTo>
                  <a:pt x="2009" y="14660"/>
                </a:moveTo>
                <a:cubicBezTo>
                  <a:pt x="1777" y="14755"/>
                  <a:pt x="1822" y="14144"/>
                  <a:pt x="1538" y="14833"/>
                </a:cubicBezTo>
                <a:cubicBezTo>
                  <a:pt x="1299" y="15413"/>
                  <a:pt x="1358" y="16043"/>
                  <a:pt x="2034" y="16073"/>
                </a:cubicBezTo>
                <a:cubicBezTo>
                  <a:pt x="2621" y="16099"/>
                  <a:pt x="2728" y="15183"/>
                  <a:pt x="2604" y="14833"/>
                </a:cubicBezTo>
                <a:cubicBezTo>
                  <a:pt x="2546" y="14858"/>
                  <a:pt x="2489" y="14883"/>
                  <a:pt x="2431" y="14908"/>
                </a:cubicBezTo>
                <a:cubicBezTo>
                  <a:pt x="2188" y="15512"/>
                  <a:pt x="1655" y="16513"/>
                  <a:pt x="2480" y="16942"/>
                </a:cubicBezTo>
                <a:cubicBezTo>
                  <a:pt x="3250" y="17342"/>
                  <a:pt x="4235" y="16499"/>
                  <a:pt x="4514" y="15850"/>
                </a:cubicBezTo>
                <a:cubicBezTo>
                  <a:pt x="4522" y="15718"/>
                  <a:pt x="4531" y="15585"/>
                  <a:pt x="4539" y="15453"/>
                </a:cubicBezTo>
                <a:cubicBezTo>
                  <a:pt x="4473" y="15387"/>
                  <a:pt x="4407" y="15321"/>
                  <a:pt x="4341" y="15255"/>
                </a:cubicBezTo>
                <a:cubicBezTo>
                  <a:pt x="3805" y="15578"/>
                  <a:pt x="3317" y="15699"/>
                  <a:pt x="3671" y="16644"/>
                </a:cubicBezTo>
                <a:cubicBezTo>
                  <a:pt x="4022" y="17580"/>
                  <a:pt x="5174" y="16771"/>
                  <a:pt x="5531" y="16346"/>
                </a:cubicBezTo>
                <a:cubicBezTo>
                  <a:pt x="5885" y="15750"/>
                  <a:pt x="6009" y="15611"/>
                  <a:pt x="5978" y="15156"/>
                </a:cubicBezTo>
                <a:cubicBezTo>
                  <a:pt x="5438" y="15368"/>
                  <a:pt x="4847" y="15433"/>
                  <a:pt x="4961" y="16520"/>
                </a:cubicBezTo>
                <a:cubicBezTo>
                  <a:pt x="5070" y="17561"/>
                  <a:pt x="6280" y="16958"/>
                  <a:pt x="6672" y="16545"/>
                </a:cubicBezTo>
                <a:cubicBezTo>
                  <a:pt x="7279" y="15907"/>
                  <a:pt x="7190" y="15629"/>
                  <a:pt x="6896" y="14982"/>
                </a:cubicBezTo>
                <a:cubicBezTo>
                  <a:pt x="6344" y="15325"/>
                  <a:pt x="5328" y="16378"/>
                  <a:pt x="6127" y="17165"/>
                </a:cubicBezTo>
                <a:cubicBezTo>
                  <a:pt x="6938" y="17965"/>
                  <a:pt x="8328" y="16479"/>
                  <a:pt x="8607" y="15850"/>
                </a:cubicBezTo>
                <a:cubicBezTo>
                  <a:pt x="8674" y="15295"/>
                  <a:pt x="8753" y="15127"/>
                  <a:pt x="8334" y="14982"/>
                </a:cubicBezTo>
                <a:cubicBezTo>
                  <a:pt x="7978" y="15325"/>
                  <a:pt x="6615" y="16908"/>
                  <a:pt x="7913" y="17214"/>
                </a:cubicBezTo>
                <a:cubicBezTo>
                  <a:pt x="9099" y="17493"/>
                  <a:pt x="9964" y="16109"/>
                  <a:pt x="10443" y="15329"/>
                </a:cubicBezTo>
                <a:cubicBezTo>
                  <a:pt x="10385" y="15255"/>
                  <a:pt x="10327" y="15180"/>
                  <a:pt x="10269" y="15106"/>
                </a:cubicBezTo>
                <a:cubicBezTo>
                  <a:pt x="9977" y="15352"/>
                  <a:pt x="8458" y="16978"/>
                  <a:pt x="9872" y="16942"/>
                </a:cubicBezTo>
                <a:cubicBezTo>
                  <a:pt x="10906" y="16915"/>
                  <a:pt x="11509" y="15800"/>
                  <a:pt x="11733" y="15007"/>
                </a:cubicBezTo>
                <a:cubicBezTo>
                  <a:pt x="11645" y="15083"/>
                  <a:pt x="9875" y="16223"/>
                  <a:pt x="10740" y="16619"/>
                </a:cubicBezTo>
                <a:cubicBezTo>
                  <a:pt x="11600" y="17013"/>
                  <a:pt x="13138" y="15734"/>
                  <a:pt x="13271" y="14932"/>
                </a:cubicBezTo>
                <a:cubicBezTo>
                  <a:pt x="13205" y="14866"/>
                  <a:pt x="13138" y="14800"/>
                  <a:pt x="13072" y="14734"/>
                </a:cubicBezTo>
                <a:cubicBezTo>
                  <a:pt x="12756" y="15006"/>
                  <a:pt x="11220" y="16427"/>
                  <a:pt x="12601" y="16520"/>
                </a:cubicBezTo>
                <a:cubicBezTo>
                  <a:pt x="13838" y="16603"/>
                  <a:pt x="14311" y="15694"/>
                  <a:pt x="14833" y="15056"/>
                </a:cubicBezTo>
                <a:cubicBezTo>
                  <a:pt x="14255" y="15171"/>
                  <a:pt x="12805" y="15715"/>
                  <a:pt x="13742" y="16594"/>
                </a:cubicBezTo>
                <a:cubicBezTo>
                  <a:pt x="14454" y="17262"/>
                  <a:pt x="16178" y="16640"/>
                  <a:pt x="16446" y="15776"/>
                </a:cubicBezTo>
                <a:cubicBezTo>
                  <a:pt x="16396" y="15619"/>
                  <a:pt x="16347" y="15461"/>
                  <a:pt x="16297" y="15304"/>
                </a:cubicBezTo>
                <a:cubicBezTo>
                  <a:pt x="15858" y="15388"/>
                  <a:pt x="14230" y="16111"/>
                  <a:pt x="15478" y="16669"/>
                </a:cubicBezTo>
                <a:cubicBezTo>
                  <a:pt x="16194" y="16989"/>
                  <a:pt x="18090" y="16524"/>
                  <a:pt x="18008" y="15478"/>
                </a:cubicBezTo>
                <a:cubicBezTo>
                  <a:pt x="17892" y="15354"/>
                  <a:pt x="17777" y="15230"/>
                  <a:pt x="17661" y="15106"/>
                </a:cubicBezTo>
                <a:cubicBezTo>
                  <a:pt x="17109" y="15339"/>
                  <a:pt x="16031" y="16307"/>
                  <a:pt x="17438" y="16446"/>
                </a:cubicBezTo>
                <a:cubicBezTo>
                  <a:pt x="18687" y="16569"/>
                  <a:pt x="18760" y="15781"/>
                  <a:pt x="19025" y="15156"/>
                </a:cubicBezTo>
                <a:cubicBezTo>
                  <a:pt x="18620" y="15343"/>
                  <a:pt x="17156" y="16324"/>
                  <a:pt x="18604" y="16470"/>
                </a:cubicBezTo>
                <a:cubicBezTo>
                  <a:pt x="19655" y="16576"/>
                  <a:pt x="20394" y="15864"/>
                  <a:pt x="20786" y="15056"/>
                </a:cubicBezTo>
                <a:cubicBezTo>
                  <a:pt x="20311" y="15070"/>
                  <a:pt x="18807" y="15809"/>
                  <a:pt x="19819" y="16470"/>
                </a:cubicBezTo>
                <a:cubicBezTo>
                  <a:pt x="20466" y="16893"/>
                  <a:pt x="21951" y="16010"/>
                  <a:pt x="21927" y="15255"/>
                </a:cubicBezTo>
                <a:cubicBezTo>
                  <a:pt x="21836" y="15181"/>
                  <a:pt x="21745" y="15106"/>
                  <a:pt x="21654" y="15032"/>
                </a:cubicBezTo>
                <a:cubicBezTo>
                  <a:pt x="21226" y="15309"/>
                  <a:pt x="20072" y="16412"/>
                  <a:pt x="21506" y="16222"/>
                </a:cubicBezTo>
                <a:cubicBezTo>
                  <a:pt x="21784" y="16185"/>
                  <a:pt x="23494" y="15173"/>
                  <a:pt x="22498" y="15354"/>
                </a:cubicBezTo>
                <a:cubicBezTo>
                  <a:pt x="21819" y="15477"/>
                  <a:pt x="21728" y="16350"/>
                  <a:pt x="22622" y="16173"/>
                </a:cubicBezTo>
                <a:cubicBezTo>
                  <a:pt x="22804" y="16082"/>
                  <a:pt x="22986" y="15991"/>
                  <a:pt x="23168" y="15900"/>
                </a:cubicBezTo>
                <a:cubicBezTo>
                  <a:pt x="23570" y="15020"/>
                  <a:pt x="22977" y="15194"/>
                  <a:pt x="22696" y="15801"/>
                </a:cubicBezTo>
                <a:cubicBezTo>
                  <a:pt x="22704" y="15900"/>
                  <a:pt x="22713" y="15999"/>
                  <a:pt x="22721" y="16098"/>
                </a:cubicBezTo>
                <a:cubicBezTo>
                  <a:pt x="22870" y="16079"/>
                  <a:pt x="24148" y="16251"/>
                  <a:pt x="23912" y="15602"/>
                </a:cubicBezTo>
                <a:cubicBezTo>
                  <a:pt x="23771" y="15610"/>
                  <a:pt x="23631" y="15619"/>
                  <a:pt x="23490" y="15627"/>
                </a:cubicBezTo>
              </a:path>
              <a:path w="22474" h="4242">
                <a:moveTo>
                  <a:pt x="21878" y="13122"/>
                </a:moveTo>
                <a:cubicBezTo>
                  <a:pt x="21880" y="13124"/>
                  <a:pt x="21914" y="13313"/>
                  <a:pt x="21927" y="13395"/>
                </a:cubicBezTo>
                <a:cubicBezTo>
                  <a:pt x="21927" y="13403"/>
                  <a:pt x="21927" y="13411"/>
                  <a:pt x="21927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16680" y="1339920"/>
            <a:ext cx="331560" cy="241200"/>
          </a:xfrm>
          <a:custGeom>
            <a:avLst/>
            <a:gdLst/>
            <a:ahLst/>
            <a:rect l="l" t="t" r="r" b="b"/>
            <a:pathLst>
              <a:path w="919" h="670">
                <a:moveTo>
                  <a:pt x="14238" y="3820"/>
                </a:moveTo>
                <a:cubicBezTo>
                  <a:pt x="14238" y="3887"/>
                  <a:pt x="14225" y="3933"/>
                  <a:pt x="14213" y="3994"/>
                </a:cubicBezTo>
                <a:cubicBezTo>
                  <a:pt x="14317" y="4007"/>
                  <a:pt x="14448" y="4014"/>
                  <a:pt x="14536" y="4043"/>
                </a:cubicBezTo>
              </a:path>
              <a:path w="919" h="670">
                <a:moveTo>
                  <a:pt x="14511" y="3721"/>
                </a:moveTo>
                <a:cubicBezTo>
                  <a:pt x="14470" y="3902"/>
                  <a:pt x="14428" y="4081"/>
                  <a:pt x="14412" y="4266"/>
                </a:cubicBezTo>
              </a:path>
              <a:path w="919" h="670">
                <a:moveTo>
                  <a:pt x="14684" y="3795"/>
                </a:moveTo>
                <a:cubicBezTo>
                  <a:pt x="14785" y="3764"/>
                  <a:pt x="14831" y="3755"/>
                  <a:pt x="14932" y="3770"/>
                </a:cubicBezTo>
                <a:cubicBezTo>
                  <a:pt x="14949" y="4017"/>
                  <a:pt x="14815" y="4107"/>
                  <a:pt x="14660" y="4291"/>
                </a:cubicBezTo>
                <a:cubicBezTo>
                  <a:pt x="14635" y="4324"/>
                  <a:pt x="14610" y="4357"/>
                  <a:pt x="14585" y="4390"/>
                </a:cubicBezTo>
                <a:cubicBezTo>
                  <a:pt x="14643" y="4361"/>
                  <a:pt x="14764" y="4231"/>
                  <a:pt x="14858" y="4266"/>
                </a:cubicBezTo>
                <a:cubicBezTo>
                  <a:pt x="14972" y="4309"/>
                  <a:pt x="15006" y="4318"/>
                  <a:pt x="15131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13320" y="366840"/>
            <a:ext cx="723960" cy="268200"/>
          </a:xfrm>
          <a:custGeom>
            <a:avLst/>
            <a:gdLst/>
            <a:ahLst/>
            <a:rect l="l" t="t" r="r" b="b"/>
            <a:pathLst>
              <a:path w="2010" h="745">
                <a:moveTo>
                  <a:pt x="17983" y="1215"/>
                </a:moveTo>
                <a:cubicBezTo>
                  <a:pt x="17983" y="1132"/>
                  <a:pt x="17989" y="1333"/>
                  <a:pt x="18008" y="1414"/>
                </a:cubicBezTo>
                <a:cubicBezTo>
                  <a:pt x="18034" y="1526"/>
                  <a:pt x="18188" y="1776"/>
                  <a:pt x="18008" y="1736"/>
                </a:cubicBezTo>
              </a:path>
              <a:path w="2010" h="745">
                <a:moveTo>
                  <a:pt x="17537" y="1091"/>
                </a:moveTo>
                <a:cubicBezTo>
                  <a:pt x="17863" y="1029"/>
                  <a:pt x="18291" y="948"/>
                  <a:pt x="18479" y="1339"/>
                </a:cubicBezTo>
                <a:cubicBezTo>
                  <a:pt x="18592" y="1575"/>
                  <a:pt x="18272" y="1709"/>
                  <a:pt x="18107" y="1712"/>
                </a:cubicBezTo>
                <a:cubicBezTo>
                  <a:pt x="17984" y="1691"/>
                  <a:pt x="17959" y="1683"/>
                  <a:pt x="17884" y="1687"/>
                </a:cubicBezTo>
              </a:path>
              <a:path w="2010" h="745">
                <a:moveTo>
                  <a:pt x="18728" y="1463"/>
                </a:moveTo>
                <a:cubicBezTo>
                  <a:pt x="18785" y="1449"/>
                  <a:pt x="18834" y="1419"/>
                  <a:pt x="18901" y="1414"/>
                </a:cubicBezTo>
                <a:cubicBezTo>
                  <a:pt x="18909" y="1414"/>
                  <a:pt x="18918" y="1414"/>
                  <a:pt x="18926" y="1414"/>
                </a:cubicBezTo>
                <a:cubicBezTo>
                  <a:pt x="18904" y="1360"/>
                  <a:pt x="18862" y="1290"/>
                  <a:pt x="18802" y="1265"/>
                </a:cubicBezTo>
                <a:cubicBezTo>
                  <a:pt x="18722" y="1232"/>
                  <a:pt x="18685" y="1444"/>
                  <a:pt x="18703" y="1488"/>
                </a:cubicBezTo>
                <a:cubicBezTo>
                  <a:pt x="18780" y="1672"/>
                  <a:pt x="18994" y="1564"/>
                  <a:pt x="19100" y="1513"/>
                </a:cubicBezTo>
              </a:path>
              <a:path w="2010" h="745">
                <a:moveTo>
                  <a:pt x="19348" y="1191"/>
                </a:moveTo>
                <a:cubicBezTo>
                  <a:pt x="19344" y="1199"/>
                  <a:pt x="19214" y="1210"/>
                  <a:pt x="19149" y="1290"/>
                </a:cubicBezTo>
                <a:cubicBezTo>
                  <a:pt x="18970" y="1511"/>
                  <a:pt x="19163" y="1654"/>
                  <a:pt x="19397" y="1588"/>
                </a:cubicBezTo>
                <a:cubicBezTo>
                  <a:pt x="19490" y="1532"/>
                  <a:pt x="19505" y="1533"/>
                  <a:pt x="19546" y="14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40760" y="455760"/>
            <a:ext cx="276120" cy="9360"/>
          </a:xfrm>
          <a:custGeom>
            <a:avLst/>
            <a:gdLst/>
            <a:ahLst/>
            <a:rect l="l" t="t" r="r" b="b"/>
            <a:pathLst>
              <a:path w="770" h="26">
                <a:moveTo>
                  <a:pt x="20414" y="1265"/>
                </a:moveTo>
                <a:cubicBezTo>
                  <a:pt x="20306" y="1265"/>
                  <a:pt x="20579" y="1265"/>
                  <a:pt x="20687" y="1265"/>
                </a:cubicBezTo>
                <a:cubicBezTo>
                  <a:pt x="20794" y="1265"/>
                  <a:pt x="21058" y="1251"/>
                  <a:pt x="21134" y="1290"/>
                </a:cubicBezTo>
                <a:cubicBezTo>
                  <a:pt x="21142" y="1290"/>
                  <a:pt x="21150" y="1290"/>
                  <a:pt x="21158" y="1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85080" y="438120"/>
            <a:ext cx="285840" cy="34920"/>
          </a:xfrm>
          <a:custGeom>
            <a:avLst/>
            <a:gdLst/>
            <a:ahLst/>
            <a:rect l="l" t="t" r="r" b="b"/>
            <a:pathLst>
              <a:path w="794" h="101">
                <a:moveTo>
                  <a:pt x="22126" y="1290"/>
                </a:moveTo>
                <a:cubicBezTo>
                  <a:pt x="22118" y="1290"/>
                  <a:pt x="22109" y="1290"/>
                  <a:pt x="22101" y="1290"/>
                </a:cubicBezTo>
                <a:cubicBezTo>
                  <a:pt x="22129" y="1207"/>
                  <a:pt x="22408" y="1246"/>
                  <a:pt x="22473" y="1240"/>
                </a:cubicBezTo>
                <a:cubicBezTo>
                  <a:pt x="22605" y="1221"/>
                  <a:pt x="22621" y="1213"/>
                  <a:pt x="22696" y="1215"/>
                </a:cubicBezTo>
              </a:path>
              <a:path w="794" h="101">
                <a:moveTo>
                  <a:pt x="21903" y="1265"/>
                </a:moveTo>
                <a:cubicBezTo>
                  <a:pt x="22055" y="1265"/>
                  <a:pt x="22197" y="1257"/>
                  <a:pt x="22349" y="1240"/>
                </a:cubicBezTo>
                <a:cubicBezTo>
                  <a:pt x="22478" y="1225"/>
                  <a:pt x="22571" y="1215"/>
                  <a:pt x="22696" y="1215"/>
                </a:cubicBezTo>
                <a:cubicBezTo>
                  <a:pt x="22526" y="1244"/>
                  <a:pt x="22351" y="1247"/>
                  <a:pt x="22175" y="1265"/>
                </a:cubicBezTo>
                <a:cubicBezTo>
                  <a:pt x="22109" y="1273"/>
                  <a:pt x="22043" y="1282"/>
                  <a:pt x="21977" y="1290"/>
                </a:cubicBezTo>
                <a:cubicBezTo>
                  <a:pt x="21779" y="1376"/>
                  <a:pt x="22214" y="1266"/>
                  <a:pt x="22225" y="1265"/>
                </a:cubicBezTo>
                <a:cubicBezTo>
                  <a:pt x="22432" y="1265"/>
                  <a:pt x="22491" y="1267"/>
                  <a:pt x="22622" y="1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2920" y="509760"/>
            <a:ext cx="160200" cy="125280"/>
          </a:xfrm>
          <a:custGeom>
            <a:avLst/>
            <a:gdLst/>
            <a:ahLst/>
            <a:rect l="l" t="t" r="r" b="b"/>
            <a:pathLst>
              <a:path w="447" h="348">
                <a:moveTo>
                  <a:pt x="6896" y="1761"/>
                </a:moveTo>
                <a:cubicBezTo>
                  <a:pt x="6905" y="1693"/>
                  <a:pt x="6936" y="1652"/>
                  <a:pt x="6945" y="1588"/>
                </a:cubicBezTo>
              </a:path>
              <a:path w="447" h="348">
                <a:moveTo>
                  <a:pt x="7045" y="1463"/>
                </a:moveTo>
                <a:cubicBezTo>
                  <a:pt x="7061" y="1447"/>
                  <a:pt x="7078" y="1430"/>
                  <a:pt x="7094" y="1414"/>
                </a:cubicBezTo>
                <a:cubicBezTo>
                  <a:pt x="7145" y="1540"/>
                  <a:pt x="7086" y="1610"/>
                  <a:pt x="7094" y="1712"/>
                </a:cubicBezTo>
                <a:cubicBezTo>
                  <a:pt x="7097" y="1749"/>
                  <a:pt x="7302" y="1627"/>
                  <a:pt x="7342" y="16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2120" y="830160"/>
            <a:ext cx="233280" cy="206640"/>
          </a:xfrm>
          <a:custGeom>
            <a:avLst/>
            <a:gdLst/>
            <a:ahLst/>
            <a:rect l="l" t="t" r="r" b="b"/>
            <a:pathLst>
              <a:path w="646" h="571">
                <a:moveTo>
                  <a:pt x="10393" y="2431"/>
                </a:moveTo>
                <a:cubicBezTo>
                  <a:pt x="10440" y="2391"/>
                  <a:pt x="10488" y="2362"/>
                  <a:pt x="10542" y="2332"/>
                </a:cubicBezTo>
                <a:cubicBezTo>
                  <a:pt x="10558" y="2445"/>
                  <a:pt x="10583" y="2483"/>
                  <a:pt x="10492" y="2555"/>
                </a:cubicBezTo>
                <a:cubicBezTo>
                  <a:pt x="10551" y="2570"/>
                  <a:pt x="10619" y="2597"/>
                  <a:pt x="10592" y="2679"/>
                </a:cubicBezTo>
                <a:cubicBezTo>
                  <a:pt x="10545" y="2823"/>
                  <a:pt x="10406" y="2841"/>
                  <a:pt x="10368" y="2729"/>
                </a:cubicBezTo>
              </a:path>
              <a:path w="646" h="571">
                <a:moveTo>
                  <a:pt x="10740" y="2381"/>
                </a:moveTo>
                <a:cubicBezTo>
                  <a:pt x="10740" y="2449"/>
                  <a:pt x="10760" y="2512"/>
                  <a:pt x="10765" y="2580"/>
                </a:cubicBezTo>
                <a:cubicBezTo>
                  <a:pt x="10765" y="2588"/>
                  <a:pt x="10765" y="2596"/>
                  <a:pt x="10765" y="2604"/>
                </a:cubicBezTo>
                <a:cubicBezTo>
                  <a:pt x="10897" y="2604"/>
                  <a:pt x="10942" y="2620"/>
                  <a:pt x="11013" y="2505"/>
                </a:cubicBezTo>
              </a:path>
              <a:path w="646" h="571">
                <a:moveTo>
                  <a:pt x="10939" y="2307"/>
                </a:moveTo>
                <a:cubicBezTo>
                  <a:pt x="10950" y="2482"/>
                  <a:pt x="10964" y="2652"/>
                  <a:pt x="10964" y="2828"/>
                </a:cubicBezTo>
                <a:cubicBezTo>
                  <a:pt x="10964" y="2844"/>
                  <a:pt x="10964" y="2861"/>
                  <a:pt x="10964" y="28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49800" y="830160"/>
            <a:ext cx="304560" cy="169920"/>
          </a:xfrm>
          <a:custGeom>
            <a:avLst/>
            <a:gdLst/>
            <a:ahLst/>
            <a:rect l="l" t="t" r="r" b="b"/>
            <a:pathLst>
              <a:path w="844" h="472">
                <a:moveTo>
                  <a:pt x="11807" y="2456"/>
                </a:moveTo>
                <a:cubicBezTo>
                  <a:pt x="11831" y="2428"/>
                  <a:pt x="12062" y="2243"/>
                  <a:pt x="12080" y="2381"/>
                </a:cubicBezTo>
                <a:cubicBezTo>
                  <a:pt x="12053" y="2487"/>
                  <a:pt x="12040" y="2526"/>
                  <a:pt x="11981" y="2580"/>
                </a:cubicBezTo>
                <a:cubicBezTo>
                  <a:pt x="11964" y="2588"/>
                  <a:pt x="11948" y="2596"/>
                  <a:pt x="11931" y="2604"/>
                </a:cubicBezTo>
                <a:cubicBezTo>
                  <a:pt x="12000" y="2548"/>
                  <a:pt x="12267" y="2489"/>
                  <a:pt x="12129" y="2679"/>
                </a:cubicBezTo>
                <a:cubicBezTo>
                  <a:pt x="12030" y="2816"/>
                  <a:pt x="11871" y="2811"/>
                  <a:pt x="11832" y="2679"/>
                </a:cubicBezTo>
              </a:path>
              <a:path w="844" h="472">
                <a:moveTo>
                  <a:pt x="12353" y="2332"/>
                </a:moveTo>
                <a:cubicBezTo>
                  <a:pt x="12476" y="2307"/>
                  <a:pt x="12597" y="2345"/>
                  <a:pt x="12601" y="2505"/>
                </a:cubicBezTo>
                <a:cubicBezTo>
                  <a:pt x="12605" y="2688"/>
                  <a:pt x="12440" y="2731"/>
                  <a:pt x="12303" y="2704"/>
                </a:cubicBezTo>
                <a:cubicBezTo>
                  <a:pt x="12335" y="2555"/>
                  <a:pt x="12441" y="2478"/>
                  <a:pt x="12601" y="2604"/>
                </a:cubicBezTo>
                <a:cubicBezTo>
                  <a:pt x="12638" y="2661"/>
                  <a:pt x="12655" y="2664"/>
                  <a:pt x="12650" y="27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10120" y="847800"/>
            <a:ext cx="258840" cy="152280"/>
          </a:xfrm>
          <a:custGeom>
            <a:avLst/>
            <a:gdLst/>
            <a:ahLst/>
            <a:rect l="l" t="t" r="r" b="b"/>
            <a:pathLst>
              <a:path w="721" h="423">
                <a:moveTo>
                  <a:pt x="13940" y="2431"/>
                </a:moveTo>
                <a:cubicBezTo>
                  <a:pt x="13955" y="2405"/>
                  <a:pt x="14128" y="2265"/>
                  <a:pt x="14163" y="2381"/>
                </a:cubicBezTo>
                <a:cubicBezTo>
                  <a:pt x="14195" y="2486"/>
                  <a:pt x="14126" y="2518"/>
                  <a:pt x="14064" y="2580"/>
                </a:cubicBezTo>
                <a:cubicBezTo>
                  <a:pt x="14064" y="2563"/>
                  <a:pt x="14064" y="2547"/>
                  <a:pt x="14064" y="2530"/>
                </a:cubicBezTo>
                <a:cubicBezTo>
                  <a:pt x="14172" y="2537"/>
                  <a:pt x="14351" y="2555"/>
                  <a:pt x="14213" y="2704"/>
                </a:cubicBezTo>
                <a:cubicBezTo>
                  <a:pt x="14101" y="2825"/>
                  <a:pt x="13940" y="2822"/>
                  <a:pt x="13940" y="2679"/>
                </a:cubicBezTo>
              </a:path>
              <a:path w="721" h="423">
                <a:moveTo>
                  <a:pt x="14461" y="2406"/>
                </a:moveTo>
                <a:cubicBezTo>
                  <a:pt x="14438" y="2450"/>
                  <a:pt x="14291" y="2742"/>
                  <a:pt x="14486" y="2729"/>
                </a:cubicBezTo>
                <a:cubicBezTo>
                  <a:pt x="14613" y="2720"/>
                  <a:pt x="14620" y="2618"/>
                  <a:pt x="14635" y="2530"/>
                </a:cubicBezTo>
                <a:cubicBezTo>
                  <a:pt x="14474" y="2461"/>
                  <a:pt x="14476" y="2481"/>
                  <a:pt x="14312" y="2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95960" y="2490840"/>
            <a:ext cx="44280" cy="196920"/>
          </a:xfrm>
          <a:custGeom>
            <a:avLst/>
            <a:gdLst/>
            <a:ahLst/>
            <a:rect l="l" t="t" r="r" b="b"/>
            <a:pathLst>
              <a:path w="125" h="546">
                <a:moveTo>
                  <a:pt x="14759" y="6921"/>
                </a:moveTo>
                <a:cubicBezTo>
                  <a:pt x="14780" y="7069"/>
                  <a:pt x="14816" y="7218"/>
                  <a:pt x="14833" y="7367"/>
                </a:cubicBezTo>
                <a:cubicBezTo>
                  <a:pt x="14833" y="7384"/>
                  <a:pt x="14833" y="7400"/>
                  <a:pt x="14833" y="7417"/>
                </a:cubicBezTo>
                <a:cubicBezTo>
                  <a:pt x="14818" y="7265"/>
                  <a:pt x="14756" y="7137"/>
                  <a:pt x="14709" y="6995"/>
                </a:cubicBezTo>
                <a:cubicBezTo>
                  <a:pt x="14709" y="6987"/>
                  <a:pt x="14709" y="6978"/>
                  <a:pt x="14709" y="6970"/>
                </a:cubicBezTo>
                <a:cubicBezTo>
                  <a:pt x="14731" y="7078"/>
                  <a:pt x="14781" y="7184"/>
                  <a:pt x="14808" y="7293"/>
                </a:cubicBezTo>
                <a:cubicBezTo>
                  <a:pt x="14827" y="7370"/>
                  <a:pt x="14833" y="7401"/>
                  <a:pt x="14833" y="7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66000" y="1901880"/>
            <a:ext cx="981000" cy="206280"/>
          </a:xfrm>
          <a:custGeom>
            <a:avLst/>
            <a:gdLst/>
            <a:ahLst/>
            <a:rect l="l" t="t" r="r" b="b"/>
            <a:pathLst>
              <a:path w="2729" h="572">
                <a:moveTo>
                  <a:pt x="19372" y="5507"/>
                </a:moveTo>
                <a:cubicBezTo>
                  <a:pt x="19364" y="5507"/>
                  <a:pt x="19356" y="5507"/>
                  <a:pt x="19348" y="5507"/>
                </a:cubicBezTo>
              </a:path>
              <a:path w="2729" h="572">
                <a:moveTo>
                  <a:pt x="22076" y="5283"/>
                </a:moveTo>
                <a:cubicBezTo>
                  <a:pt x="21959" y="5448"/>
                  <a:pt x="21866" y="5647"/>
                  <a:pt x="21779" y="5829"/>
                </a:cubicBezTo>
                <a:cubicBezTo>
                  <a:pt x="21779" y="5837"/>
                  <a:pt x="21779" y="5846"/>
                  <a:pt x="21779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24760" y="1874880"/>
            <a:ext cx="625320" cy="295200"/>
          </a:xfrm>
          <a:custGeom>
            <a:avLst/>
            <a:gdLst/>
            <a:ahLst/>
            <a:rect l="l" t="t" r="r" b="b"/>
            <a:pathLst>
              <a:path w="1737" h="820">
                <a:moveTo>
                  <a:pt x="17760" y="5308"/>
                </a:moveTo>
                <a:cubicBezTo>
                  <a:pt x="17792" y="5434"/>
                  <a:pt x="17823" y="5615"/>
                  <a:pt x="17884" y="5730"/>
                </a:cubicBezTo>
                <a:cubicBezTo>
                  <a:pt x="17912" y="5730"/>
                  <a:pt x="17918" y="5732"/>
                  <a:pt x="17884" y="5755"/>
                </a:cubicBezTo>
              </a:path>
              <a:path w="1737" h="820">
                <a:moveTo>
                  <a:pt x="17289" y="5432"/>
                </a:moveTo>
                <a:cubicBezTo>
                  <a:pt x="17526" y="5385"/>
                  <a:pt x="17767" y="5316"/>
                  <a:pt x="18008" y="5283"/>
                </a:cubicBezTo>
                <a:cubicBezTo>
                  <a:pt x="18082" y="5283"/>
                  <a:pt x="18091" y="5283"/>
                  <a:pt x="18132" y="5283"/>
                </a:cubicBezTo>
              </a:path>
              <a:path w="1737" h="820">
                <a:moveTo>
                  <a:pt x="17413" y="6028"/>
                </a:moveTo>
                <a:cubicBezTo>
                  <a:pt x="17683" y="5956"/>
                  <a:pt x="17942" y="5862"/>
                  <a:pt x="18207" y="5779"/>
                </a:cubicBezTo>
                <a:cubicBezTo>
                  <a:pt x="18231" y="5779"/>
                  <a:pt x="18240" y="5779"/>
                  <a:pt x="18256" y="5779"/>
                </a:cubicBezTo>
              </a:path>
              <a:path w="1737" h="820">
                <a:moveTo>
                  <a:pt x="18281" y="5482"/>
                </a:moveTo>
                <a:cubicBezTo>
                  <a:pt x="18293" y="5522"/>
                  <a:pt x="18387" y="5715"/>
                  <a:pt x="18331" y="5631"/>
                </a:cubicBezTo>
                <a:cubicBezTo>
                  <a:pt x="18295" y="5542"/>
                  <a:pt x="18234" y="5400"/>
                  <a:pt x="18306" y="5308"/>
                </a:cubicBezTo>
                <a:cubicBezTo>
                  <a:pt x="18444" y="5131"/>
                  <a:pt x="18617" y="5373"/>
                  <a:pt x="18678" y="5482"/>
                </a:cubicBezTo>
                <a:cubicBezTo>
                  <a:pt x="18697" y="5539"/>
                  <a:pt x="18706" y="5546"/>
                  <a:pt x="18703" y="5581"/>
                </a:cubicBezTo>
              </a:path>
              <a:path w="1737" h="820">
                <a:moveTo>
                  <a:pt x="18926" y="5283"/>
                </a:moveTo>
                <a:cubicBezTo>
                  <a:pt x="18934" y="5300"/>
                  <a:pt x="18943" y="5316"/>
                  <a:pt x="18951" y="5333"/>
                </a:cubicBezTo>
                <a:cubicBezTo>
                  <a:pt x="18951" y="5286"/>
                  <a:pt x="18936" y="5162"/>
                  <a:pt x="18852" y="5209"/>
                </a:cubicBezTo>
                <a:cubicBezTo>
                  <a:pt x="18724" y="5281"/>
                  <a:pt x="18638" y="5581"/>
                  <a:pt x="18777" y="5680"/>
                </a:cubicBezTo>
                <a:cubicBezTo>
                  <a:pt x="18869" y="5746"/>
                  <a:pt x="18975" y="5606"/>
                  <a:pt x="19025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42120" y="1884240"/>
            <a:ext cx="250920" cy="187560"/>
          </a:xfrm>
          <a:custGeom>
            <a:avLst/>
            <a:gdLst/>
            <a:ahLst/>
            <a:rect l="l" t="t" r="r" b="b"/>
            <a:pathLst>
              <a:path w="695" h="522">
                <a:moveTo>
                  <a:pt x="20340" y="5234"/>
                </a:moveTo>
                <a:cubicBezTo>
                  <a:pt x="20392" y="5380"/>
                  <a:pt x="20490" y="5594"/>
                  <a:pt x="20464" y="5755"/>
                </a:cubicBezTo>
                <a:cubicBezTo>
                  <a:pt x="20456" y="5755"/>
                  <a:pt x="20447" y="5755"/>
                  <a:pt x="20439" y="5755"/>
                </a:cubicBezTo>
              </a:path>
              <a:path w="695" h="522">
                <a:moveTo>
                  <a:pt x="20117" y="5581"/>
                </a:moveTo>
                <a:cubicBezTo>
                  <a:pt x="20333" y="5541"/>
                  <a:pt x="20546" y="5475"/>
                  <a:pt x="20762" y="5457"/>
                </a:cubicBezTo>
                <a:cubicBezTo>
                  <a:pt x="20786" y="5457"/>
                  <a:pt x="20795" y="5457"/>
                  <a:pt x="20811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59800" y="1938240"/>
            <a:ext cx="223560" cy="125640"/>
          </a:xfrm>
          <a:custGeom>
            <a:avLst/>
            <a:gdLst/>
            <a:ahLst/>
            <a:rect l="l" t="t" r="r" b="b"/>
            <a:pathLst>
              <a:path w="621" h="348">
                <a:moveTo>
                  <a:pt x="21555" y="5383"/>
                </a:moveTo>
                <a:cubicBezTo>
                  <a:pt x="21751" y="5426"/>
                  <a:pt x="21906" y="5548"/>
                  <a:pt x="22076" y="5655"/>
                </a:cubicBezTo>
                <a:cubicBezTo>
                  <a:pt x="22126" y="5686"/>
                  <a:pt x="22194" y="5769"/>
                  <a:pt x="22151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63920" y="1928880"/>
            <a:ext cx="144360" cy="23328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9847" y="5358"/>
                </a:moveTo>
                <a:cubicBezTo>
                  <a:pt x="9687" y="5432"/>
                  <a:pt x="9649" y="5479"/>
                  <a:pt x="9624" y="5655"/>
                </a:cubicBezTo>
                <a:cubicBezTo>
                  <a:pt x="9795" y="5735"/>
                  <a:pt x="9904" y="5731"/>
                  <a:pt x="10021" y="5879"/>
                </a:cubicBezTo>
                <a:cubicBezTo>
                  <a:pt x="9939" y="5961"/>
                  <a:pt x="9716" y="6109"/>
                  <a:pt x="9748" y="5854"/>
                </a:cubicBezTo>
                <a:cubicBezTo>
                  <a:pt x="9753" y="5813"/>
                  <a:pt x="9903" y="5468"/>
                  <a:pt x="9897" y="5457"/>
                </a:cubicBezTo>
                <a:cubicBezTo>
                  <a:pt x="9889" y="5457"/>
                  <a:pt x="9880" y="5457"/>
                  <a:pt x="9872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60840" y="1911240"/>
            <a:ext cx="3573360" cy="1276560"/>
          </a:xfrm>
          <a:custGeom>
            <a:avLst/>
            <a:gdLst/>
            <a:ahLst/>
            <a:rect l="l" t="t" r="r" b="b"/>
            <a:pathLst>
              <a:path w="9923" h="3548">
                <a:moveTo>
                  <a:pt x="10170" y="5308"/>
                </a:moveTo>
                <a:cubicBezTo>
                  <a:pt x="10219" y="5479"/>
                  <a:pt x="10296" y="5655"/>
                  <a:pt x="10344" y="5829"/>
                </a:cubicBezTo>
                <a:cubicBezTo>
                  <a:pt x="10344" y="5874"/>
                  <a:pt x="10340" y="5887"/>
                  <a:pt x="10368" y="5904"/>
                </a:cubicBezTo>
              </a:path>
              <a:path w="9923" h="3548">
                <a:moveTo>
                  <a:pt x="19943" y="8458"/>
                </a:moveTo>
                <a:cubicBezTo>
                  <a:pt x="19994" y="8591"/>
                  <a:pt x="20032" y="8725"/>
                  <a:pt x="20092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54360" y="3036960"/>
            <a:ext cx="276480" cy="187200"/>
          </a:xfrm>
          <a:custGeom>
            <a:avLst/>
            <a:gdLst/>
            <a:ahLst/>
            <a:rect l="l" t="t" r="r" b="b"/>
            <a:pathLst>
              <a:path w="770" h="521">
                <a:moveTo>
                  <a:pt x="12923" y="8434"/>
                </a:moveTo>
                <a:cubicBezTo>
                  <a:pt x="12854" y="8445"/>
                  <a:pt x="12797" y="8458"/>
                  <a:pt x="12725" y="8458"/>
                </a:cubicBezTo>
                <a:cubicBezTo>
                  <a:pt x="12700" y="8500"/>
                  <a:pt x="12683" y="8589"/>
                  <a:pt x="12725" y="8632"/>
                </a:cubicBezTo>
                <a:cubicBezTo>
                  <a:pt x="12817" y="8726"/>
                  <a:pt x="13010" y="8579"/>
                  <a:pt x="13097" y="8706"/>
                </a:cubicBezTo>
                <a:cubicBezTo>
                  <a:pt x="13228" y="8896"/>
                  <a:pt x="12850" y="8967"/>
                  <a:pt x="12750" y="8930"/>
                </a:cubicBezTo>
                <a:cubicBezTo>
                  <a:pt x="12717" y="8905"/>
                  <a:pt x="12683" y="8880"/>
                  <a:pt x="12650" y="8855"/>
                </a:cubicBezTo>
              </a:path>
              <a:path w="770" h="521">
                <a:moveTo>
                  <a:pt x="13171" y="8558"/>
                </a:moveTo>
                <a:cubicBezTo>
                  <a:pt x="13186" y="8746"/>
                  <a:pt x="13155" y="8778"/>
                  <a:pt x="13295" y="8880"/>
                </a:cubicBezTo>
                <a:cubicBezTo>
                  <a:pt x="13393" y="8782"/>
                  <a:pt x="13526" y="8599"/>
                  <a:pt x="13295" y="8533"/>
                </a:cubicBezTo>
                <a:cubicBezTo>
                  <a:pt x="13194" y="8533"/>
                  <a:pt x="13173" y="8523"/>
                  <a:pt x="13122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32240" y="3017880"/>
            <a:ext cx="304920" cy="196920"/>
          </a:xfrm>
          <a:custGeom>
            <a:avLst/>
            <a:gdLst/>
            <a:ahLst/>
            <a:rect l="l" t="t" r="r" b="b"/>
            <a:pathLst>
              <a:path w="844" h="547">
                <a:moveTo>
                  <a:pt x="14560" y="8508"/>
                </a:moveTo>
                <a:cubicBezTo>
                  <a:pt x="14684" y="8433"/>
                  <a:pt x="14902" y="8463"/>
                  <a:pt x="14883" y="8682"/>
                </a:cubicBezTo>
                <a:cubicBezTo>
                  <a:pt x="14868" y="8852"/>
                  <a:pt x="14677" y="8879"/>
                  <a:pt x="14560" y="8905"/>
                </a:cubicBezTo>
                <a:cubicBezTo>
                  <a:pt x="14561" y="8712"/>
                  <a:pt x="14666" y="8743"/>
                  <a:pt x="14833" y="8806"/>
                </a:cubicBezTo>
                <a:cubicBezTo>
                  <a:pt x="14874" y="8826"/>
                  <a:pt x="14880" y="8834"/>
                  <a:pt x="14908" y="8830"/>
                </a:cubicBezTo>
              </a:path>
              <a:path w="844" h="547">
                <a:moveTo>
                  <a:pt x="15230" y="8384"/>
                </a:moveTo>
                <a:cubicBezTo>
                  <a:pt x="15185" y="8429"/>
                  <a:pt x="15106" y="8433"/>
                  <a:pt x="15081" y="8458"/>
                </a:cubicBezTo>
                <a:cubicBezTo>
                  <a:pt x="15057" y="8482"/>
                  <a:pt x="15060" y="8570"/>
                  <a:pt x="15056" y="8607"/>
                </a:cubicBezTo>
                <a:cubicBezTo>
                  <a:pt x="15115" y="8590"/>
                  <a:pt x="15342" y="8479"/>
                  <a:pt x="15379" y="8607"/>
                </a:cubicBezTo>
                <a:cubicBezTo>
                  <a:pt x="15434" y="8795"/>
                  <a:pt x="15184" y="8872"/>
                  <a:pt x="15081" y="8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7760" y="3589200"/>
            <a:ext cx="428400" cy="189000"/>
          </a:xfrm>
          <a:custGeom>
            <a:avLst/>
            <a:gdLst/>
            <a:ahLst/>
            <a:rect l="l" t="t" r="r" b="b"/>
            <a:pathLst>
              <a:path w="1192" h="522">
                <a:moveTo>
                  <a:pt x="14288" y="10120"/>
                </a:moveTo>
                <a:cubicBezTo>
                  <a:pt x="14114" y="10094"/>
                  <a:pt x="14057" y="10145"/>
                  <a:pt x="13965" y="10294"/>
                </a:cubicBezTo>
                <a:cubicBezTo>
                  <a:pt x="14075" y="10343"/>
                  <a:pt x="14183" y="10387"/>
                  <a:pt x="14288" y="10443"/>
                </a:cubicBezTo>
                <a:cubicBezTo>
                  <a:pt x="14164" y="10498"/>
                  <a:pt x="14045" y="10513"/>
                  <a:pt x="14114" y="10319"/>
                </a:cubicBezTo>
                <a:cubicBezTo>
                  <a:pt x="14175" y="10216"/>
                  <a:pt x="14183" y="10192"/>
                  <a:pt x="14238" y="10145"/>
                </a:cubicBezTo>
              </a:path>
              <a:path w="1192" h="522">
                <a:moveTo>
                  <a:pt x="14635" y="10046"/>
                </a:moveTo>
                <a:cubicBezTo>
                  <a:pt x="14487" y="10144"/>
                  <a:pt x="14443" y="10231"/>
                  <a:pt x="14511" y="10393"/>
                </a:cubicBezTo>
                <a:cubicBezTo>
                  <a:pt x="14627" y="10414"/>
                  <a:pt x="14880" y="10388"/>
                  <a:pt x="14808" y="10170"/>
                </a:cubicBezTo>
                <a:cubicBezTo>
                  <a:pt x="14760" y="10024"/>
                  <a:pt x="14646" y="10052"/>
                  <a:pt x="14536" y="10071"/>
                </a:cubicBezTo>
              </a:path>
              <a:path w="1192" h="522">
                <a:moveTo>
                  <a:pt x="14908" y="9971"/>
                </a:moveTo>
                <a:cubicBezTo>
                  <a:pt x="14894" y="10083"/>
                  <a:pt x="14795" y="10389"/>
                  <a:pt x="15007" y="10344"/>
                </a:cubicBezTo>
                <a:cubicBezTo>
                  <a:pt x="15106" y="10294"/>
                  <a:pt x="15139" y="10277"/>
                  <a:pt x="15156" y="10195"/>
                </a:cubicBezTo>
                <a:cubicBezTo>
                  <a:pt x="15042" y="10100"/>
                  <a:pt x="14992" y="10103"/>
                  <a:pt x="14833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70320" y="4653000"/>
            <a:ext cx="133560" cy="2221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14436" y="12998"/>
                </a:moveTo>
                <a:cubicBezTo>
                  <a:pt x="14364" y="12998"/>
                  <a:pt x="14514" y="12939"/>
                  <a:pt x="14585" y="12923"/>
                </a:cubicBezTo>
                <a:cubicBezTo>
                  <a:pt x="14610" y="12923"/>
                  <a:pt x="14635" y="12923"/>
                  <a:pt x="14660" y="12923"/>
                </a:cubicBezTo>
                <a:cubicBezTo>
                  <a:pt x="14685" y="13092"/>
                  <a:pt x="14635" y="13108"/>
                  <a:pt x="14511" y="13221"/>
                </a:cubicBezTo>
                <a:cubicBezTo>
                  <a:pt x="14607" y="13202"/>
                  <a:pt x="14711" y="13172"/>
                  <a:pt x="14734" y="13320"/>
                </a:cubicBezTo>
                <a:cubicBezTo>
                  <a:pt x="14764" y="13516"/>
                  <a:pt x="14478" y="13525"/>
                  <a:pt x="14362" y="13543"/>
                </a:cubicBezTo>
                <a:cubicBezTo>
                  <a:pt x="14370" y="13543"/>
                  <a:pt x="14379" y="13543"/>
                  <a:pt x="14387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o interpret and write a rule for a one-operation function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imes New Roman"/>
              </a:rPr>
              <a:t>It can be helpful to think of functions as machines, a number goes in…something happens…and a number comes out. 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Let’s use what we know about patterns to help us find the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missing inputs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and outputs,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as well as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the rule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for each function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 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 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90720" y="2133720"/>
          <a:ext cx="1981080" cy="200664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505320" y="1905120"/>
          <a:ext cx="1904760" cy="21304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6019920" y="1676520"/>
          <a:ext cx="2057400" cy="20066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4920" y="2536920"/>
            <a:ext cx="671400" cy="1000080"/>
          </a:xfrm>
          <a:custGeom>
            <a:avLst/>
            <a:gdLst/>
            <a:ahLst/>
            <a:rect l="l" t="t" r="r" b="b"/>
            <a:pathLst>
              <a:path w="1862" h="2779">
                <a:moveTo>
                  <a:pt x="347" y="7590"/>
                </a:moveTo>
                <a:cubicBezTo>
                  <a:pt x="534" y="7644"/>
                  <a:pt x="592" y="7806"/>
                  <a:pt x="695" y="7962"/>
                </a:cubicBezTo>
                <a:cubicBezTo>
                  <a:pt x="771" y="8077"/>
                  <a:pt x="786" y="8090"/>
                  <a:pt x="819" y="8161"/>
                </a:cubicBezTo>
              </a:path>
              <a:path w="1862" h="2779">
                <a:moveTo>
                  <a:pt x="99" y="7938"/>
                </a:moveTo>
                <a:cubicBezTo>
                  <a:pt x="372" y="7718"/>
                  <a:pt x="650" y="7522"/>
                  <a:pt x="967" y="7367"/>
                </a:cubicBezTo>
                <a:cubicBezTo>
                  <a:pt x="1065" y="7319"/>
                  <a:pt x="1103" y="7344"/>
                  <a:pt x="1191" y="7392"/>
                </a:cubicBezTo>
              </a:path>
              <a:path w="1862" h="2779">
                <a:moveTo>
                  <a:pt x="719" y="8359"/>
                </a:moveTo>
                <a:cubicBezTo>
                  <a:pt x="909" y="8205"/>
                  <a:pt x="1062" y="8025"/>
                  <a:pt x="1240" y="7863"/>
                </a:cubicBezTo>
                <a:cubicBezTo>
                  <a:pt x="1265" y="7863"/>
                  <a:pt x="1273" y="7863"/>
                  <a:pt x="1265" y="7838"/>
                </a:cubicBezTo>
              </a:path>
              <a:path w="1862" h="2779">
                <a:moveTo>
                  <a:pt x="1315" y="7615"/>
                </a:moveTo>
                <a:cubicBezTo>
                  <a:pt x="1355" y="7696"/>
                  <a:pt x="1371" y="7709"/>
                  <a:pt x="1364" y="7764"/>
                </a:cubicBezTo>
                <a:cubicBezTo>
                  <a:pt x="1190" y="7706"/>
                  <a:pt x="1173" y="7613"/>
                  <a:pt x="1290" y="7466"/>
                </a:cubicBezTo>
                <a:cubicBezTo>
                  <a:pt x="1369" y="7366"/>
                  <a:pt x="1496" y="7428"/>
                  <a:pt x="1563" y="7516"/>
                </a:cubicBezTo>
                <a:cubicBezTo>
                  <a:pt x="1627" y="7600"/>
                  <a:pt x="1662" y="7716"/>
                  <a:pt x="1588" y="7491"/>
                </a:cubicBezTo>
              </a:path>
              <a:path w="1862" h="2779">
                <a:moveTo>
                  <a:pt x="1612" y="7119"/>
                </a:moveTo>
                <a:cubicBezTo>
                  <a:pt x="1591" y="7076"/>
                  <a:pt x="1563" y="7069"/>
                  <a:pt x="1513" y="7045"/>
                </a:cubicBezTo>
                <a:cubicBezTo>
                  <a:pt x="1467" y="7192"/>
                  <a:pt x="1466" y="7462"/>
                  <a:pt x="1687" y="7516"/>
                </a:cubicBezTo>
                <a:cubicBezTo>
                  <a:pt x="1870" y="7561"/>
                  <a:pt x="1904" y="7294"/>
                  <a:pt x="1960" y="7193"/>
                </a:cubicBezTo>
              </a:path>
              <a:path w="1862" h="2779">
                <a:moveTo>
                  <a:pt x="471" y="9475"/>
                </a:moveTo>
                <a:cubicBezTo>
                  <a:pt x="534" y="9537"/>
                  <a:pt x="601" y="9705"/>
                  <a:pt x="645" y="9798"/>
                </a:cubicBezTo>
                <a:cubicBezTo>
                  <a:pt x="661" y="9833"/>
                  <a:pt x="630" y="9828"/>
                  <a:pt x="620" y="9798"/>
                </a:cubicBezTo>
              </a:path>
              <a:path w="1862" h="2779">
                <a:moveTo>
                  <a:pt x="223" y="9723"/>
                </a:moveTo>
                <a:cubicBezTo>
                  <a:pt x="410" y="9583"/>
                  <a:pt x="594" y="9410"/>
                  <a:pt x="843" y="9401"/>
                </a:cubicBezTo>
                <a:cubicBezTo>
                  <a:pt x="853" y="9401"/>
                  <a:pt x="950" y="9426"/>
                  <a:pt x="967" y="9426"/>
                </a:cubicBezTo>
              </a:path>
              <a:path w="1862" h="2779">
                <a:moveTo>
                  <a:pt x="1662" y="8384"/>
                </a:moveTo>
                <a:cubicBezTo>
                  <a:pt x="1680" y="8600"/>
                  <a:pt x="1728" y="8810"/>
                  <a:pt x="1736" y="9029"/>
                </a:cubicBezTo>
                <a:cubicBezTo>
                  <a:pt x="1738" y="9068"/>
                  <a:pt x="1645" y="9088"/>
                  <a:pt x="1612" y="9103"/>
                </a:cubicBezTo>
              </a:path>
              <a:path w="1862" h="2779">
                <a:moveTo>
                  <a:pt x="471" y="9475"/>
                </a:moveTo>
                <a:cubicBezTo>
                  <a:pt x="484" y="9424"/>
                  <a:pt x="494" y="9447"/>
                  <a:pt x="471" y="9401"/>
                </a:cubicBezTo>
                <a:cubicBezTo>
                  <a:pt x="509" y="9477"/>
                  <a:pt x="589" y="9573"/>
                  <a:pt x="645" y="9649"/>
                </a:cubicBezTo>
                <a:cubicBezTo>
                  <a:pt x="653" y="9657"/>
                  <a:pt x="662" y="9666"/>
                  <a:pt x="670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0680" y="1714680"/>
            <a:ext cx="358560" cy="420480"/>
          </a:xfrm>
          <a:custGeom>
            <a:avLst/>
            <a:gdLst/>
            <a:ahLst/>
            <a:rect l="l" t="t" r="r" b="b"/>
            <a:pathLst>
              <a:path w="993" h="1167">
                <a:moveTo>
                  <a:pt x="1736" y="5854"/>
                </a:moveTo>
                <a:cubicBezTo>
                  <a:pt x="2084" y="5735"/>
                  <a:pt x="2474" y="5603"/>
                  <a:pt x="2332" y="5135"/>
                </a:cubicBezTo>
                <a:cubicBezTo>
                  <a:pt x="2194" y="4681"/>
                  <a:pt x="1533" y="4612"/>
                  <a:pt x="1364" y="5110"/>
                </a:cubicBezTo>
                <a:cubicBezTo>
                  <a:pt x="1144" y="5761"/>
                  <a:pt x="1554" y="5821"/>
                  <a:pt x="1960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3040" y="1866960"/>
            <a:ext cx="304920" cy="1303200"/>
          </a:xfrm>
          <a:custGeom>
            <a:avLst/>
            <a:gdLst/>
            <a:ahLst/>
            <a:rect l="l" t="t" r="r" b="b"/>
            <a:pathLst>
              <a:path w="844" h="3623">
                <a:moveTo>
                  <a:pt x="2133" y="7119"/>
                </a:moveTo>
                <a:cubicBezTo>
                  <a:pt x="2158" y="7119"/>
                  <a:pt x="2166" y="7119"/>
                  <a:pt x="2158" y="7094"/>
                </a:cubicBezTo>
              </a:path>
              <a:path w="844" h="3623">
                <a:moveTo>
                  <a:pt x="1315" y="8632"/>
                </a:moveTo>
                <a:cubicBezTo>
                  <a:pt x="1520" y="8681"/>
                  <a:pt x="1735" y="8714"/>
                  <a:pt x="1935" y="8781"/>
                </a:cubicBezTo>
                <a:cubicBezTo>
                  <a:pt x="1951" y="8789"/>
                  <a:pt x="1968" y="8798"/>
                  <a:pt x="1984" y="8806"/>
                </a:cubicBezTo>
              </a:path>
              <a:path w="844" h="3623">
                <a:moveTo>
                  <a:pt x="1811" y="5209"/>
                </a:moveTo>
                <a:cubicBezTo>
                  <a:pt x="1808" y="5340"/>
                  <a:pt x="1884" y="5386"/>
                  <a:pt x="1935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85960" y="2751120"/>
            <a:ext cx="19080" cy="123840"/>
          </a:xfrm>
          <a:custGeom>
            <a:avLst/>
            <a:gdLst/>
            <a:ahLst/>
            <a:rect l="l" t="t" r="r" b="b"/>
            <a:pathLst>
              <a:path w="51" h="348">
                <a:moveTo>
                  <a:pt x="4961" y="7640"/>
                </a:moveTo>
                <a:cubicBezTo>
                  <a:pt x="4969" y="7758"/>
                  <a:pt x="4994" y="7871"/>
                  <a:pt x="5011" y="7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5760" y="2724120"/>
            <a:ext cx="231480" cy="125280"/>
          </a:xfrm>
          <a:custGeom>
            <a:avLst/>
            <a:gdLst/>
            <a:ahLst/>
            <a:rect l="l" t="t" r="r" b="b"/>
            <a:pathLst>
              <a:path w="646" h="349">
                <a:moveTo>
                  <a:pt x="4539" y="7640"/>
                </a:moveTo>
                <a:cubicBezTo>
                  <a:pt x="4552" y="7718"/>
                  <a:pt x="4564" y="7781"/>
                  <a:pt x="4564" y="7863"/>
                </a:cubicBezTo>
                <a:cubicBezTo>
                  <a:pt x="4564" y="7871"/>
                  <a:pt x="4564" y="7880"/>
                  <a:pt x="4564" y="7888"/>
                </a:cubicBezTo>
              </a:path>
              <a:path w="646" h="349">
                <a:moveTo>
                  <a:pt x="4514" y="7813"/>
                </a:moveTo>
                <a:cubicBezTo>
                  <a:pt x="4581" y="7794"/>
                  <a:pt x="4645" y="7764"/>
                  <a:pt x="4713" y="7764"/>
                </a:cubicBezTo>
              </a:path>
              <a:path w="646" h="349">
                <a:moveTo>
                  <a:pt x="5060" y="7565"/>
                </a:moveTo>
                <a:cubicBezTo>
                  <a:pt x="5060" y="7658"/>
                  <a:pt x="5106" y="7774"/>
                  <a:pt x="5135" y="7863"/>
                </a:cubicBezTo>
                <a:cubicBezTo>
                  <a:pt x="5143" y="7880"/>
                  <a:pt x="5151" y="7896"/>
                  <a:pt x="5159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89040" y="3106800"/>
            <a:ext cx="189000" cy="117360"/>
          </a:xfrm>
          <a:custGeom>
            <a:avLst/>
            <a:gdLst/>
            <a:ahLst/>
            <a:rect l="l" t="t" r="r" b="b"/>
            <a:pathLst>
              <a:path w="522" h="323">
                <a:moveTo>
                  <a:pt x="4514" y="8706"/>
                </a:moveTo>
                <a:cubicBezTo>
                  <a:pt x="4529" y="8777"/>
                  <a:pt x="4539" y="8812"/>
                  <a:pt x="4539" y="8880"/>
                </a:cubicBezTo>
              </a:path>
              <a:path w="522" h="323">
                <a:moveTo>
                  <a:pt x="4415" y="8830"/>
                </a:moveTo>
                <a:cubicBezTo>
                  <a:pt x="4499" y="8783"/>
                  <a:pt x="4565" y="8781"/>
                  <a:pt x="4663" y="8781"/>
                </a:cubicBezTo>
                <a:cubicBezTo>
                  <a:pt x="4688" y="8781"/>
                  <a:pt x="4696" y="8781"/>
                  <a:pt x="4713" y="8781"/>
                </a:cubicBezTo>
              </a:path>
              <a:path w="522" h="323">
                <a:moveTo>
                  <a:pt x="4911" y="8632"/>
                </a:moveTo>
                <a:cubicBezTo>
                  <a:pt x="4928" y="8733"/>
                  <a:pt x="4936" y="8825"/>
                  <a:pt x="4936" y="8930"/>
                </a:cubicBezTo>
                <a:cubicBezTo>
                  <a:pt x="4936" y="8938"/>
                  <a:pt x="4936" y="8946"/>
                  <a:pt x="4936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760" y="3500280"/>
            <a:ext cx="187200" cy="108000"/>
          </a:xfrm>
          <a:custGeom>
            <a:avLst/>
            <a:gdLst/>
            <a:ahLst/>
            <a:rect l="l" t="t" r="r" b="b"/>
            <a:pathLst>
              <a:path w="522" h="299">
                <a:moveTo>
                  <a:pt x="4465" y="9798"/>
                </a:moveTo>
                <a:cubicBezTo>
                  <a:pt x="4465" y="9871"/>
                  <a:pt x="4505" y="9925"/>
                  <a:pt x="4514" y="9996"/>
                </a:cubicBezTo>
                <a:cubicBezTo>
                  <a:pt x="4514" y="10004"/>
                  <a:pt x="4514" y="10013"/>
                  <a:pt x="4514" y="10021"/>
                </a:cubicBezTo>
              </a:path>
              <a:path w="522" h="299">
                <a:moveTo>
                  <a:pt x="4440" y="9947"/>
                </a:moveTo>
                <a:cubicBezTo>
                  <a:pt x="4493" y="9947"/>
                  <a:pt x="4537" y="9925"/>
                  <a:pt x="4589" y="9922"/>
                </a:cubicBezTo>
                <a:cubicBezTo>
                  <a:pt x="4640" y="9922"/>
                  <a:pt x="4659" y="9921"/>
                  <a:pt x="4688" y="9897"/>
                </a:cubicBezTo>
              </a:path>
              <a:path w="522" h="299">
                <a:moveTo>
                  <a:pt x="4862" y="9723"/>
                </a:moveTo>
                <a:cubicBezTo>
                  <a:pt x="4883" y="9806"/>
                  <a:pt x="4918" y="9903"/>
                  <a:pt x="4936" y="9996"/>
                </a:cubicBezTo>
                <a:cubicBezTo>
                  <a:pt x="4936" y="10021"/>
                  <a:pt x="4936" y="10029"/>
                  <a:pt x="4961" y="100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0880" y="3071880"/>
            <a:ext cx="2724120" cy="517320"/>
          </a:xfrm>
          <a:custGeom>
            <a:avLst/>
            <a:gdLst/>
            <a:ahLst/>
            <a:rect l="l" t="t" r="r" b="b"/>
            <a:pathLst>
              <a:path w="7567" h="1439">
                <a:moveTo>
                  <a:pt x="5110" y="8533"/>
                </a:moveTo>
                <a:cubicBezTo>
                  <a:pt x="5117" y="8645"/>
                  <a:pt x="5141" y="8746"/>
                  <a:pt x="5159" y="8855"/>
                </a:cubicBezTo>
              </a:path>
              <a:path w="7567" h="1439">
                <a:moveTo>
                  <a:pt x="5060" y="9674"/>
                </a:moveTo>
                <a:cubicBezTo>
                  <a:pt x="5085" y="9775"/>
                  <a:pt x="5121" y="9865"/>
                  <a:pt x="5135" y="9971"/>
                </a:cubicBezTo>
              </a:path>
              <a:path w="7567" h="1439">
                <a:moveTo>
                  <a:pt x="12452" y="8632"/>
                </a:moveTo>
                <a:cubicBezTo>
                  <a:pt x="12544" y="8632"/>
                  <a:pt x="12571" y="8634"/>
                  <a:pt x="12626" y="86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97040" y="3840120"/>
            <a:ext cx="571320" cy="714240"/>
          </a:xfrm>
          <a:custGeom>
            <a:avLst/>
            <a:gdLst/>
            <a:ahLst/>
            <a:rect l="l" t="t" r="r" b="b"/>
            <a:pathLst>
              <a:path w="1588" h="1985">
                <a:moveTo>
                  <a:pt x="5383" y="12129"/>
                </a:moveTo>
                <a:cubicBezTo>
                  <a:pt x="5396" y="12228"/>
                  <a:pt x="5436" y="12445"/>
                  <a:pt x="5407" y="12502"/>
                </a:cubicBezTo>
              </a:path>
              <a:path w="1588" h="1985">
                <a:moveTo>
                  <a:pt x="5209" y="12328"/>
                </a:moveTo>
                <a:cubicBezTo>
                  <a:pt x="5322" y="12328"/>
                  <a:pt x="5422" y="12320"/>
                  <a:pt x="5531" y="12303"/>
                </a:cubicBezTo>
                <a:cubicBezTo>
                  <a:pt x="5556" y="12303"/>
                  <a:pt x="5564" y="12303"/>
                  <a:pt x="5581" y="12303"/>
                </a:cubicBezTo>
              </a:path>
              <a:path w="1588" h="1985">
                <a:moveTo>
                  <a:pt x="5879" y="12154"/>
                </a:moveTo>
                <a:cubicBezTo>
                  <a:pt x="5879" y="12054"/>
                  <a:pt x="5899" y="12302"/>
                  <a:pt x="5904" y="12402"/>
                </a:cubicBezTo>
                <a:cubicBezTo>
                  <a:pt x="5908" y="12483"/>
                  <a:pt x="5885" y="12605"/>
                  <a:pt x="5928" y="12650"/>
                </a:cubicBezTo>
              </a:path>
              <a:path w="1588" h="1985">
                <a:moveTo>
                  <a:pt x="6251" y="12105"/>
                </a:moveTo>
                <a:cubicBezTo>
                  <a:pt x="6251" y="11980"/>
                  <a:pt x="6270" y="12303"/>
                  <a:pt x="6276" y="12427"/>
                </a:cubicBezTo>
                <a:cubicBezTo>
                  <a:pt x="6276" y="12538"/>
                  <a:pt x="6250" y="12560"/>
                  <a:pt x="6300" y="12601"/>
                </a:cubicBezTo>
              </a:path>
              <a:path w="1588" h="1985">
                <a:moveTo>
                  <a:pt x="4738" y="10740"/>
                </a:moveTo>
                <a:cubicBezTo>
                  <a:pt x="4730" y="10740"/>
                  <a:pt x="4721" y="10740"/>
                  <a:pt x="4713" y="10740"/>
                </a:cubicBezTo>
                <a:cubicBezTo>
                  <a:pt x="4732" y="10816"/>
                  <a:pt x="4763" y="10904"/>
                  <a:pt x="4787" y="10988"/>
                </a:cubicBezTo>
              </a:path>
              <a:path w="1588" h="1985">
                <a:moveTo>
                  <a:pt x="5085" y="10666"/>
                </a:moveTo>
                <a:cubicBezTo>
                  <a:pt x="5101" y="10759"/>
                  <a:pt x="5110" y="10842"/>
                  <a:pt x="5110" y="10939"/>
                </a:cubicBezTo>
                <a:cubicBezTo>
                  <a:pt x="5110" y="10947"/>
                  <a:pt x="5110" y="10956"/>
                  <a:pt x="5110" y="10964"/>
                </a:cubicBezTo>
              </a:path>
              <a:path w="1588" h="1985">
                <a:moveTo>
                  <a:pt x="5184" y="10666"/>
                </a:moveTo>
                <a:cubicBezTo>
                  <a:pt x="5213" y="10752"/>
                  <a:pt x="5265" y="10844"/>
                  <a:pt x="5283" y="10939"/>
                </a:cubicBezTo>
                <a:cubicBezTo>
                  <a:pt x="5283" y="10955"/>
                  <a:pt x="5283" y="10972"/>
                  <a:pt x="5283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0760" y="3411360"/>
            <a:ext cx="312480" cy="258840"/>
          </a:xfrm>
          <a:custGeom>
            <a:avLst/>
            <a:gdLst/>
            <a:ahLst/>
            <a:rect l="l" t="t" r="r" b="b"/>
            <a:pathLst>
              <a:path w="869" h="721">
                <a:moveTo>
                  <a:pt x="7392" y="10195"/>
                </a:moveTo>
                <a:cubicBezTo>
                  <a:pt x="7437" y="10161"/>
                  <a:pt x="7481" y="10148"/>
                  <a:pt x="7541" y="10145"/>
                </a:cubicBezTo>
                <a:cubicBezTo>
                  <a:pt x="7611" y="10141"/>
                  <a:pt x="7665" y="10120"/>
                  <a:pt x="7739" y="10120"/>
                </a:cubicBezTo>
                <a:cubicBezTo>
                  <a:pt x="7883" y="10120"/>
                  <a:pt x="8025" y="10129"/>
                  <a:pt x="8161" y="10096"/>
                </a:cubicBezTo>
                <a:cubicBezTo>
                  <a:pt x="8190" y="10089"/>
                  <a:pt x="8230" y="10096"/>
                  <a:pt x="8260" y="10096"/>
                </a:cubicBezTo>
              </a:path>
              <a:path w="869" h="721">
                <a:moveTo>
                  <a:pt x="7541" y="9649"/>
                </a:moveTo>
                <a:cubicBezTo>
                  <a:pt x="7518" y="9626"/>
                  <a:pt x="7510" y="9622"/>
                  <a:pt x="7516" y="9599"/>
                </a:cubicBezTo>
                <a:cubicBezTo>
                  <a:pt x="7516" y="9687"/>
                  <a:pt x="7490" y="10030"/>
                  <a:pt x="7541" y="9996"/>
                </a:cubicBezTo>
              </a:path>
              <a:path w="869" h="721">
                <a:moveTo>
                  <a:pt x="7962" y="9500"/>
                </a:moveTo>
                <a:cubicBezTo>
                  <a:pt x="7936" y="9417"/>
                  <a:pt x="7789" y="9582"/>
                  <a:pt x="7764" y="9624"/>
                </a:cubicBezTo>
                <a:cubicBezTo>
                  <a:pt x="7764" y="9641"/>
                  <a:pt x="7764" y="9657"/>
                  <a:pt x="7764" y="9674"/>
                </a:cubicBezTo>
                <a:cubicBezTo>
                  <a:pt x="7873" y="9708"/>
                  <a:pt x="8065" y="9739"/>
                  <a:pt x="7987" y="9897"/>
                </a:cubicBezTo>
                <a:cubicBezTo>
                  <a:pt x="7936" y="9949"/>
                  <a:pt x="7917" y="9967"/>
                  <a:pt x="7863" y="9971"/>
                </a:cubicBezTo>
                <a:cubicBezTo>
                  <a:pt x="7806" y="9859"/>
                  <a:pt x="7881" y="9813"/>
                  <a:pt x="7913" y="9699"/>
                </a:cubicBezTo>
                <a:cubicBezTo>
                  <a:pt x="7920" y="9675"/>
                  <a:pt x="7913" y="9627"/>
                  <a:pt x="7913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97040" y="2759040"/>
            <a:ext cx="4241880" cy="1670040"/>
          </a:xfrm>
          <a:custGeom>
            <a:avLst/>
            <a:gdLst/>
            <a:ahLst/>
            <a:rect l="l" t="t" r="r" b="b"/>
            <a:pathLst>
              <a:path w="11783" h="4639">
                <a:moveTo>
                  <a:pt x="4713" y="10914"/>
                </a:moveTo>
                <a:cubicBezTo>
                  <a:pt x="4760" y="10902"/>
                  <a:pt x="4818" y="10872"/>
                  <a:pt x="4862" y="10864"/>
                </a:cubicBezTo>
                <a:cubicBezTo>
                  <a:pt x="4878" y="10864"/>
                  <a:pt x="4895" y="10864"/>
                  <a:pt x="4911" y="10864"/>
                </a:cubicBezTo>
              </a:path>
              <a:path w="11783" h="4639">
                <a:moveTo>
                  <a:pt x="16495" y="11361"/>
                </a:moveTo>
                <a:lnTo>
                  <a:pt x="16495" y="11361"/>
                </a:lnTo>
              </a:path>
              <a:path w="11783" h="4639">
                <a:moveTo>
                  <a:pt x="16272" y="11881"/>
                </a:moveTo>
                <a:cubicBezTo>
                  <a:pt x="16280" y="11881"/>
                  <a:pt x="16289" y="11881"/>
                  <a:pt x="16297" y="11881"/>
                </a:cubicBezTo>
              </a:path>
              <a:path w="11783" h="4639">
                <a:moveTo>
                  <a:pt x="16446" y="12303"/>
                </a:moveTo>
                <a:lnTo>
                  <a:pt x="16446" y="12303"/>
                </a:lnTo>
                <a:lnTo>
                  <a:pt x="16446" y="12303"/>
                </a:lnTo>
              </a:path>
              <a:path w="11783" h="4639">
                <a:moveTo>
                  <a:pt x="12576" y="7714"/>
                </a:moveTo>
                <a:cubicBezTo>
                  <a:pt x="12667" y="7691"/>
                  <a:pt x="12693" y="7685"/>
                  <a:pt x="12750" y="76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81240" y="1652760"/>
            <a:ext cx="330120" cy="436320"/>
          </a:xfrm>
          <a:custGeom>
            <a:avLst/>
            <a:gdLst/>
            <a:ahLst/>
            <a:rect l="l" t="t" r="r" b="b"/>
            <a:pathLst>
              <a:path w="918" h="1216">
                <a:moveTo>
                  <a:pt x="8880" y="5085"/>
                </a:moveTo>
                <a:cubicBezTo>
                  <a:pt x="8924" y="5063"/>
                  <a:pt x="8964" y="5026"/>
                  <a:pt x="9004" y="4986"/>
                </a:cubicBezTo>
                <a:cubicBezTo>
                  <a:pt x="8987" y="5169"/>
                  <a:pt x="8916" y="5313"/>
                  <a:pt x="8880" y="5482"/>
                </a:cubicBezTo>
                <a:cubicBezTo>
                  <a:pt x="9001" y="5452"/>
                  <a:pt x="9111" y="5391"/>
                  <a:pt x="9227" y="5333"/>
                </a:cubicBezTo>
              </a:path>
              <a:path w="918" h="1216">
                <a:moveTo>
                  <a:pt x="8731" y="5730"/>
                </a:moveTo>
                <a:cubicBezTo>
                  <a:pt x="9031" y="5807"/>
                  <a:pt x="9342" y="5754"/>
                  <a:pt x="9451" y="5383"/>
                </a:cubicBezTo>
                <a:cubicBezTo>
                  <a:pt x="9582" y="4937"/>
                  <a:pt x="9362" y="4821"/>
                  <a:pt x="9079" y="4589"/>
                </a:cubicBezTo>
                <a:cubicBezTo>
                  <a:pt x="8900" y="4701"/>
                  <a:pt x="8074" y="5473"/>
                  <a:pt x="8731" y="5655"/>
                </a:cubicBezTo>
                <a:cubicBezTo>
                  <a:pt x="8822" y="5630"/>
                  <a:pt x="8913" y="5606"/>
                  <a:pt x="9004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40240" y="4054320"/>
            <a:ext cx="490680" cy="196920"/>
          </a:xfrm>
          <a:custGeom>
            <a:avLst/>
            <a:gdLst/>
            <a:ahLst/>
            <a:rect l="l" t="t" r="r" b="b"/>
            <a:pathLst>
              <a:path w="1365" h="547">
                <a:moveTo>
                  <a:pt x="15131" y="11286"/>
                </a:moveTo>
                <a:cubicBezTo>
                  <a:pt x="15145" y="11423"/>
                  <a:pt x="15176" y="11553"/>
                  <a:pt x="15205" y="11683"/>
                </a:cubicBezTo>
                <a:cubicBezTo>
                  <a:pt x="15205" y="11675"/>
                  <a:pt x="15205" y="11666"/>
                  <a:pt x="15205" y="11658"/>
                </a:cubicBezTo>
              </a:path>
              <a:path w="1365" h="547">
                <a:moveTo>
                  <a:pt x="14833" y="11311"/>
                </a:moveTo>
                <a:cubicBezTo>
                  <a:pt x="15035" y="11267"/>
                  <a:pt x="15485" y="11172"/>
                  <a:pt x="15478" y="11534"/>
                </a:cubicBezTo>
                <a:cubicBezTo>
                  <a:pt x="15475" y="11699"/>
                  <a:pt x="15228" y="11848"/>
                  <a:pt x="15156" y="11757"/>
                </a:cubicBezTo>
              </a:path>
              <a:path w="1365" h="547">
                <a:moveTo>
                  <a:pt x="15528" y="11460"/>
                </a:moveTo>
                <a:cubicBezTo>
                  <a:pt x="15640" y="11437"/>
                  <a:pt x="15671" y="11436"/>
                  <a:pt x="15726" y="11385"/>
                </a:cubicBezTo>
                <a:cubicBezTo>
                  <a:pt x="15793" y="11385"/>
                  <a:pt x="15644" y="11357"/>
                  <a:pt x="15577" y="11361"/>
                </a:cubicBezTo>
                <a:cubicBezTo>
                  <a:pt x="15414" y="11371"/>
                  <a:pt x="15466" y="11607"/>
                  <a:pt x="15577" y="11658"/>
                </a:cubicBezTo>
                <a:cubicBezTo>
                  <a:pt x="15761" y="11742"/>
                  <a:pt x="15774" y="11635"/>
                  <a:pt x="15825" y="11509"/>
                </a:cubicBezTo>
              </a:path>
              <a:path w="1365" h="547">
                <a:moveTo>
                  <a:pt x="15974" y="11261"/>
                </a:moveTo>
                <a:cubicBezTo>
                  <a:pt x="16008" y="11261"/>
                  <a:pt x="15873" y="11237"/>
                  <a:pt x="15850" y="11336"/>
                </a:cubicBezTo>
                <a:cubicBezTo>
                  <a:pt x="15790" y="11595"/>
                  <a:pt x="15984" y="11625"/>
                  <a:pt x="16148" y="11509"/>
                </a:cubicBezTo>
                <a:cubicBezTo>
                  <a:pt x="16164" y="11493"/>
                  <a:pt x="16181" y="11476"/>
                  <a:pt x="16197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54800" y="4446720"/>
            <a:ext cx="115920" cy="36360"/>
          </a:xfrm>
          <a:custGeom>
            <a:avLst/>
            <a:gdLst/>
            <a:ahLst/>
            <a:rect l="l" t="t" r="r" b="b"/>
            <a:pathLst>
              <a:path w="323" h="100">
                <a:moveTo>
                  <a:pt x="15429" y="12427"/>
                </a:moveTo>
                <a:cubicBezTo>
                  <a:pt x="15470" y="12491"/>
                  <a:pt x="15610" y="12402"/>
                  <a:pt x="15677" y="12378"/>
                </a:cubicBezTo>
                <a:cubicBezTo>
                  <a:pt x="15702" y="12370"/>
                  <a:pt x="15726" y="12361"/>
                  <a:pt x="15751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48200" y="4330800"/>
            <a:ext cx="117720" cy="54000"/>
          </a:xfrm>
          <a:custGeom>
            <a:avLst/>
            <a:gdLst/>
            <a:ahLst/>
            <a:rect l="l" t="t" r="r" b="b"/>
            <a:pathLst>
              <a:path w="324" h="150">
                <a:moveTo>
                  <a:pt x="16247" y="12179"/>
                </a:moveTo>
                <a:cubicBezTo>
                  <a:pt x="16329" y="12146"/>
                  <a:pt x="16465" y="12108"/>
                  <a:pt x="16545" y="12055"/>
                </a:cubicBezTo>
                <a:cubicBezTo>
                  <a:pt x="16545" y="12030"/>
                  <a:pt x="16545" y="12022"/>
                  <a:pt x="16570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49800" y="4375080"/>
            <a:ext cx="314280" cy="90720"/>
          </a:xfrm>
          <a:custGeom>
            <a:avLst/>
            <a:gdLst/>
            <a:ahLst/>
            <a:rect l="l" t="t" r="r" b="b"/>
            <a:pathLst>
              <a:path w="869" h="249">
                <a:moveTo>
                  <a:pt x="11807" y="12402"/>
                </a:moveTo>
                <a:cubicBezTo>
                  <a:pt x="11897" y="12381"/>
                  <a:pt x="12003" y="12363"/>
                  <a:pt x="12105" y="12353"/>
                </a:cubicBezTo>
                <a:cubicBezTo>
                  <a:pt x="12121" y="12353"/>
                  <a:pt x="12138" y="12353"/>
                  <a:pt x="12154" y="12353"/>
                </a:cubicBezTo>
              </a:path>
              <a:path w="869" h="249">
                <a:moveTo>
                  <a:pt x="12353" y="12154"/>
                </a:moveTo>
                <a:cubicBezTo>
                  <a:pt x="12363" y="12214"/>
                  <a:pt x="12378" y="12266"/>
                  <a:pt x="12378" y="12328"/>
                </a:cubicBezTo>
                <a:cubicBezTo>
                  <a:pt x="12481" y="12309"/>
                  <a:pt x="12575" y="12269"/>
                  <a:pt x="12675" y="12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06880" y="3724200"/>
            <a:ext cx="600120" cy="204840"/>
          </a:xfrm>
          <a:custGeom>
            <a:avLst/>
            <a:gdLst/>
            <a:ahLst/>
            <a:rect l="l" t="t" r="r" b="b"/>
            <a:pathLst>
              <a:path w="1663" h="571">
                <a:moveTo>
                  <a:pt x="11534" y="10889"/>
                </a:moveTo>
                <a:cubicBezTo>
                  <a:pt x="11665" y="10908"/>
                  <a:pt x="11795" y="10928"/>
                  <a:pt x="11931" y="10914"/>
                </a:cubicBezTo>
                <a:cubicBezTo>
                  <a:pt x="12012" y="10906"/>
                  <a:pt x="12075" y="10889"/>
                  <a:pt x="12154" y="10889"/>
                </a:cubicBezTo>
              </a:path>
              <a:path w="1663" h="571">
                <a:moveTo>
                  <a:pt x="12179" y="10641"/>
                </a:moveTo>
                <a:cubicBezTo>
                  <a:pt x="12237" y="10641"/>
                  <a:pt x="12295" y="10641"/>
                  <a:pt x="12353" y="10641"/>
                </a:cubicBezTo>
              </a:path>
              <a:path w="1663" h="571">
                <a:moveTo>
                  <a:pt x="12526" y="10542"/>
                </a:moveTo>
                <a:cubicBezTo>
                  <a:pt x="12535" y="10593"/>
                  <a:pt x="12551" y="10638"/>
                  <a:pt x="12551" y="10691"/>
                </a:cubicBezTo>
                <a:cubicBezTo>
                  <a:pt x="12683" y="10681"/>
                  <a:pt x="12653" y="10708"/>
                  <a:pt x="12700" y="10592"/>
                </a:cubicBezTo>
              </a:path>
              <a:path w="1663" h="571">
                <a:moveTo>
                  <a:pt x="12626" y="10443"/>
                </a:moveTo>
                <a:cubicBezTo>
                  <a:pt x="12674" y="10579"/>
                  <a:pt x="12715" y="10695"/>
                  <a:pt x="12725" y="10840"/>
                </a:cubicBezTo>
              </a:path>
              <a:path w="1663" h="571">
                <a:moveTo>
                  <a:pt x="12898" y="10567"/>
                </a:moveTo>
                <a:cubicBezTo>
                  <a:pt x="12967" y="10567"/>
                  <a:pt x="13006" y="10559"/>
                  <a:pt x="13072" y="10542"/>
                </a:cubicBezTo>
              </a:path>
              <a:path w="1663" h="571">
                <a:moveTo>
                  <a:pt x="11460" y="10492"/>
                </a:moveTo>
                <a:cubicBezTo>
                  <a:pt x="11488" y="10483"/>
                  <a:pt x="11556" y="10409"/>
                  <a:pt x="11609" y="10443"/>
                </a:cubicBezTo>
                <a:cubicBezTo>
                  <a:pt x="11841" y="10591"/>
                  <a:pt x="11440" y="10685"/>
                  <a:pt x="11410" y="10691"/>
                </a:cubicBezTo>
                <a:cubicBezTo>
                  <a:pt x="11518" y="10648"/>
                  <a:pt x="11564" y="10622"/>
                  <a:pt x="11683" y="10641"/>
                </a:cubicBezTo>
                <a:cubicBezTo>
                  <a:pt x="11683" y="10743"/>
                  <a:pt x="11674" y="10793"/>
                  <a:pt x="11559" y="10815"/>
                </a:cubicBezTo>
                <a:cubicBezTo>
                  <a:pt x="11491" y="10815"/>
                  <a:pt x="11469" y="10820"/>
                  <a:pt x="11460" y="10765"/>
                </a:cubicBezTo>
              </a:path>
              <a:path w="1663" h="571">
                <a:moveTo>
                  <a:pt x="11782" y="10344"/>
                </a:moveTo>
                <a:cubicBezTo>
                  <a:pt x="11800" y="10450"/>
                  <a:pt x="11828" y="10561"/>
                  <a:pt x="11857" y="10666"/>
                </a:cubicBezTo>
                <a:cubicBezTo>
                  <a:pt x="11886" y="10770"/>
                  <a:pt x="11981" y="10806"/>
                  <a:pt x="12080" y="10740"/>
                </a:cubicBezTo>
                <a:cubicBezTo>
                  <a:pt x="12188" y="10668"/>
                  <a:pt x="12171" y="10620"/>
                  <a:pt x="12154" y="10517"/>
                </a:cubicBezTo>
                <a:cubicBezTo>
                  <a:pt x="12051" y="10517"/>
                  <a:pt x="11986" y="10553"/>
                  <a:pt x="11956" y="10666"/>
                </a:cubicBezTo>
                <a:cubicBezTo>
                  <a:pt x="11956" y="10749"/>
                  <a:pt x="11956" y="10765"/>
                  <a:pt x="11956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7240" y="3036960"/>
            <a:ext cx="330480" cy="125280"/>
          </a:xfrm>
          <a:custGeom>
            <a:avLst/>
            <a:gdLst/>
            <a:ahLst/>
            <a:rect l="l" t="t" r="r" b="b"/>
            <a:pathLst>
              <a:path w="919" h="348">
                <a:moveTo>
                  <a:pt x="11658" y="8781"/>
                </a:moveTo>
                <a:cubicBezTo>
                  <a:pt x="11676" y="8708"/>
                  <a:pt x="11742" y="8745"/>
                  <a:pt x="11782" y="8706"/>
                </a:cubicBezTo>
                <a:cubicBezTo>
                  <a:pt x="11782" y="8698"/>
                  <a:pt x="11782" y="8690"/>
                  <a:pt x="11782" y="8682"/>
                </a:cubicBezTo>
              </a:path>
              <a:path w="919" h="348">
                <a:moveTo>
                  <a:pt x="11857" y="8533"/>
                </a:moveTo>
                <a:cubicBezTo>
                  <a:pt x="11888" y="8548"/>
                  <a:pt x="11916" y="8601"/>
                  <a:pt x="11956" y="8607"/>
                </a:cubicBezTo>
                <a:cubicBezTo>
                  <a:pt x="12024" y="8607"/>
                  <a:pt x="12045" y="8613"/>
                  <a:pt x="12055" y="8558"/>
                </a:cubicBezTo>
              </a:path>
              <a:path w="919" h="348">
                <a:moveTo>
                  <a:pt x="12005" y="8434"/>
                </a:moveTo>
                <a:cubicBezTo>
                  <a:pt x="12036" y="8524"/>
                  <a:pt x="12094" y="8615"/>
                  <a:pt x="12129" y="8706"/>
                </a:cubicBezTo>
                <a:cubicBezTo>
                  <a:pt x="12129" y="8731"/>
                  <a:pt x="12129" y="8739"/>
                  <a:pt x="12129" y="8706"/>
                </a:cubicBezTo>
              </a:path>
              <a:path w="919" h="348">
                <a:moveTo>
                  <a:pt x="12477" y="8508"/>
                </a:moveTo>
                <a:cubicBezTo>
                  <a:pt x="12530" y="8508"/>
                  <a:pt x="12552" y="8507"/>
                  <a:pt x="12576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24240" y="2687760"/>
            <a:ext cx="187560" cy="27000"/>
          </a:xfrm>
          <a:custGeom>
            <a:avLst/>
            <a:gdLst/>
            <a:ahLst/>
            <a:rect l="l" t="t" r="r" b="b"/>
            <a:pathLst>
              <a:path w="522" h="76">
                <a:moveTo>
                  <a:pt x="11733" y="7541"/>
                </a:moveTo>
                <a:cubicBezTo>
                  <a:pt x="11801" y="7541"/>
                  <a:pt x="11863" y="7521"/>
                  <a:pt x="11931" y="7516"/>
                </a:cubicBezTo>
                <a:cubicBezTo>
                  <a:pt x="11939" y="7516"/>
                  <a:pt x="11948" y="7516"/>
                  <a:pt x="11956" y="7516"/>
                </a:cubicBezTo>
              </a:path>
              <a:path w="522" h="76">
                <a:moveTo>
                  <a:pt x="12055" y="7466"/>
                </a:moveTo>
                <a:cubicBezTo>
                  <a:pt x="12086" y="7487"/>
                  <a:pt x="12069" y="7538"/>
                  <a:pt x="12129" y="7541"/>
                </a:cubicBezTo>
                <a:cubicBezTo>
                  <a:pt x="12207" y="7541"/>
                  <a:pt x="12226" y="7556"/>
                  <a:pt x="12254" y="75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7240" y="2643120"/>
            <a:ext cx="509760" cy="1901880"/>
          </a:xfrm>
          <a:custGeom>
            <a:avLst/>
            <a:gdLst/>
            <a:ahLst/>
            <a:rect l="l" t="t" r="r" b="b"/>
            <a:pathLst>
              <a:path w="1415" h="5285">
                <a:moveTo>
                  <a:pt x="11807" y="7392"/>
                </a:moveTo>
                <a:lnTo>
                  <a:pt x="11807" y="7392"/>
                </a:lnTo>
              </a:path>
              <a:path w="1415" h="5285">
                <a:moveTo>
                  <a:pt x="11881" y="7764"/>
                </a:moveTo>
                <a:lnTo>
                  <a:pt x="11881" y="7764"/>
                </a:lnTo>
                <a:lnTo>
                  <a:pt x="11881" y="7764"/>
                </a:lnTo>
              </a:path>
              <a:path w="1415" h="5285">
                <a:moveTo>
                  <a:pt x="12204" y="7342"/>
                </a:moveTo>
                <a:cubicBezTo>
                  <a:pt x="12211" y="7469"/>
                  <a:pt x="12236" y="7589"/>
                  <a:pt x="12254" y="7714"/>
                </a:cubicBezTo>
              </a:path>
              <a:path w="1415" h="5285">
                <a:moveTo>
                  <a:pt x="11658" y="8558"/>
                </a:moveTo>
                <a:lnTo>
                  <a:pt x="11658" y="8558"/>
                </a:lnTo>
                <a:lnTo>
                  <a:pt x="11658" y="8558"/>
                </a:lnTo>
              </a:path>
              <a:path w="1415" h="5285">
                <a:moveTo>
                  <a:pt x="11658" y="8558"/>
                </a:moveTo>
                <a:lnTo>
                  <a:pt x="11658" y="8558"/>
                </a:lnTo>
              </a:path>
              <a:path w="1415" h="5285">
                <a:moveTo>
                  <a:pt x="11757" y="8880"/>
                </a:moveTo>
                <a:lnTo>
                  <a:pt x="11757" y="8880"/>
                </a:lnTo>
              </a:path>
              <a:path w="1415" h="5285">
                <a:moveTo>
                  <a:pt x="11956" y="12154"/>
                </a:moveTo>
                <a:lnTo>
                  <a:pt x="11956" y="12154"/>
                </a:lnTo>
              </a:path>
              <a:path w="1415" h="5285">
                <a:moveTo>
                  <a:pt x="12030" y="12601"/>
                </a:moveTo>
                <a:cubicBezTo>
                  <a:pt x="12030" y="12593"/>
                  <a:pt x="12030" y="12584"/>
                  <a:pt x="12030" y="12576"/>
                </a:cubicBezTo>
              </a:path>
              <a:path w="1415" h="5285">
                <a:moveTo>
                  <a:pt x="12576" y="11981"/>
                </a:moveTo>
                <a:cubicBezTo>
                  <a:pt x="12602" y="12198"/>
                  <a:pt x="12662" y="12404"/>
                  <a:pt x="12675" y="12626"/>
                </a:cubicBezTo>
              </a:path>
              <a:path w="1415" h="5285">
                <a:moveTo>
                  <a:pt x="12278" y="10443"/>
                </a:moveTo>
                <a:cubicBezTo>
                  <a:pt x="12278" y="10451"/>
                  <a:pt x="12278" y="10460"/>
                  <a:pt x="12278" y="10468"/>
                </a:cubicBezTo>
              </a:path>
              <a:path w="1415" h="5285">
                <a:moveTo>
                  <a:pt x="12278" y="10468"/>
                </a:moveTo>
                <a:lnTo>
                  <a:pt x="12278" y="10468"/>
                </a:lnTo>
              </a:path>
              <a:path w="1415" h="5285">
                <a:moveTo>
                  <a:pt x="12378" y="10790"/>
                </a:moveTo>
                <a:lnTo>
                  <a:pt x="12378" y="10790"/>
                </a:lnTo>
              </a:path>
              <a:path w="1415" h="5285">
                <a:moveTo>
                  <a:pt x="12998" y="10740"/>
                </a:moveTo>
                <a:cubicBezTo>
                  <a:pt x="13023" y="10732"/>
                  <a:pt x="13047" y="10724"/>
                  <a:pt x="13072" y="10716"/>
                </a:cubicBezTo>
              </a:path>
              <a:path w="1415" h="5285">
                <a:moveTo>
                  <a:pt x="13072" y="10716"/>
                </a:moveTo>
                <a:lnTo>
                  <a:pt x="13072" y="1071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27720" y="2724120"/>
            <a:ext cx="4428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12576" y="7565"/>
                </a:moveTo>
                <a:cubicBezTo>
                  <a:pt x="12617" y="7565"/>
                  <a:pt x="12659" y="7565"/>
                  <a:pt x="12700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45080" y="1571760"/>
            <a:ext cx="376200" cy="447480"/>
          </a:xfrm>
          <a:custGeom>
            <a:avLst/>
            <a:gdLst/>
            <a:ahLst/>
            <a:rect l="l" t="t" r="r" b="b"/>
            <a:pathLst>
              <a:path w="1043" h="1241">
                <a:moveTo>
                  <a:pt x="15875" y="4887"/>
                </a:moveTo>
                <a:cubicBezTo>
                  <a:pt x="15954" y="4860"/>
                  <a:pt x="16015" y="4806"/>
                  <a:pt x="16098" y="4787"/>
                </a:cubicBezTo>
                <a:cubicBezTo>
                  <a:pt x="16091" y="4872"/>
                  <a:pt x="16100" y="4973"/>
                  <a:pt x="16024" y="5011"/>
                </a:cubicBezTo>
                <a:cubicBezTo>
                  <a:pt x="16110" y="5011"/>
                  <a:pt x="16225" y="5033"/>
                  <a:pt x="16173" y="5159"/>
                </a:cubicBezTo>
                <a:cubicBezTo>
                  <a:pt x="16107" y="5318"/>
                  <a:pt x="15913" y="5244"/>
                  <a:pt x="15801" y="5209"/>
                </a:cubicBezTo>
              </a:path>
              <a:path w="1043" h="1241">
                <a:moveTo>
                  <a:pt x="15503" y="5507"/>
                </a:moveTo>
                <a:cubicBezTo>
                  <a:pt x="15769" y="5622"/>
                  <a:pt x="15940" y="5627"/>
                  <a:pt x="16197" y="5457"/>
                </a:cubicBezTo>
                <a:cubicBezTo>
                  <a:pt x="16439" y="5297"/>
                  <a:pt x="16519" y="5012"/>
                  <a:pt x="16421" y="4738"/>
                </a:cubicBezTo>
                <a:cubicBezTo>
                  <a:pt x="16335" y="4497"/>
                  <a:pt x="16071" y="4269"/>
                  <a:pt x="15801" y="4390"/>
                </a:cubicBezTo>
                <a:cubicBezTo>
                  <a:pt x="15502" y="4524"/>
                  <a:pt x="15251" y="5094"/>
                  <a:pt x="15478" y="5383"/>
                </a:cubicBezTo>
                <a:cubicBezTo>
                  <a:pt x="15544" y="5416"/>
                  <a:pt x="15611" y="5449"/>
                  <a:pt x="15677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96160" y="1866960"/>
            <a:ext cx="857160" cy="1312920"/>
          </a:xfrm>
          <a:custGeom>
            <a:avLst/>
            <a:gdLst/>
            <a:ahLst/>
            <a:rect l="l" t="t" r="r" b="b"/>
            <a:pathLst>
              <a:path w="2383" h="3647">
                <a:moveTo>
                  <a:pt x="24011" y="5209"/>
                </a:moveTo>
                <a:cubicBezTo>
                  <a:pt x="24011" y="5150"/>
                  <a:pt x="24018" y="5175"/>
                  <a:pt x="24036" y="5308"/>
                </a:cubicBezTo>
              </a:path>
              <a:path w="2383" h="3647">
                <a:moveTo>
                  <a:pt x="21654" y="8458"/>
                </a:moveTo>
                <a:cubicBezTo>
                  <a:pt x="21692" y="8422"/>
                  <a:pt x="21782" y="8396"/>
                  <a:pt x="21853" y="8384"/>
                </a:cubicBezTo>
                <a:cubicBezTo>
                  <a:pt x="21868" y="8458"/>
                  <a:pt x="21875" y="8617"/>
                  <a:pt x="21754" y="8632"/>
                </a:cubicBezTo>
                <a:cubicBezTo>
                  <a:pt x="21754" y="8624"/>
                  <a:pt x="21754" y="8615"/>
                  <a:pt x="21754" y="8607"/>
                </a:cubicBezTo>
                <a:cubicBezTo>
                  <a:pt x="21809" y="8598"/>
                  <a:pt x="21953" y="8549"/>
                  <a:pt x="21927" y="8682"/>
                </a:cubicBezTo>
                <a:cubicBezTo>
                  <a:pt x="21902" y="8806"/>
                  <a:pt x="21790" y="8818"/>
                  <a:pt x="21704" y="8806"/>
                </a:cubicBezTo>
                <a:cubicBezTo>
                  <a:pt x="21696" y="8806"/>
                  <a:pt x="21687" y="8806"/>
                  <a:pt x="21679" y="8806"/>
                </a:cubicBezTo>
              </a:path>
              <a:path w="2383" h="3647">
                <a:moveTo>
                  <a:pt x="22374" y="8334"/>
                </a:moveTo>
                <a:cubicBezTo>
                  <a:pt x="22296" y="8334"/>
                  <a:pt x="22247" y="8335"/>
                  <a:pt x="22175" y="8359"/>
                </a:cubicBezTo>
                <a:cubicBezTo>
                  <a:pt x="22175" y="8461"/>
                  <a:pt x="22225" y="8485"/>
                  <a:pt x="22299" y="8558"/>
                </a:cubicBezTo>
                <a:cubicBezTo>
                  <a:pt x="22362" y="8620"/>
                  <a:pt x="22380" y="8630"/>
                  <a:pt x="22399" y="8682"/>
                </a:cubicBezTo>
                <a:cubicBezTo>
                  <a:pt x="22330" y="8761"/>
                  <a:pt x="22215" y="8792"/>
                  <a:pt x="22151" y="8657"/>
                </a:cubicBezTo>
                <a:cubicBezTo>
                  <a:pt x="22096" y="8542"/>
                  <a:pt x="22274" y="8448"/>
                  <a:pt x="22324" y="8384"/>
                </a:cubicBezTo>
                <a:cubicBezTo>
                  <a:pt x="22324" y="8359"/>
                  <a:pt x="22324" y="8351"/>
                  <a:pt x="22349" y="8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31080" y="2286000"/>
            <a:ext cx="206280" cy="187200"/>
          </a:xfrm>
          <a:custGeom>
            <a:avLst/>
            <a:gdLst/>
            <a:ahLst/>
            <a:rect l="l" t="t" r="r" b="b"/>
            <a:pathLst>
              <a:path w="571" h="522">
                <a:moveTo>
                  <a:pt x="21754" y="6424"/>
                </a:moveTo>
                <a:cubicBezTo>
                  <a:pt x="21776" y="6557"/>
                  <a:pt x="21798" y="6684"/>
                  <a:pt x="21803" y="6821"/>
                </a:cubicBezTo>
                <a:cubicBezTo>
                  <a:pt x="21803" y="6846"/>
                  <a:pt x="21803" y="6854"/>
                  <a:pt x="21803" y="6871"/>
                </a:cubicBezTo>
              </a:path>
              <a:path w="571" h="522">
                <a:moveTo>
                  <a:pt x="22324" y="6350"/>
                </a:moveTo>
                <a:cubicBezTo>
                  <a:pt x="22245" y="6355"/>
                  <a:pt x="22121" y="6340"/>
                  <a:pt x="22101" y="6449"/>
                </a:cubicBezTo>
                <a:cubicBezTo>
                  <a:pt x="22076" y="6587"/>
                  <a:pt x="22238" y="6667"/>
                  <a:pt x="22324" y="6747"/>
                </a:cubicBezTo>
                <a:cubicBezTo>
                  <a:pt x="22272" y="6821"/>
                  <a:pt x="22106" y="6947"/>
                  <a:pt x="22101" y="6747"/>
                </a:cubicBezTo>
                <a:cubicBezTo>
                  <a:pt x="22098" y="6603"/>
                  <a:pt x="22175" y="6534"/>
                  <a:pt x="22225" y="6424"/>
                </a:cubicBezTo>
                <a:cubicBezTo>
                  <a:pt x="22225" y="6400"/>
                  <a:pt x="22225" y="6392"/>
                  <a:pt x="22225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43920" y="1455840"/>
            <a:ext cx="581040" cy="615960"/>
          </a:xfrm>
          <a:custGeom>
            <a:avLst/>
            <a:gdLst/>
            <a:ahLst/>
            <a:rect l="l" t="t" r="r" b="b"/>
            <a:pathLst>
              <a:path w="1613" h="1713">
                <a:moveTo>
                  <a:pt x="22969" y="4142"/>
                </a:moveTo>
                <a:cubicBezTo>
                  <a:pt x="23018" y="4301"/>
                  <a:pt x="23010" y="4400"/>
                  <a:pt x="22994" y="4564"/>
                </a:cubicBezTo>
                <a:cubicBezTo>
                  <a:pt x="22994" y="4581"/>
                  <a:pt x="22994" y="4597"/>
                  <a:pt x="22994" y="4614"/>
                </a:cubicBezTo>
              </a:path>
              <a:path w="1613" h="1713">
                <a:moveTo>
                  <a:pt x="22622" y="4118"/>
                </a:moveTo>
                <a:cubicBezTo>
                  <a:pt x="22748" y="4037"/>
                  <a:pt x="22940" y="3998"/>
                  <a:pt x="23093" y="4068"/>
                </a:cubicBezTo>
                <a:cubicBezTo>
                  <a:pt x="23235" y="4133"/>
                  <a:pt x="23258" y="4393"/>
                  <a:pt x="23192" y="4514"/>
                </a:cubicBezTo>
                <a:cubicBezTo>
                  <a:pt x="23117" y="4653"/>
                  <a:pt x="22954" y="4675"/>
                  <a:pt x="22820" y="4713"/>
                </a:cubicBezTo>
              </a:path>
              <a:path w="1613" h="1713">
                <a:moveTo>
                  <a:pt x="23292" y="4465"/>
                </a:moveTo>
                <a:cubicBezTo>
                  <a:pt x="23370" y="4433"/>
                  <a:pt x="23456" y="4398"/>
                  <a:pt x="23540" y="4390"/>
                </a:cubicBezTo>
                <a:cubicBezTo>
                  <a:pt x="23548" y="4390"/>
                  <a:pt x="23556" y="4390"/>
                  <a:pt x="23564" y="4390"/>
                </a:cubicBezTo>
                <a:cubicBezTo>
                  <a:pt x="23552" y="4329"/>
                  <a:pt x="23533" y="4262"/>
                  <a:pt x="23465" y="4242"/>
                </a:cubicBezTo>
                <a:cubicBezTo>
                  <a:pt x="23342" y="4206"/>
                  <a:pt x="23245" y="4392"/>
                  <a:pt x="23267" y="4490"/>
                </a:cubicBezTo>
                <a:cubicBezTo>
                  <a:pt x="23323" y="4743"/>
                  <a:pt x="23651" y="4562"/>
                  <a:pt x="23763" y="4514"/>
                </a:cubicBezTo>
              </a:path>
              <a:path w="1613" h="1713">
                <a:moveTo>
                  <a:pt x="23986" y="4192"/>
                </a:moveTo>
                <a:cubicBezTo>
                  <a:pt x="23933" y="4084"/>
                  <a:pt x="23830" y="4185"/>
                  <a:pt x="23788" y="4266"/>
                </a:cubicBezTo>
                <a:cubicBezTo>
                  <a:pt x="23691" y="4455"/>
                  <a:pt x="23923" y="4513"/>
                  <a:pt x="24061" y="4490"/>
                </a:cubicBezTo>
                <a:cubicBezTo>
                  <a:pt x="24069" y="4482"/>
                  <a:pt x="24077" y="4473"/>
                  <a:pt x="24085" y="4465"/>
                </a:cubicBezTo>
              </a:path>
              <a:path w="1613" h="1713">
                <a:moveTo>
                  <a:pt x="22845" y="5581"/>
                </a:moveTo>
                <a:cubicBezTo>
                  <a:pt x="22963" y="5581"/>
                  <a:pt x="23075" y="5561"/>
                  <a:pt x="23192" y="5556"/>
                </a:cubicBezTo>
                <a:cubicBezTo>
                  <a:pt x="23234" y="5556"/>
                  <a:pt x="23242" y="5556"/>
                  <a:pt x="23267" y="5556"/>
                </a:cubicBezTo>
              </a:path>
              <a:path w="1613" h="1713">
                <a:moveTo>
                  <a:pt x="23912" y="5507"/>
                </a:moveTo>
                <a:cubicBezTo>
                  <a:pt x="24007" y="5507"/>
                  <a:pt x="24093" y="5474"/>
                  <a:pt x="24185" y="5457"/>
                </a:cubicBezTo>
                <a:cubicBezTo>
                  <a:pt x="24209" y="5457"/>
                  <a:pt x="24218" y="5457"/>
                  <a:pt x="24234" y="5457"/>
                </a:cubicBezTo>
              </a:path>
              <a:path w="1613" h="1713">
                <a:moveTo>
                  <a:pt x="24085" y="5755"/>
                </a:moveTo>
                <a:cubicBezTo>
                  <a:pt x="24110" y="5755"/>
                  <a:pt x="24118" y="5755"/>
                  <a:pt x="24135" y="57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42080" y="2732040"/>
            <a:ext cx="347760" cy="768240"/>
          </a:xfrm>
          <a:custGeom>
            <a:avLst/>
            <a:gdLst/>
            <a:ahLst/>
            <a:rect l="l" t="t" r="r" b="b"/>
            <a:pathLst>
              <a:path w="968" h="2134">
                <a:moveTo>
                  <a:pt x="18728" y="7640"/>
                </a:moveTo>
                <a:cubicBezTo>
                  <a:pt x="18801" y="7617"/>
                  <a:pt x="18912" y="7556"/>
                  <a:pt x="18951" y="7615"/>
                </a:cubicBezTo>
              </a:path>
              <a:path w="968" h="2134">
                <a:moveTo>
                  <a:pt x="19472" y="9624"/>
                </a:moveTo>
                <a:cubicBezTo>
                  <a:pt x="19523" y="9597"/>
                  <a:pt x="19699" y="9489"/>
                  <a:pt x="19670" y="9575"/>
                </a:cubicBezTo>
              </a:path>
              <a:path w="968" h="2134">
                <a:moveTo>
                  <a:pt x="19472" y="9723"/>
                </a:moveTo>
                <a:cubicBezTo>
                  <a:pt x="19552" y="9715"/>
                  <a:pt x="19636" y="9719"/>
                  <a:pt x="19670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24800" y="2295360"/>
            <a:ext cx="365040" cy="150840"/>
          </a:xfrm>
          <a:custGeom>
            <a:avLst/>
            <a:gdLst/>
            <a:ahLst/>
            <a:rect l="l" t="t" r="r" b="b"/>
            <a:pathLst>
              <a:path w="1018" h="422">
                <a:moveTo>
                  <a:pt x="18678" y="6598"/>
                </a:moveTo>
                <a:cubicBezTo>
                  <a:pt x="18735" y="6598"/>
                  <a:pt x="18774" y="6584"/>
                  <a:pt x="18827" y="6573"/>
                </a:cubicBezTo>
              </a:path>
              <a:path w="1018" h="422">
                <a:moveTo>
                  <a:pt x="19224" y="6449"/>
                </a:moveTo>
                <a:cubicBezTo>
                  <a:pt x="19172" y="6380"/>
                  <a:pt x="19098" y="6366"/>
                  <a:pt x="19025" y="6424"/>
                </a:cubicBezTo>
                <a:cubicBezTo>
                  <a:pt x="18924" y="6504"/>
                  <a:pt x="19005" y="6655"/>
                  <a:pt x="19124" y="6598"/>
                </a:cubicBezTo>
                <a:cubicBezTo>
                  <a:pt x="19152" y="6585"/>
                  <a:pt x="19216" y="6481"/>
                  <a:pt x="19224" y="6449"/>
                </a:cubicBezTo>
                <a:cubicBezTo>
                  <a:pt x="19224" y="6565"/>
                  <a:pt x="19224" y="6680"/>
                  <a:pt x="19224" y="6796"/>
                </a:cubicBezTo>
              </a:path>
              <a:path w="1018" h="422">
                <a:moveTo>
                  <a:pt x="19397" y="6548"/>
                </a:moveTo>
                <a:cubicBezTo>
                  <a:pt x="19466" y="6548"/>
                  <a:pt x="19526" y="6528"/>
                  <a:pt x="19596" y="6524"/>
                </a:cubicBezTo>
                <a:cubicBezTo>
                  <a:pt x="19604" y="6524"/>
                  <a:pt x="19613" y="6524"/>
                  <a:pt x="19621" y="6524"/>
                </a:cubicBezTo>
              </a:path>
              <a:path w="1018" h="422">
                <a:moveTo>
                  <a:pt x="19397" y="6672"/>
                </a:moveTo>
                <a:cubicBezTo>
                  <a:pt x="19498" y="6666"/>
                  <a:pt x="19593" y="6648"/>
                  <a:pt x="19695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2280" y="2643120"/>
            <a:ext cx="277920" cy="19692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19348" y="7491"/>
                </a:moveTo>
                <a:cubicBezTo>
                  <a:pt x="19358" y="7461"/>
                  <a:pt x="19395" y="7448"/>
                  <a:pt x="19372" y="7392"/>
                </a:cubicBezTo>
                <a:cubicBezTo>
                  <a:pt x="19348" y="7333"/>
                  <a:pt x="19268" y="7323"/>
                  <a:pt x="19224" y="7367"/>
                </a:cubicBezTo>
                <a:cubicBezTo>
                  <a:pt x="19139" y="7452"/>
                  <a:pt x="19153" y="7546"/>
                  <a:pt x="19273" y="7565"/>
                </a:cubicBezTo>
                <a:cubicBezTo>
                  <a:pt x="19384" y="7582"/>
                  <a:pt x="19410" y="7490"/>
                  <a:pt x="19472" y="7417"/>
                </a:cubicBezTo>
                <a:cubicBezTo>
                  <a:pt x="19434" y="7517"/>
                  <a:pt x="19447" y="7647"/>
                  <a:pt x="19447" y="7764"/>
                </a:cubicBezTo>
              </a:path>
              <a:path w="770" h="547">
                <a:moveTo>
                  <a:pt x="19745" y="7764"/>
                </a:moveTo>
                <a:cubicBezTo>
                  <a:pt x="19769" y="7728"/>
                  <a:pt x="19854" y="7719"/>
                  <a:pt x="19918" y="7714"/>
                </a:cubicBezTo>
                <a:cubicBezTo>
                  <a:pt x="19926" y="7714"/>
                  <a:pt x="19935" y="7714"/>
                  <a:pt x="19943" y="7714"/>
                </a:cubicBezTo>
              </a:path>
              <a:path w="770" h="547">
                <a:moveTo>
                  <a:pt x="19769" y="7863"/>
                </a:moveTo>
                <a:cubicBezTo>
                  <a:pt x="19829" y="7872"/>
                  <a:pt x="19908" y="7857"/>
                  <a:pt x="19918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4800" y="3009960"/>
            <a:ext cx="446040" cy="187200"/>
          </a:xfrm>
          <a:custGeom>
            <a:avLst/>
            <a:gdLst/>
            <a:ahLst/>
            <a:rect l="l" t="t" r="r" b="b"/>
            <a:pathLst>
              <a:path w="1241" h="522">
                <a:moveTo>
                  <a:pt x="18678" y="8632"/>
                </a:moveTo>
                <a:cubicBezTo>
                  <a:pt x="18729" y="8593"/>
                  <a:pt x="18810" y="8575"/>
                  <a:pt x="18876" y="8558"/>
                </a:cubicBezTo>
                <a:cubicBezTo>
                  <a:pt x="18884" y="8558"/>
                  <a:pt x="18893" y="8558"/>
                  <a:pt x="18901" y="8558"/>
                </a:cubicBezTo>
              </a:path>
              <a:path w="1241" h="522">
                <a:moveTo>
                  <a:pt x="19372" y="8409"/>
                </a:moveTo>
                <a:cubicBezTo>
                  <a:pt x="19344" y="8351"/>
                  <a:pt x="19282" y="8335"/>
                  <a:pt x="19224" y="8384"/>
                </a:cubicBezTo>
                <a:cubicBezTo>
                  <a:pt x="19129" y="8465"/>
                  <a:pt x="19133" y="8517"/>
                  <a:pt x="19124" y="8632"/>
                </a:cubicBezTo>
                <a:cubicBezTo>
                  <a:pt x="19227" y="8655"/>
                  <a:pt x="19313" y="8638"/>
                  <a:pt x="19372" y="8533"/>
                </a:cubicBezTo>
                <a:cubicBezTo>
                  <a:pt x="19380" y="8508"/>
                  <a:pt x="19389" y="8483"/>
                  <a:pt x="19397" y="8458"/>
                </a:cubicBezTo>
                <a:cubicBezTo>
                  <a:pt x="19397" y="8599"/>
                  <a:pt x="19397" y="8739"/>
                  <a:pt x="19397" y="8880"/>
                </a:cubicBezTo>
              </a:path>
              <a:path w="1241" h="522">
                <a:moveTo>
                  <a:pt x="19720" y="8558"/>
                </a:moveTo>
                <a:cubicBezTo>
                  <a:pt x="19720" y="8550"/>
                  <a:pt x="19720" y="8541"/>
                  <a:pt x="19720" y="8533"/>
                </a:cubicBezTo>
                <a:cubicBezTo>
                  <a:pt x="19768" y="8533"/>
                  <a:pt x="19875" y="8480"/>
                  <a:pt x="19893" y="8483"/>
                </a:cubicBezTo>
                <a:cubicBezTo>
                  <a:pt x="19893" y="8491"/>
                  <a:pt x="19893" y="8500"/>
                  <a:pt x="19893" y="8508"/>
                </a:cubicBezTo>
              </a:path>
              <a:path w="1241" h="522">
                <a:moveTo>
                  <a:pt x="19695" y="8706"/>
                </a:moveTo>
                <a:cubicBezTo>
                  <a:pt x="19769" y="8706"/>
                  <a:pt x="19844" y="8706"/>
                  <a:pt x="19918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7800" y="3394080"/>
            <a:ext cx="214200" cy="133200"/>
          </a:xfrm>
          <a:custGeom>
            <a:avLst/>
            <a:gdLst/>
            <a:ahLst/>
            <a:rect l="l" t="t" r="r" b="b"/>
            <a:pathLst>
              <a:path w="596" h="373">
                <a:moveTo>
                  <a:pt x="18604" y="9699"/>
                </a:moveTo>
                <a:cubicBezTo>
                  <a:pt x="18673" y="9664"/>
                  <a:pt x="18768" y="9657"/>
                  <a:pt x="18852" y="9649"/>
                </a:cubicBezTo>
              </a:path>
              <a:path w="596" h="373">
                <a:moveTo>
                  <a:pt x="19149" y="9525"/>
                </a:moveTo>
                <a:cubicBezTo>
                  <a:pt x="19171" y="9475"/>
                  <a:pt x="19174" y="9474"/>
                  <a:pt x="19174" y="9426"/>
                </a:cubicBezTo>
                <a:cubicBezTo>
                  <a:pt x="19017" y="9426"/>
                  <a:pt x="19008" y="9457"/>
                  <a:pt x="18951" y="9599"/>
                </a:cubicBezTo>
                <a:cubicBezTo>
                  <a:pt x="19059" y="9646"/>
                  <a:pt x="19124" y="9618"/>
                  <a:pt x="19174" y="9500"/>
                </a:cubicBezTo>
                <a:cubicBezTo>
                  <a:pt x="19174" y="9492"/>
                  <a:pt x="19174" y="9483"/>
                  <a:pt x="19174" y="9475"/>
                </a:cubicBezTo>
                <a:cubicBezTo>
                  <a:pt x="19210" y="9570"/>
                  <a:pt x="19199" y="9688"/>
                  <a:pt x="19199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8200" y="4249800"/>
            <a:ext cx="376200" cy="287280"/>
          </a:xfrm>
          <a:custGeom>
            <a:avLst/>
            <a:gdLst/>
            <a:ahLst/>
            <a:rect l="l" t="t" r="r" b="b"/>
            <a:pathLst>
              <a:path w="1043" h="795">
                <a:moveTo>
                  <a:pt x="19496" y="12129"/>
                </a:moveTo>
                <a:cubicBezTo>
                  <a:pt x="19621" y="12147"/>
                  <a:pt x="19773" y="12125"/>
                  <a:pt x="19893" y="12154"/>
                </a:cubicBezTo>
                <a:cubicBezTo>
                  <a:pt x="19893" y="12162"/>
                  <a:pt x="19893" y="12171"/>
                  <a:pt x="19893" y="12179"/>
                </a:cubicBezTo>
              </a:path>
              <a:path w="1043" h="795">
                <a:moveTo>
                  <a:pt x="20464" y="12129"/>
                </a:moveTo>
                <a:cubicBezTo>
                  <a:pt x="20523" y="12115"/>
                  <a:pt x="20561" y="12049"/>
                  <a:pt x="20538" y="11981"/>
                </a:cubicBezTo>
                <a:cubicBezTo>
                  <a:pt x="20499" y="11866"/>
                  <a:pt x="20371" y="11757"/>
                  <a:pt x="20241" y="11807"/>
                </a:cubicBezTo>
                <a:cubicBezTo>
                  <a:pt x="20101" y="11861"/>
                  <a:pt x="20089" y="11961"/>
                  <a:pt x="20067" y="12080"/>
                </a:cubicBezTo>
                <a:cubicBezTo>
                  <a:pt x="20227" y="12159"/>
                  <a:pt x="20319" y="12185"/>
                  <a:pt x="20439" y="12030"/>
                </a:cubicBezTo>
                <a:cubicBezTo>
                  <a:pt x="20468" y="11992"/>
                  <a:pt x="20464" y="11972"/>
                  <a:pt x="20464" y="11931"/>
                </a:cubicBezTo>
                <a:cubicBezTo>
                  <a:pt x="20464" y="12154"/>
                  <a:pt x="20464" y="12378"/>
                  <a:pt x="20464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My Rule? Work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ck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2:31:50Z</dcterms:created>
  <dc:creator>Brian McGrath</dc:creator>
  <dc:description/>
  <dc:language>en-US</dc:language>
  <cp:lastModifiedBy>deanne mcgrath</cp:lastModifiedBy>
  <cp:lastPrinted>2010-09-12T22:48:06Z</cp:lastPrinted>
  <dcterms:modified xsi:type="dcterms:W3CDTF">2011-09-13T20:03:14Z</dcterms:modified>
  <cp:revision>5</cp:revision>
  <dc:subject/>
  <dc:title>PowerPoint Presentation</dc:title>
</cp:coreProperties>
</file>